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98D-438F-4502-95E0-58653FF7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84B-8F9F-4830-AA28-9F8E890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263-EFD5-4CA9-A445-6E1C197A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CC9-3675-4090-A217-9B099841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1DF-AB47-4C33-BBB8-6101D14D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47B-46AB-47DD-B889-3B856ED4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0D5-CC8F-4C9A-8080-DBC77ED9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1D6-1570-45EA-BBAD-A07C2316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034-0630-46D5-BDBA-2409AB6C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B0C-8208-460D-A497-1B0219D2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0EE-8D29-45FE-87E0-CA6657B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9CE-EB62-415C-B59F-3725E3F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1FB-B800-417C-9447-4A1CC7146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ick Sold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mo Slideshow by Ace2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many built in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own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5320" y="228600"/>
            <a:ext cx="213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fu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8120" y="6094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dvancing in S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120" y="83772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own mods (modif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a crazy lunatic fa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438280" y="2209680"/>
          <a:ext cx="42386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09680"/>
                    <a:ext cx="42386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e sure to Download!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12:48:07Z</dcterms:created>
  <dc:creator>Matt Soldan</dc:creator>
  <dc:description/>
  <dc:language>en-US</dc:language>
  <cp:lastModifiedBy>Matt Soldan</cp:lastModifiedBy>
  <dcterms:modified xsi:type="dcterms:W3CDTF">2002-05-23T13:10:32Z</dcterms:modified>
  <cp:revision>1</cp:revision>
  <dc:subject/>
  <dc:title>Stick Soldiers</dc:title>
</cp:coreProperties>
</file>