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A28-CAB0-4C7A-8E5E-1E98B355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297-0E28-47D7-B537-56626CCD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5FB-E3D3-4515-A4BB-B3309F78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13E-5A37-4EA9-88B6-2E3A3F82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F869-D26E-4758-9E59-38B267C8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4CA3-BC80-42FF-A1CB-8E279A7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9908-5434-4661-BE68-40C4096A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65EB-AB33-4866-ADC9-99E3FBF8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B052-0034-45FE-8B8A-BF28614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F91-84BB-48F4-892E-994B46C2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834F-E68A-4A6F-BA3A-ED4168A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2DD-E836-4C8C-92F6-93B21680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9AE8-8281-4DE0-AC72-6F95A52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59F0-FFCE-4CFE-9459-FB38EB8C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FFB8-9904-4672-9D54-A2BBFAE3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A3A7-F70E-4004-B1D6-F047740A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329D-3343-403A-A8F8-4DBB4C04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21B-22F5-4BF3-A558-A2F5833C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29B-5823-417A-B394-60889CD9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CCD-DBE7-4C30-A3D6-56B3C912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F54-2388-4263-A43D-C8C10674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D82-B9BD-4DAC-AD00-A5EA5C9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D28-96C4-4154-941D-D913A29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0BA-BFD3-41D5-B05E-79684FE9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35CA-8A75-4F65-ACC0-598C2446524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A613-48BE-4DE7-96ED-ED4EC014F13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medstudents.com.br/proced/cricotir.htm" TargetMode="External"/><Relationship Id="rId2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PCR 200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PARTMENT OF ANAESTHESIOLO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D CRITICAL CARE –KI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ANGALOR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533520"/>
            <a:ext cx="8610480" cy="662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695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NTINUING MEDICAL EDUCATION PROGRAMM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1600200"/>
            <a:ext cx="91440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C. Ventilate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a. Mouth-to-mask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b. Bag-mask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4. Circulation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5. Dysrhythmia recognition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6. Electrical therapy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a. Defibrillation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b. Synchronized cardiovertion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c. Transcutaneous pacing 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7. Peripheral IV line access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8. Pharmacology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2057400" y="-6094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ont.,</a:t>
            </a:r>
            <a:endParaRPr b="1" lang="en-US" sz="33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90560" y="59432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l for help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58920" y="304920"/>
            <a:ext cx="5156280" cy="556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790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ition the victim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25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5393880"/>
            <a:ext cx="8839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ing the airway. Top: Airway obstruction produced by the tongue and the epiglottis. Bottom: Relief by head-tilt/chin-lift.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095880" cy="518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4800600"/>
            <a:ext cx="8991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d-tilt/chin-lift maneuver. Perpendicular line reflects proper neck extension, i.e., a line along the edge of the jaw bone should be perpendicular to the surface on which the victim is lying.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257800" cy="4621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14720" y="5714280"/>
            <a:ext cx="50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w-thrust maneuver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371600" y="690480"/>
            <a:ext cx="6705720" cy="47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5640" y="5927040"/>
            <a:ext cx="782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th-to-mouth rescue breathing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64048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33600" y="601920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th-to-nose breathing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791320" cy="5024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51520" y="5927040"/>
            <a:ext cx="610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ng the carotid pulse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943600" cy="563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47920" y="5333400"/>
            <a:ext cx="692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chest compressions: locating the rib margin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463680"/>
            <a:ext cx="6476760" cy="464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Verdana"/>
              </a:rPr>
              <a:t>Cardiopulmonary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Verdana"/>
              </a:rPr>
              <a:t> &amp; 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Verdana"/>
              </a:rPr>
              <a:t>Cerebral Resuscitation </a:t>
            </a:r>
            <a:br>
              <a:rPr sz="5300"/>
            </a:b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53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563796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hest compressions: locating the notch where the rib margin meets the sternu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95280" y="461880"/>
            <a:ext cx="6553440" cy="4967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4739040"/>
            <a:ext cx="848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hest compressions: locating the correct hand position on the lower half of the sternu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172200" cy="4343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5012640"/>
            <a:ext cx="761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 positions for external chest compressions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43000" y="209520"/>
            <a:ext cx="6705720" cy="5114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2120" y="4707360"/>
            <a:ext cx="80769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oper position of rescuer: shoulders directly over victim's sternum; elbows locked.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24536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441756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est compressions: sternum compressed to a depth of 1 1/2 - 2 inches. Compression-relaxation duration must be 50:50 for better flow to occur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4563000"/>
            <a:ext cx="9144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ne-rescuer adult CPR. Fifteen compressions are alternated with two ventilations.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324480" cy="4647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5013360"/>
            <a:ext cx="853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rescuer CPR: Pause after the 5th external chest compression as ventilator gives a rescue breath.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5458320"/>
            <a:ext cx="72388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iversal distress signal for foreign body airway obstruction.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76640" y="533520"/>
            <a:ext cx="4962240" cy="479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5164920"/>
            <a:ext cx="8458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b diaphragmatic abdominal thrust (the Heimlich maneuver) administered to a conscious (standing) victim of foreign body airway obstruction.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5409360"/>
            <a:ext cx="8686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b diaphragmatic abdominal thrust (the Heimlich maneuver) administered to an unconscious (lying) victim of foreign body airway obstruction - astride position.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ardiac  Arrest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cessation of Electrical and Mechanical activity of the hear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cessation of Circulation to vital organs leading to cell death. (Circulatory Arres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320" y="4723200"/>
            <a:ext cx="10163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nger sweep maneuver administered to an unconscious victim of foreign body airway obstruction.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095880" cy="471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5240880"/>
            <a:ext cx="83822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ed-finger technique for opening the airway.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85800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8600" y="533376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st thrust administered to a conscious victim (standing) of foreign body airway obstruction.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5029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577476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st thrust administered to an unconscious victim (lying) of foreign body airway obstruction.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5698080"/>
            <a:ext cx="80038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scue breathing with an airtight seal around the mouth and nose.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705360" cy="501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" y="6171120"/>
            <a:ext cx="845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ing and palpating the brachial pulse.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477120" cy="5137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56221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ng finger position for chest compressions in an infant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5545800"/>
            <a:ext cx="8458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ing hand position for chest compressions in a child.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90720" y="54396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imlich maneuver - conscious child standing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286000" y="390600"/>
            <a:ext cx="3809880" cy="509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3520" y="5698080"/>
            <a:ext cx="8001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eimlich maneuver - conscious or unconscious child, lying.</a:t>
            </a:r>
            <a:endParaRPr b="0" lang="en-US" sz="3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553080" cy="518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s Of CPR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19360" y="18288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cerebral perfus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oration of cardiopulmonary fun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urn of base line neurological fun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5840" y="1905120"/>
            <a:ext cx="405900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93360" y="6231960"/>
            <a:ext cx="52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blow in an infant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77680" y="6231960"/>
            <a:ext cx="568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t thrust in an infant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172200" cy="4647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280" y="4876200"/>
            <a:ext cx="8686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 position for chest encirclement technique for external chest compressions in neonates. Thumbs are side-by-side over the midsternum. In the newborn, thumbs may need to be superimposed.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7200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Verdana"/>
              </a:rPr>
              <a:t>Search for caus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ypox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ypotherm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ypo/Hyperkalem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ypoglycem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ypovolem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ydrogen ion (acidosi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uma (ICP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xi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mponad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nsionpneumothorax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ombosis (MI, P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3300"/>
                </a:solidFill>
                <a:latin typeface="Verdana"/>
              </a:rPr>
              <a:t>Ten ACLS Cas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iratory arre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adycard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ysto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ute Ischemic Stro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ute coronary syndro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F/ Pulseless V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ble Tachycard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stable Tachycard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less Electrical Activity (PEA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ed External Defibrill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305920" cy="655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259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t.,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tocol For CPR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Life Suppor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anced Life Suppor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longed (Cerebral) Life Suppor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0195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Verdana"/>
              </a:rPr>
              <a:t>Drug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.V.Pus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pinephrine*- 1mg – 3-5mi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ropine* 0.6-1mg-3-5mi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sopressine 40uni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iodarone 300mg-3-5mi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docaine* 1-3mg/kg 5-10mi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ainamide 20-50mg/min Total-17mg/k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gnesium Sulfate 1-2gm diluted over 10mi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dium Bicarbonate 1mEq/k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enosine 6mg over 1-3sec repeate 12mg after 2mi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usio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docaine 2-4mg/m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ainamide 1-4mg/m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pamine 5-10mcq/kg/m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nephrine 2-10mcq/kg/m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iodarone 1mg/m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  Drugs which can be given through ETT after diluting with 10ml sali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Verdana"/>
              </a:rPr>
              <a:t>Orotracheal Intubation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ther Indicatio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adequate oxygenation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adequate ventilation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to control and remove pulmonary secretions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to provide airway protection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traindications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re airway trauma or obstruction that does not permit safe passage of an endotracheal tube. Emergency</a:t>
            </a:r>
            <a:r>
              <a:rPr b="0" lang="en-US" sz="2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 cricothyrotomy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is indicated in such cases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rvical spine injury, in which the need for complete immobilization of the cervical spine makes endotracheal intubation difficult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Verdana"/>
              </a:rPr>
              <a:t>Equipment Required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refilling bag-valve combination (eg, Ambu bag) or bag-valve unit (Ayres bag), connector, tubing, and oxygen source.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yngoscope with curved (Macintosh type) and straight (Miller type) blades of a size appropriate for the patient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otracheal tubes of several different sizes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al airways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er (stylets or Magill forceps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 apparatus (tonsil tip and catheter suction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ringe, 10-mL, to inflate the cuff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v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90720" y="615528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A shows the wrong and letter B shows the correct position of patient's head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93600" y="1737720"/>
            <a:ext cx="382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9800" spc="-1" strike="noStrike">
                <a:solidFill>
                  <a:srgbClr val="0066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                                            </a:t>
            </a: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14400" y="6003360"/>
            <a:ext cx="739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gure 2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que of direct laryngoscopy and orotracheal intubation. 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96240" y="1599840"/>
            <a:ext cx="3951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1600" spc="-1" strike="noStrike">
                <a:solidFill>
                  <a:srgbClr val="0066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                                             </a:t>
            </a: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38080" y="6003360"/>
            <a:ext cx="754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gure 3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rved blade placement in orotracheal intubation. 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66880" y="2281680"/>
            <a:ext cx="3781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2900" spc="-1" strike="noStrike">
                <a:solidFill>
                  <a:srgbClr val="0066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                                               </a:t>
            </a: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sic Life Suppor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irw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eath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ircul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38080" y="6019200"/>
            <a:ext cx="8001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gure 4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aight blade placement in orotracheal intubation 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2388960"/>
            <a:ext cx="368640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2300" spc="-1" strike="noStrike">
                <a:solidFill>
                  <a:srgbClr val="0066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                                            </a:t>
            </a: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464832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066680" y="5714280"/>
            <a:ext cx="876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gure 5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View of glottis and vocal cords in direct laryngoscopy. </a:t>
            </a: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14160" y="2195280"/>
            <a:ext cx="43171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3800" spc="-1" strike="noStrike">
                <a:solidFill>
                  <a:srgbClr val="0066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                                                       </a:t>
            </a: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25780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5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-1189440"/>
            <a:ext cx="824400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200400" y="3808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UCR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2819520"/>
            <a:ext cx="219060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TOREC EZ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TOREC-ASP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SAR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sar H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sar AM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sar-ATN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2209680"/>
            <a:ext cx="1257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MOH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791320" y="2057400"/>
            <a:ext cx="220032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mlo D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mlo-AT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-Numlo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TPURE-XL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TPURE H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867280" y="4343400"/>
            <a:ext cx="21430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SIT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SIT Plus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ABA HOSIT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CARNIT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09680" y="1295280"/>
            <a:ext cx="45342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 Whole Hearted Approach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vanced Cardiac Life Suppor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s and Flui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cardiograph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brillation Treat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longed (Cerebral) Life Suppor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 Resuscitation Brain Orientation Therap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sic  Life Suppor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15364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Consciousness (Shake &amp; Shout) 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Call for help 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Airway /Breathing       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. Provide oxygen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. Nasal cannula 2-6 liters/minut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 100% non-rebreather mask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Open the airway/keep it open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. Head-tilt /chin-lift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 Jaw thrust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. Oral airwa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. Nasal airwa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 Suction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. Endotracheal intubation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. Alternative devices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MA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tube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le cricothyrotom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066680"/>
            <a:ext cx="152280" cy="381240"/>
          </a:xfrm>
          <a:prstGeom prst="downArrow">
            <a:avLst>
              <a:gd name="adj1" fmla="val 50000"/>
              <a:gd name="adj2" fmla="val 6258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3:47:34Z</dcterms:created>
  <dc:creator>compaq</dc:creator>
  <dc:description/>
  <dc:language>en-US</dc:language>
  <cp:lastModifiedBy>compaq</cp:lastModifiedBy>
  <dcterms:modified xsi:type="dcterms:W3CDTF">2006-09-17T01:41:53Z</dcterms:modified>
  <cp:revision>156</cp:revision>
  <dc:subject/>
  <dc:title>Cardiopulmonary Resuscitation  and Advanced Cardiac Life Sup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