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D839-7A0C-453D-B607-A615BA23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767-310F-4E63-B643-B117D748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3B72-A1D3-437F-9741-10458F916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569A-606F-453A-B4FE-02648150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30F2-186B-4C98-A8C8-91802145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C8BF-E8C9-464B-B827-D30D0868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FFF9-9AC7-4443-A967-D752224A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D978-CF02-4587-ACE7-B24EDCFA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4DE2-7610-4F40-B6D9-29599856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31E-418D-46E7-AD6F-6940E9AF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728-0AE8-400C-8B4E-5634CAE1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D312-E6C8-46C4-9F67-0FEDDE72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F6B4-1FB6-446A-A0F1-5EFA89472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OXICACIÓN POR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                YOHIMB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4000" y="5013000"/>
            <a:ext cx="4895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UDIA HERRERA HENRÍQ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NDRA QUEZADA GONZÁL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The image “file:///C:/Documents%20and%20Settings/user/Escritorio/ucatolica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684360" y="260280"/>
            <a:ext cx="139068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11280" y="620640"/>
            <a:ext cx="48974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NTIFICIA UNIVERSIDAD CATÓLICA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CULTAD DE QUÍ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ARTAMENTO DE FARMA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uficiencia r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pertensión sistó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érdida función mus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értigo, náuseas, escalofrí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granulocitosis, asociada al u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longado de yohimbina (5 añ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oxicidad Cró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oyo cardiaco y respir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nitorización de niveles tóx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tomá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arbón activ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ratamiento de la intox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ara tratar la intoxicación o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esis: Controver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vado gás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ntídoto: Clonid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ltan estudios clínicos que avalen 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la Clonidina como antídoto de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Yohimb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o Clínico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58640" y="1600200"/>
          <a:ext cx="8434440" cy="4849920"/>
        </p:xfrm>
        <a:graphic>
          <a:graphicData uri="http://schemas.openxmlformats.org/drawingml/2006/table">
            <a:tbl>
              <a:tblPr/>
              <a:tblGrid>
                <a:gridCol w="8434440"/>
              </a:tblGrid>
              <a:tr h="41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 del paciente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ad: 16 añ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o : Femeni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o de uso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odisía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s que ingirió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m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íntomas y Sign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ilidad 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r de cabeza y nau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quicardia y taquiap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itaciones y dolor de p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h cután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érdida de la audición en el oído der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ués de 18 hrs presentó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tensión ar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l pulso y de la respi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ción de la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i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rragia en el tímpano der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tami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síntomas y signos desaparecieron después de 36 hrs de rep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cesitó tratamiento farmacológ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so Clínico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458640" y="1600200"/>
          <a:ext cx="8434440" cy="4849920"/>
        </p:xfrm>
        <a:graphic>
          <a:graphicData uri="http://schemas.openxmlformats.org/drawingml/2006/table">
            <a:tbl>
              <a:tblPr/>
              <a:tblGrid>
                <a:gridCol w="8434440"/>
              </a:tblGrid>
              <a:tr h="41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 del paciente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ad: 6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o : Masculin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o de uso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tencia sexu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s que ingirió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íntomas y Sign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qui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pertensión ar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Tratami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síntomas y signos desaparecieron con rep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ólo se trató la ansiedad con una BZ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Yohimbina ha sido ampliamente utilizada en el tratamiento de la impotencia sex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 uso de esta sustancia ha demostrado eficacia en el 34 al 43 % de los ca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 uso está restringido a terapias de corta duración (10 semanas), por los serios efectos adversos que puede caus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Yohimb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aloide con a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agonista </a:t>
            </a:r>
            <a:r>
              <a:rPr b="0" lang="en-US" sz="3600" spc="-1" strike="noStrike">
                <a:solidFill>
                  <a:srgbClr val="000000"/>
                </a:solidFill>
                <a:latin typeface="GraecaII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renérg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encont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árbol Yohim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crece en 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este Afric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88000" y="177336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experiencia clínica ha demostrado que el tratamiento de la intoxicación por este fármaco es sólo sintomá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isten estudios clínicos que avalen el uso del antídoto Clonidina para tratar la intoxicación por Yohimb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539640" y="1700280"/>
          <a:ext cx="8136000" cy="470988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381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xicologic Emergencies. 1998, Pág. 5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al Toxicology: Diagnosis and Treatment of Human Poisoning. 1988, Pág. 1291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overlakehospital.org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ttp://www.inchem.org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47640" y="2781360"/>
            <a:ext cx="64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rmacoci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5373720"/>
            <a:ext cx="8002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áximo efecto farmacológico se logra entre 1 a 2 h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ués de su ingest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684360" y="1600200"/>
          <a:ext cx="7848000" cy="3517920"/>
        </p:xfrm>
        <a:graphic>
          <a:graphicData uri="http://schemas.openxmlformats.org/drawingml/2006/table">
            <a:tbl>
              <a:tblPr/>
              <a:tblGrid>
                <a:gridCol w="3743640"/>
                <a:gridCol w="4104360"/>
              </a:tblGrid>
              <a:tr h="570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ohimb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or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máx: 45 a 60 m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D Oral: 9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boli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pátic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metabolitos 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imin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nal: 9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 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/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36 mi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os terapéu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008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función eréct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se ha usado para clasifi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as disfunciones eréctiles en el hombre y así poder diagnosticar la caus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rcas Registradas en C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c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: comprimidos de 5 mg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envases que contienen 30 comprim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ustu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®: comprimidos de 5 mg en envases que contienen 30 comprim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s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013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is usual en adultos es de 5 mg / 8 h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aparece algún efecto secundario se debe bajar la dosis a 2,5 mg / 8 h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aconseja mantener la terapia 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á de 10 seman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19280" y="4581360"/>
            <a:ext cx="576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4728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sis Tóx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218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is de 20 a 30 mg de Yohimbina al día, ya se consideran tóxicas.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oxicidad Agu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ía O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resión respir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presión S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aquicar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íntomas gastrointesti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ipertensión sistó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sh eritemato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ía Inhalatoria (Fumad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 consumo por vía inhalatoria prov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incipalmente alucinaciones y ans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ía Parenter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íntomas y signos presentes en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oxicación vía o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The image “file:///C:/Documents%20and%20Settings/user/Escritorio/ucatolica.gif” cannot be displayed, because it contains errors.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1390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18:39:35Z</dcterms:created>
  <dc:creator>usuario</dc:creator>
  <dc:description/>
  <dc:language>en-US</dc:language>
  <cp:lastModifiedBy>usuario</cp:lastModifiedBy>
  <dcterms:modified xsi:type="dcterms:W3CDTF">2005-11-23T23:58:10Z</dcterms:modified>
  <cp:revision>60</cp:revision>
  <dc:subject/>
  <dc:title>“WARFARINA v/s XIMELAGATRÁN”</dc:title>
</cp:coreProperties>
</file>