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893A3-03AC-4E49-B81E-8B4F159CB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A7DF-D5E0-49BD-83AB-6DCC4EB11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D15AA-DA4B-4275-A776-1D8012665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3A815-5941-40FB-93FD-C2AC1E642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457F24-7AE9-4B2D-93FB-D3D6412B08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B68C3-419D-4B74-9ED9-3886DAE99E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FFDE1F-D13A-4FC1-8376-7C3AE39C83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77A7B2-06E1-44C3-A3D5-35EDDC099C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3C4F1-B462-4DBF-AC57-24CA86337A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4034A-1714-41CB-A7E7-1579277476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28484-E9C4-4B66-969F-74A27F82E2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60A1C-464E-4501-B939-6DAC33F75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07AA7-5767-4789-AC9F-0449A05CC5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CE7ED-26CD-45EF-BE58-BBBD1D54C7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D3440-1369-4314-A5FD-E8701C02CE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E2533-8E94-4A04-9CD7-65C876F38D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D8C982-364B-4099-948D-AB20D9F681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4006-9CE7-42D7-AB4B-18FA1520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F12B-3036-4613-B862-5BB9B6EF4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CCC5C-0A56-47CE-B74C-96C19E54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DA975-C3F1-4405-909F-3BA955B0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40FC-EF73-4186-AED7-F158EB26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CE46-496C-4C4F-9C87-E53D4BB9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312A-6529-4054-9602-35AA5E8D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B79D-DDCE-4FDA-88BB-751C324B9F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9C74-D0DD-42CF-AEC4-0A576E755A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tox.org/databank/documents/treat/treats/trt33_s.htm" TargetMode="External"/><Relationship Id="rId3" Type="http://schemas.openxmlformats.org/officeDocument/2006/relationships/hyperlink" Target="http://www.uam.es/departamentos/medicina/farmacologia/especifica/F_General/FG_T22.pdf" TargetMode="External"/><Relationship Id="rId4" Type="http://schemas.openxmlformats.org/officeDocument/2006/relationships/hyperlink" Target="http://www.biologia.edu.ar/farmacologia/temas_farma/volumen5/3_neurolep.pdf" TargetMode="External"/><Relationship Id="rId5" Type="http://schemas.openxmlformats.org/officeDocument/2006/relationships/hyperlink" Target="http://www.biologia.edu.ar/farmacologia/temas_farma/volumen5/3_neurolep.pdf" TargetMode="External"/><Relationship Id="rId6" Type="http://schemas.openxmlformats.org/officeDocument/2006/relationships/hyperlink" Target="http://www.biologia.edu.ar/farmacologia/temas_farma/volumen5/3_neurolep.pdf" TargetMode="External"/><Relationship Id="rId7" Type="http://schemas.openxmlformats.org/officeDocument/2006/relationships/hyperlink" Target="http://www.biologia.edu.ar/farmacologia/temas_farma/volumen5/3_neurolep.pdf" TargetMode="External"/><Relationship Id="rId8" Type="http://schemas.openxmlformats.org/officeDocument/2006/relationships/hyperlink" Target="http://www.biologia.edu.ar/farmacologia/temas_farma/volumen5/3_neurolep.pdf" TargetMode="External"/><Relationship Id="rId9" Type="http://schemas.openxmlformats.org/officeDocument/2006/relationships/hyperlink" Target="http://www.biologia.edu.ar/farmacologia/temas_farma/volumen5/3_neurolep.pdf" TargetMode="External"/><Relationship Id="rId10" Type="http://schemas.openxmlformats.org/officeDocument/2006/relationships/hyperlink" Target="http://www.biologia.edu.ar/farmacologia/temas_farma/volumen5/3_neurolep.pdf" TargetMode="External"/><Relationship Id="rId11" Type="http://schemas.openxmlformats.org/officeDocument/2006/relationships/hyperlink" Target="http://www.biologia.edu.ar/farmacologia/temas_farma/volumen5/3_neurolep.pdf" TargetMode="External"/><Relationship Id="rId12" Type="http://schemas.openxmlformats.org/officeDocument/2006/relationships/hyperlink" Target="http://www.prvademecum.com/" TargetMode="External"/><Relationship Id="rId13" Type="http://schemas.openxmlformats.org/officeDocument/2006/relationships/hyperlink" Target="http://scielo.isciii.es/pdf/ami/v19n1/carta1.pdf"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oxicación por Neurolépticos</a:t>
            </a:r>
            <a:endParaRPr b="0" lang="en-US" sz="5400" spc="-1" strike="noStrike">
              <a:solidFill>
                <a:srgbClr val="ffffff"/>
              </a:solidFill>
              <a:latin typeface="Tahoma"/>
            </a:endParaRPr>
          </a:p>
        </p:txBody>
      </p:sp>
      <p:pic>
        <p:nvPicPr>
          <p:cNvPr id="83" name="" descr=""/>
          <p:cNvPicPr/>
          <p:nvPr/>
        </p:nvPicPr>
        <p:blipFill>
          <a:blip r:embed="rId2"/>
          <a:stretch/>
        </p:blipFill>
        <p:spPr>
          <a:xfrm>
            <a:off x="250920" y="476280"/>
            <a:ext cx="1390680" cy="1371600"/>
          </a:xfrm>
          <a:prstGeom prst="rect">
            <a:avLst/>
          </a:prstGeom>
          <a:ln w="0">
            <a:noFill/>
          </a:ln>
        </p:spPr>
      </p:pic>
      <p:sp>
        <p:nvSpPr>
          <p:cNvPr id="84" name=""/>
          <p:cNvSpPr/>
          <p:nvPr/>
        </p:nvSpPr>
        <p:spPr>
          <a:xfrm>
            <a:off x="144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5" name=""/>
          <p:cNvSpPr/>
          <p:nvPr/>
        </p:nvSpPr>
        <p:spPr>
          <a:xfrm>
            <a:off x="1825200" y="763560"/>
            <a:ext cx="3541320" cy="946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ontificia Universidad Católica de Ch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Facultad de Químic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artamento de Farma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oxicología</a:t>
            </a:r>
            <a:endParaRPr b="0" lang="en-US" sz="1400" spc="-1" strike="noStrike">
              <a:solidFill>
                <a:srgbClr val="ffffff"/>
              </a:solidFill>
              <a:latin typeface="Arial"/>
            </a:endParaRPr>
          </a:p>
        </p:txBody>
      </p:sp>
      <p:sp>
        <p:nvSpPr>
          <p:cNvPr id="86" name=""/>
          <p:cNvSpPr/>
          <p:nvPr/>
        </p:nvSpPr>
        <p:spPr>
          <a:xfrm>
            <a:off x="5693400" y="4941720"/>
            <a:ext cx="337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Nombres:  Sara Herrera 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   </a:t>
            </a:r>
            <a:r>
              <a:rPr b="0" lang="es-MX" sz="1800" spc="-1" strike="noStrike">
                <a:solidFill>
                  <a:srgbClr val="ffffff"/>
                </a:solidFill>
                <a:latin typeface="Tahoma"/>
              </a:rPr>
              <a:t>Cesar Valdovinos 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TAMIENTO (Sintomático y mantenimiento).</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o inducir emesi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vado gástrico precoz.</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dministrar carbón activo y/o catártico salin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ntener la función respiratoria y temperatura corpora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onitorización de la función cardiovascula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ra la hipotensión administrar vasopresores (dopamin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560" y="980640"/>
            <a:ext cx="8893080" cy="503892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trolar convulsiones con diazepan seguido con fenitoin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presión del SNC puede requerir administración de un estimulante como la anfetamin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aso de intoxicación severa, debe considerarse que otros medicamentos estén implicados, por lo que se recomienda la aplicación de procedimientos médicos intensivos tales como establecer  y mantener vías respiratorias abiertas, garantizar oxigenación y ventilación adecuada y supervisar y apoyar el aparato cardiovascul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Síndrome Neuroléptico Maligno</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acción idiosincratica con riesgo de vida.</a:t>
            </a:r>
            <a:endParaRPr b="0" lang="en-US" sz="3200" spc="-1" strike="noStrike">
              <a:solidFill>
                <a:srgbClr val="ffffff"/>
              </a:solidFill>
              <a:latin typeface="Tahoma"/>
            </a:endParaRPr>
          </a:p>
          <a:p>
            <a:pPr marL="329040" indent="-32904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lacionada con una depleción aguda de dopamina  (Neuroléptico).</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aracterizada por rigidez muscular e hipertermia.</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primera dosis o en tratamiento regular con neurolépticos muy potente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so Clínico</a:t>
            </a:r>
            <a:endParaRPr b="0" lang="en-US" sz="4400" spc="-1" strike="noStrike">
              <a:solidFill>
                <a:srgbClr val="ffffff"/>
              </a:solidFill>
              <a:latin typeface="Tahoma"/>
            </a:endParaRPr>
          </a:p>
        </p:txBody>
      </p:sp>
      <p:sp>
        <p:nvSpPr>
          <p:cNvPr id="111" name="PlaceHolder 2"/>
          <p:cNvSpPr>
            <a:spLocks noGrp="1"/>
          </p:cNvSpPr>
          <p:nvPr>
            <p:ph/>
          </p:nvPr>
        </p:nvSpPr>
        <p:spPr>
          <a:xfrm>
            <a:off x="468360" y="1557360"/>
            <a:ext cx="8229600" cy="475128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varón de 34 años de edad, con un trastorno psicótico de larga evolución en tratamiento con risperidona 3 mg al día desde hacía más de 6 meses y con 2 mg al día de lorazepam. Diez horas antes de acudir al hospital ingiere con finalidad de suicidio 180 mg de risperidona y 15 mg de lorazepam. Es trasladado a urgencias, donde llega agitado, con diaforesis, no se evidenció rigidez muscular. El paciente estaba febril (temperatura axilar 37,8 °C), taquicárdico y con presión arterial de 110-70 mm Hg. En los análisis de laboratorio presenta  Hemograma normal. Sodio 133 mmoUL (hiponatremia), Potasio 4,2 mmol/L, glucosa 133 mg/dL, urea 37 mg/dL, creatinina 0,99 mg/dL, CK 65.950 U/L. Gasometría venosa con pH 7,44, bicarbonato 26,7 mmoVL. Radiografía de tórax era normal, sedimento de orina sin alteraciones y ECG norm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907920"/>
            <a:ext cx="8229600" cy="411480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nfermo fue tratado con medidas de soporte, hidratación y carbón activado para disminuir la absorción del tóxico. Los síntomas de agitación y de disfunción autonómica manifestada por la diaforesis, taquicardia y alteraciones tensionales desapareció en las primeras 24 horas de tratamiento, así </a:t>
            </a:r>
            <a:r>
              <a:rPr b="0" lang="es-MX" sz="2400" spc="-1" strike="noStrike">
                <a:solidFill>
                  <a:srgbClr val="ffffff"/>
                </a:solidFill>
                <a:latin typeface="Tahoma"/>
              </a:rPr>
              <a:t>como la hiponatremia. Las CK se normalizaron en 48 horas, no presentándose parámetros analíticos que indicasen deterioro de la función renal atribuible a la rabdomiolisis. Consideramos nuestro caso de interés ya que ninguno de los casos de SNM atribuidos a la ingesta de risperidona publicados previamente eran debidos a ingesta masiva del fármaco. La elevación de las CK en nuestro paciente fue mucho mayor que en el resto de los casos publicados, ya que el nivel máximo de ésta enzima en los casos publicados fue de 19,710 U/L. Por otro lado se añade en nuestro paciente la presencia de hiponatremia, que ha sido relacionada con la sobredosificación de risperidona.</a:t>
            </a: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s neurolépticos presentan un bajo índice de toxicidad y mortalidad, por su amplio margen terapéutic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s antecedentes reportados de intoxicación muestran la coexistencia de interacciones con otros medicament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Bibliografía</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cc00"/>
                </a:solidFill>
                <a:uFillTx/>
                <a:latin typeface="Tahoma"/>
                <a:hlinkClick r:id="rId2"/>
              </a:rPr>
              <a:t>http://www.intox.org/databank/documents/treat/treats/trt33_s.htm</a:t>
            </a:r>
            <a:endParaRPr b="0" lang="en-US" sz="2000" spc="-1" strike="noStrike">
              <a:solidFill>
                <a:srgbClr val="ffffff"/>
              </a:solidFill>
              <a:latin typeface="Tahoma"/>
            </a:endParaRPr>
          </a:p>
          <a:p>
            <a:pPr marL="343080" indent="-3430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cc00"/>
                </a:solidFill>
                <a:uFillTx/>
                <a:latin typeface="Tahoma"/>
                <a:hlinkClick r:id="rId3"/>
              </a:rPr>
              <a:t>http://www.uam.es/departamentos/medicina/farmacologia/especifica/F_General/FG_T22.pdf</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cc00"/>
                </a:solidFill>
                <a:uFillTx/>
                <a:latin typeface="Tahoma"/>
                <a:hlinkClick r:id="rId4"/>
              </a:rPr>
              <a:t>http://</a:t>
            </a:r>
            <a:r>
              <a:rPr b="0" lang="es-CL" sz="2000" spc="-1" strike="noStrike" u="sng">
                <a:solidFill>
                  <a:srgbClr val="ffcc00"/>
                </a:solidFill>
                <a:uFillTx/>
                <a:latin typeface="Tahoma"/>
                <a:hlinkClick r:id="rId5"/>
              </a:rPr>
              <a:t>www.biologia.edu.ar</a:t>
            </a:r>
            <a:r>
              <a:rPr b="0" lang="es-CL" sz="2000" spc="-1" strike="noStrike" u="sng">
                <a:solidFill>
                  <a:srgbClr val="ffcc00"/>
                </a:solidFill>
                <a:uFillTx/>
                <a:latin typeface="Tahoma"/>
                <a:hlinkClick r:id="rId6"/>
              </a:rPr>
              <a:t>/</a:t>
            </a:r>
            <a:r>
              <a:rPr b="0" lang="es-CL" sz="2000" spc="-1" strike="noStrike" u="sng">
                <a:solidFill>
                  <a:srgbClr val="ffcc00"/>
                </a:solidFill>
                <a:uFillTx/>
                <a:latin typeface="Tahoma"/>
                <a:hlinkClick r:id="rId7"/>
              </a:rPr>
              <a:t>farmacologia</a:t>
            </a:r>
            <a:r>
              <a:rPr b="0" lang="es-CL" sz="2000" spc="-1" strike="noStrike" u="sng">
                <a:solidFill>
                  <a:srgbClr val="ffcc00"/>
                </a:solidFill>
                <a:uFillTx/>
                <a:latin typeface="Tahoma"/>
                <a:hlinkClick r:id="rId8"/>
              </a:rPr>
              <a:t>/</a:t>
            </a:r>
            <a:r>
              <a:rPr b="0" lang="es-CL" sz="2000" spc="-1" strike="noStrike" u="sng">
                <a:solidFill>
                  <a:srgbClr val="ffcc00"/>
                </a:solidFill>
                <a:uFillTx/>
                <a:latin typeface="Tahoma"/>
                <a:hlinkClick r:id="rId9"/>
              </a:rPr>
              <a:t>temas_farma</a:t>
            </a:r>
            <a:r>
              <a:rPr b="0" lang="es-CL" sz="2000" spc="-1" strike="noStrike" u="sng">
                <a:solidFill>
                  <a:srgbClr val="ffcc00"/>
                </a:solidFill>
                <a:uFillTx/>
                <a:latin typeface="Tahoma"/>
                <a:hlinkClick r:id="rId10"/>
              </a:rPr>
              <a:t>/volumen5/3_</a:t>
            </a:r>
            <a:r>
              <a:rPr b="0" lang="es-CL" sz="2000" spc="-1" strike="noStrike" u="sng">
                <a:solidFill>
                  <a:srgbClr val="ffcc00"/>
                </a:solidFill>
                <a:uFillTx/>
                <a:latin typeface="Tahoma"/>
                <a:hlinkClick r:id="rId11"/>
              </a:rPr>
              <a:t>neurolep.pdf</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cc00"/>
                </a:solidFill>
                <a:uFillTx/>
                <a:latin typeface="Tahoma"/>
                <a:hlinkClick r:id="rId12"/>
              </a:rPr>
              <a:t>http://www.prvademecum.com/</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cc00"/>
                </a:solidFill>
                <a:uFillTx/>
                <a:latin typeface="Tahoma"/>
                <a:hlinkClick r:id="rId13"/>
              </a:rPr>
              <a:t>http://scielo.isciii.es/pdf/ami/v19n1/carta1.pdf</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uroléptico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624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utilizados principalmente en la terapia de las enfermedades psíquicas como la esquizofrenia.</a:t>
            </a: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beneficiosos en pacientes con do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quizofrenia</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storno funcional u orgánico del sistema nervioso que constituyen desviaciones graves de la normalidad ment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anismo de acción</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een acciones bloqueadoras de los receptores dopaminergicos del sistema nervioso centr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ASIFICACIÓN DE NEUROLEPTICOS</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eurolépticos triciclicos:</a:t>
            </a:r>
            <a:endParaRPr b="0" lang="en-US" sz="28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Fenotiazinas (Clorpromazina).</a:t>
            </a:r>
            <a:endParaRPr b="0" lang="en-US" sz="2400" spc="-1" strike="noStrike">
              <a:solidFill>
                <a:srgbClr val="ffffff"/>
              </a:solidFill>
              <a:latin typeface="Tahoma"/>
            </a:endParaRPr>
          </a:p>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B) Tioxantenos (Clopentixol).</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 Dibenzodiacepinas (Clozapin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rivados butirofenonas (Haloperidol, domperidol).</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rivados difenilbutilpiperidina (Penfluridol).</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Benzamidas sustituidas (Sulpirid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rivados benzisoxazol (Risperidon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roléptico atípico (Quetiapina y Olanzapin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tructuras</a:t>
            </a:r>
            <a:endParaRPr b="0" lang="en-US" sz="4400" spc="-1" strike="noStrike">
              <a:solidFill>
                <a:srgbClr val="ffffff"/>
              </a:solidFill>
              <a:latin typeface="Tahoma"/>
            </a:endParaRPr>
          </a:p>
        </p:txBody>
      </p:sp>
      <p:pic>
        <p:nvPicPr>
          <p:cNvPr id="96" name="" descr=""/>
          <p:cNvPicPr/>
          <p:nvPr/>
        </p:nvPicPr>
        <p:blipFill>
          <a:blip r:embed="rId2"/>
          <a:stretch/>
        </p:blipFill>
        <p:spPr>
          <a:xfrm>
            <a:off x="1258920" y="1773360"/>
            <a:ext cx="2881440" cy="1952640"/>
          </a:xfrm>
          <a:prstGeom prst="rect">
            <a:avLst/>
          </a:prstGeom>
          <a:ln w="0">
            <a:noFill/>
          </a:ln>
        </p:spPr>
      </p:pic>
      <p:pic>
        <p:nvPicPr>
          <p:cNvPr id="97" name="" descr=""/>
          <p:cNvPicPr/>
          <p:nvPr/>
        </p:nvPicPr>
        <p:blipFill>
          <a:blip r:embed="rId3"/>
          <a:stretch/>
        </p:blipFill>
        <p:spPr>
          <a:xfrm>
            <a:off x="5219640" y="1700280"/>
            <a:ext cx="3240000" cy="1982880"/>
          </a:xfrm>
          <a:prstGeom prst="rect">
            <a:avLst/>
          </a:prstGeom>
          <a:ln w="0">
            <a:noFill/>
          </a:ln>
        </p:spPr>
      </p:pic>
      <p:pic>
        <p:nvPicPr>
          <p:cNvPr id="98" name="" descr=""/>
          <p:cNvPicPr/>
          <p:nvPr/>
        </p:nvPicPr>
        <p:blipFill>
          <a:blip r:embed="rId4"/>
          <a:stretch/>
        </p:blipFill>
        <p:spPr>
          <a:xfrm>
            <a:off x="1258920" y="4149720"/>
            <a:ext cx="2951280" cy="2184480"/>
          </a:xfrm>
          <a:prstGeom prst="rect">
            <a:avLst/>
          </a:prstGeom>
          <a:ln w="0">
            <a:noFill/>
          </a:ln>
        </p:spPr>
      </p:pic>
      <p:pic>
        <p:nvPicPr>
          <p:cNvPr id="99" name="" descr=""/>
          <p:cNvPicPr/>
          <p:nvPr/>
        </p:nvPicPr>
        <p:blipFill>
          <a:blip r:embed="rId5"/>
          <a:stretch/>
        </p:blipFill>
        <p:spPr>
          <a:xfrm>
            <a:off x="5364000" y="4292640"/>
            <a:ext cx="2953080" cy="18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Dosis</a:t>
            </a:r>
            <a:endParaRPr b="0" lang="en-US" sz="4400" spc="-1" strike="noStrike">
              <a:solidFill>
                <a:srgbClr val="ffffff"/>
              </a:solidFill>
              <a:latin typeface="Tahoma"/>
            </a:endParaRPr>
          </a:p>
        </p:txBody>
      </p:sp>
      <p:graphicFrame>
        <p:nvGraphicFramePr>
          <p:cNvPr id="101" name=""/>
          <p:cNvGraphicFramePr/>
          <p:nvPr/>
        </p:nvGraphicFramePr>
        <p:xfrm>
          <a:off x="457200" y="1905120"/>
          <a:ext cx="8229600" cy="4114800"/>
        </p:xfrm>
        <a:graphic>
          <a:graphicData uri="http://schemas.openxmlformats.org/drawingml/2006/table">
            <a:tbl>
              <a:tblPr/>
              <a:tblGrid>
                <a:gridCol w="2397240"/>
                <a:gridCol w="3362040"/>
                <a:gridCol w="2470320"/>
              </a:tblGrid>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uroléptico</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osis Terapéutic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osis Máxim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Haloperidol</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0,5 a 5 mg 2 a 3/ 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00 mg/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lorpromazin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0 a 50 mg 2 a 6/ 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g /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ispiridon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 a 6 mg/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 información</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Quetiapin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0 a 100 mg/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g/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lanzapin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 a 20 mg/dí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 información</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oxicación </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índice terapéutico de estos agentes es amplio.  Una importante excepción es la ingesta conjunta con alcohol, antidepresivos triciclicos o agentes antiparkinsoniano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la intoxicación con neurolépticos: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ritmias cardiaca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hock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ulsion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x extrapiramidales agudas con haloperido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907920"/>
            <a:ext cx="82296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ras serias complicaciones, pero menos frecuentes son íleo paralítico e hipotermia. La insuficiencia renal aguda a sido reporteada, aunque es reversible y puede ser secundada a la hipotensión.</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general los síntomas y signos com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mnolenc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edació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aquicar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ipotens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5T21:46:42Z</dcterms:created>
  <dc:creator>CHICHO</dc:creator>
  <dc:description/>
  <dc:language>en-US</dc:language>
  <cp:lastModifiedBy>alumno</cp:lastModifiedBy>
  <dcterms:modified xsi:type="dcterms:W3CDTF">2005-11-22T18:30:23Z</dcterms:modified>
  <cp:revision>12</cp:revision>
  <dc:subject/>
  <dc:title>Intoxicación por Neurolépticos</dc:title>
</cp:coreProperties>
</file>