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698-6895-4737-A943-047F48CE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798-9F2B-4206-AE59-7E15697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30B-E6A1-4C56-AC17-4683EC7B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A31-A463-4F2F-9659-083F7380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D287-DFBB-4696-8DEB-8C227E7F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7813-6FBE-484E-9989-75BEE1B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8E3-D3DD-4B2B-812D-5B5DC43A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6EBF-5173-46CC-AF89-A0DF200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A674-F83B-4EDD-A282-0A2CA868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F182-7E1A-4BD8-88F0-B51DD855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71FA-CC63-499F-951E-D94AF28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5FC-C816-4DA1-BBE3-7906569B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E5A0-B8C7-4696-97AB-44CBCFD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8A8-09E7-46B0-B5D8-8149BE38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295-59DA-47D9-9503-C023296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AD86-1274-4E44-AAF1-462CB6D0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E88-DD23-4146-BD13-6263DF4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342-FC98-447E-8790-68E6E75C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C61-67C8-44BA-8ADC-D047CAF2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76E-613F-4400-AB05-9F86A29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BA8-478C-4AFF-9DB1-7FB85366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9CC-999A-4237-97EF-A16D37C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B5C-BC7E-458D-B57D-1DA8936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009-2509-4FB9-8D59-2636861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B8D-081B-4672-A1EA-197BCC54B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B9C3-9D05-44D4-B52F-2FAEB3EB7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88200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Toxicidad de los Inhibidores Selectivos de la Recaptación de la Serotonina</a:t>
            </a:r>
            <a:br>
              <a:rPr sz="4800"/>
            </a:b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(ISRS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5300640"/>
            <a:ext cx="25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ristián Acuñ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Joshua Gigo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íntomas propios de una ingesta elevada de este tipo de fármac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arrea, náuseas y vómit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nvulsiones, tremor y visión borro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aquicardia e hipertens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ratamient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Suspensión del medic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antención de signos vitales y asistencia respirato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Uso de carbón activ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ara el manejo de convulsiones:diazepam, fenobarbital o fenito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Diuresis ác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032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a dosis tóxicas de los ISRS pueden causa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íntomas propios de una ingesta elevada de este tipo de fármac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índrome Serotoninérgi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Síndrome Serotoninérgico(S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s el síndrome clínico que resulta de la excesiva estimulación de los receptores serotoninergicos centrales y periféricos. Se caracteriza por cambios en el estado mental y en las funciones motoras y autonómicas 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as sustancias que lo pueden producir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- Triptófan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- Anfetaminas, Cocaína, MDMA, fenfluramina, reserp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- ISRS, ATC, venlafaxina, trazodona, meperid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- IMA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- Buspirona, Litio, LSD, trazodo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609300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4) /www.intox.org/databank/documents/treat/treats/trt34_s.h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836640"/>
            <a:ext cx="180000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iptóf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84280"/>
            <a:ext cx="309708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iptófano Hidroxil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2276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-hidroxitriptóf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716280"/>
            <a:ext cx="1800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oton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4292640"/>
            <a:ext cx="1800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08720" y="3789360"/>
            <a:ext cx="3457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Ácido 5-hidroxindolacé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3933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93372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933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393372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71628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71628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364500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64500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342900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42900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3357720"/>
            <a:ext cx="289080" cy="14256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141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141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85264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93372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516640"/>
            <a:ext cx="3457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Ácido 5-hidroxindolacé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1341360"/>
            <a:ext cx="0" cy="86364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2781360"/>
            <a:ext cx="0" cy="7920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4005360"/>
            <a:ext cx="107964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4149720"/>
            <a:ext cx="0" cy="129708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6237360"/>
            <a:ext cx="30240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308720" y="5516640"/>
            <a:ext cx="0" cy="72072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08720" y="4221000"/>
            <a:ext cx="0" cy="79236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64000" y="5013360"/>
            <a:ext cx="34578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receptor 5TH 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928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Mecanismos por los cuales aumenta los niveles de Seroton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3141720"/>
            <a:ext cx="367200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iptófano Descarboxil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32000" y="1700280"/>
            <a:ext cx="4320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141720"/>
            <a:ext cx="290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4005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4869000"/>
            <a:ext cx="180036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5084640"/>
            <a:ext cx="3603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765000"/>
            <a:ext cx="647640" cy="503280"/>
          </a:xfrm>
          <a:prstGeom prst="parallelogram">
            <a:avLst>
              <a:gd name="adj" fmla="val 32171"/>
            </a:avLst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2565360"/>
            <a:ext cx="647640" cy="503280"/>
          </a:xfrm>
          <a:prstGeom prst="parallelogram">
            <a:avLst>
              <a:gd name="adj" fmla="val 32171"/>
            </a:avLst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8720" y="3141720"/>
            <a:ext cx="648000" cy="503280"/>
          </a:xfrm>
          <a:prstGeom prst="parallelogram">
            <a:avLst>
              <a:gd name="adj" fmla="val 32189"/>
            </a:avLst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08360" y="5950080"/>
            <a:ext cx="142920" cy="57456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795640" y="6021360"/>
            <a:ext cx="144360" cy="576360"/>
          </a:xfrm>
          <a:prstGeom prst="line">
            <a:avLst/>
          </a:prstGeom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9280" y="5589720"/>
            <a:ext cx="647640" cy="503280"/>
          </a:xfrm>
          <a:prstGeom prst="parallelogram">
            <a:avLst>
              <a:gd name="adj" fmla="val 32171"/>
            </a:avLst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292640"/>
            <a:ext cx="648000" cy="503280"/>
          </a:xfrm>
          <a:prstGeom prst="parallelogram">
            <a:avLst>
              <a:gd name="adj" fmla="val 32189"/>
            </a:avLst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6360" y="6093000"/>
            <a:ext cx="289080" cy="14256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6453360"/>
            <a:ext cx="288720" cy="14256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6021360"/>
            <a:ext cx="0" cy="54936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27280" y="6093000"/>
            <a:ext cx="647640" cy="288720"/>
          </a:xfrm>
          <a:prstGeom prst="parallelogram">
            <a:avLst>
              <a:gd name="adj" fmla="val 56079"/>
            </a:avLst>
          </a:prstGeom>
          <a:solidFill>
            <a:srgbClr val="cce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6426360"/>
            <a:ext cx="108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TH 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6426360"/>
            <a:ext cx="1441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TH 2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836640"/>
            <a:ext cx="32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692280"/>
            <a:ext cx="3924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riptófa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lenfuramina,Reserp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lafaxina,meperid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M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itio, Buspirona, trazod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Toxicologi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Síntomas característicos del cuadro del síndrome serotoninérgico (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ambios Autonóm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ambios Cognoscitivos y de Condu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Trastornos Neuromuscula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5516640"/>
            <a:ext cx="88390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5) Birmes P, Coppin D, Schmitt L, Lauque D. Serotonin syndrome: a brief review. Can Med Assoc J 2003; 168:1439-4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Cambios Autonóm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iaforesis (45%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Hipertermia (45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Hipertensión (35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Midriasis (28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Náuseas (28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Taquicardia (36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Taquipnea (26 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829080" y="1267920"/>
            <a:ext cx="972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7040" indent="-53352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mbios Cognoscitivos y Conduc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970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97040" indent="-533520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gitación (34%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697040" indent="-533520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fusión(51%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697040" indent="-533520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orientación (51%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697040" indent="-533520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rritabilidad (34%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697040" indent="-533520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quietud (48%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05228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rastornos Neuromus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Ataxia (48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Convulsiones (14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Hiperactividad (18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Hipereflexía (52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Mioclonus ( 58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Rigidez Muscular (45 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Temblor (48 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341360"/>
            <a:ext cx="8915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Tratamiento del S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iscontinuar el agente caus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antener diur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ratar hipertermia, rigidez muscular, ansiedad y ag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nsiderar  uso  de agentes  serotoninergicos (ciproheptad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n caso de convulsiones usar BZD o fenobarb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finición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presentan grupos diversos de drogas que comparten la habilidad de inhibir la recaptación neuronal de serotonina lo cual lleva a un incremento en los niveles de serotonina sináp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orresponden a esta famil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luox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luvoxam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ox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ertra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89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Evolución clínic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n el caso de presentarse complicaciones como hipertermia, rabdomiolisis, coagulación intravascular diseminada o falla renal se requiere de U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 mayoría de los signos y síntomas desaparecen en las primeras 24 horas y todos a las 96 ho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7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spcBef>
                <a:spcPts val="1001"/>
              </a:spcBef>
              <a:buNone/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Interacciones con otras dro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9640" indent="0" algn="just">
              <a:spcBef>
                <a:spcPts val="799"/>
              </a:spcBef>
              <a:buNone/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os ISRS son inhibidores potentes del citocromo P4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9640" indent="0" algn="just">
              <a:spcBef>
                <a:spcPts val="799"/>
              </a:spcBef>
              <a:buNone/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s de relevancia la inhibición de sobre el metabolismo de los ATC a nivel del CYP 2D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9640" indent="0" algn="just">
              <a:spcBef>
                <a:spcPts val="799"/>
              </a:spcBef>
              <a:buNone/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s un caso especial la fluvoxamina que es un potente inhibidor de CYP1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9640" indent="0" algn="just">
              <a:spcBef>
                <a:spcPts val="799"/>
              </a:spcBef>
              <a:buNone/>
              <a:tabLst>
                <a:tab algn="l" pos="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9640" y="1523880"/>
          <a:ext cx="8147160" cy="5112000"/>
        </p:xfrm>
        <a:graphic>
          <a:graphicData uri="http://schemas.openxmlformats.org/drawingml/2006/table">
            <a:tbl>
              <a:tblPr/>
              <a:tblGrid>
                <a:gridCol w="2579760"/>
                <a:gridCol w="5567400"/>
              </a:tblGrid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ármacos a los  que inhibe su metabolism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oxe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prazolam, Desipramina, Diazepam, Doxepina, Imipramina, Metoprolol, Nortriptilina y Trazodo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voxam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mitriptilina, Clomipramina, Imipramina y Teofil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aroxe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mitriptilina, Desipram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rtral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azep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96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mportancia de la interacción con antidepresivos tricíc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os ISRS aumentan los niveles séricos de los ATC, con la posibilidad de manifestación de los efectos tóxicos de estos últimos que son(6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i="1" lang="es-ES" sz="2800" spc="-1" strike="noStrike">
                <a:solidFill>
                  <a:srgbClr val="ffff00"/>
                </a:solidFill>
                <a:latin typeface="Times New Roman"/>
              </a:rPr>
              <a:t>  Sistema cardiovasc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Alteraciones electrocardiográf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aquicardia sin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Arritmias ventr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Hipo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(6)www.fepafem.org.ve/Guias_de_Urgencias/Intoxicaciones/Intoxicacion_por_antidepresivos_triciclicos.pd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2240" y="5908680"/>
            <a:ext cx="809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080" y="6164280"/>
            <a:ext cx="805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04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Times New Roman"/>
              </a:rPr>
              <a:t>Sistema Nervioso Cent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Deli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onvulsiones y mioclon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Hipert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uerte se produce por fibrilación ventricular, shock cardiogénico o por status epiléptico con hiperterm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0629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24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Tratamiento de la Intoxicación por ATC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vado gástrico y administrar carbón activado 1g/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ontraindicada la emesis, hemodiálisis y hemoperfu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n pacientes con hipotensión o prolongación del QRS administrar bicarbonato de sodio 1-2 mEq/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r hiperventi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ontrolar la temperatur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clusiones acerca de la toxicidad causada por los IS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n fármacos bastante seguros por su amplio margen terapéu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nte a una intoxicación es muy raro encontrar complicaciones graves y en la mayoría de los casos basta solamente con la suspensión del medic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bido al incremento del uso de ISRS  observar la incidencia de los efectos adversos y tóx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 mucho más frecuente la incidencia de efectos tóxicos por una asociación de medicamentos, por lo cual es muy importante frente a la combinación de terapia un buen seguimiento por parte del especial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s ISRS por si solos es muy difícil que se  constituyan en sustancias tóx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95640" y="263700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Liberación Normal de Serotonina (1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836640"/>
            <a:ext cx="1800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iptóf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1484280"/>
            <a:ext cx="309708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iptófano Hidroxil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276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-hidroxitriptóf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3716280"/>
            <a:ext cx="1800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oton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508640"/>
            <a:ext cx="9367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3789360"/>
            <a:ext cx="3457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Ácido 5-hidroxindolacé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933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93372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933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393372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71628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371628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364500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364500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42900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42900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3357720"/>
            <a:ext cx="289080" cy="14256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141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14172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852640"/>
            <a:ext cx="28908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3933720"/>
            <a:ext cx="288720" cy="14292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589720"/>
            <a:ext cx="3457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Ácido 5-hidroxindolacé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9280" y="1413000"/>
            <a:ext cx="0" cy="7920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2781360"/>
            <a:ext cx="0" cy="79200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005360"/>
            <a:ext cx="719280" cy="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5181480"/>
            <a:ext cx="3024360" cy="7164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4221000"/>
            <a:ext cx="0" cy="79236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5013360"/>
            <a:ext cx="34578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receptor 5HT 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2924280"/>
            <a:ext cx="367200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iptófano Descarboxil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36572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4149720"/>
            <a:ext cx="0" cy="136836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4267080"/>
            <a:ext cx="0" cy="93528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200" y="6184800"/>
            <a:ext cx="81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(1) Graelf F. Serotonin systems. Psych North Am 1997; 20:723-3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rmacocinética de los ISR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447920"/>
          <a:ext cx="8659800" cy="4047840"/>
        </p:xfrm>
        <a:graphic>
          <a:graphicData uri="http://schemas.openxmlformats.org/drawingml/2006/table">
            <a:tbl>
              <a:tblPr/>
              <a:tblGrid>
                <a:gridCol w="1649520"/>
                <a:gridCol w="762120"/>
                <a:gridCol w="1218960"/>
                <a:gridCol w="1371600"/>
                <a:gridCol w="1411560"/>
                <a:gridCol w="1363680"/>
                <a:gridCol w="8823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árma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mi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ntervalo de d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mg/dí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ivel Terapéu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g/m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tabolitos activ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L/k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luox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-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.4 días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-5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-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luvoxam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0-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-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rox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-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-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rtral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8-1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09480" y="5638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85324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*Norfluoxetina: metabolito 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6381720"/>
            <a:ext cx="85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(2) Goodman and Gilman Las bases farmacológicas de la terapéutica X  edición.2003 pags 455-48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rmacodinami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80360" cy="3774960"/>
        </p:xfrm>
        <a:graphic>
          <a:graphicData uri="http://schemas.openxmlformats.org/drawingml/2006/table">
            <a:tbl>
              <a:tblPr/>
              <a:tblGrid>
                <a:gridCol w="2232000"/>
                <a:gridCol w="1942920"/>
                <a:gridCol w="2016360"/>
                <a:gridCol w="2089080"/>
              </a:tblGrid>
              <a:tr h="108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aptación de 5-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aptación de 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tencia Anticolinérg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oxe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voxam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aroxe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+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/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rtral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+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39640" y="1197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ctividad inhibidora in vitro de la recaptación de monoaminas y potencia anticolinérgica de los ISRS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1120" y="651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6237360"/>
            <a:ext cx="73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(3) Jesus Florez. Farmacologia Humana. 3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</a:rPr>
              <a:t>r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 edicion 1997 pags 549-56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plicación Terapéut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presión may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astorno obsesivo-compulsiv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besid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tros desordenes psicológic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fectos Advers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748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353880" algn="just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strointestinales: Diarreas, náuseas y vómit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23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3880" indent="-353880" algn="just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NC: Agitación, desinhibición, dolor    de cabeza, inquietud, insomnio y tembl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23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3880" indent="-353880" algn="just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fectos sexuales: disfunciones sexuales en hombre y muj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¿Qué le ocurre a una persona expuesta a dosis tóxicas de ISR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xicología de los IS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La dosis tóxicas de los ISRS pueden causa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íntomas propios de una ingesta elevada de este tipo de fármac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Síndrome Serotoninérgi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18:32:59Z</dcterms:created>
  <dc:creator>Athlon</dc:creator>
  <dc:description/>
  <dc:language>en-US</dc:language>
  <cp:lastModifiedBy>Audiovisuales</cp:lastModifiedBy>
  <dcterms:modified xsi:type="dcterms:W3CDTF">2005-11-22T19:23:46Z</dcterms:modified>
  <cp:revision>15</cp:revision>
  <dc:subject/>
  <dc:title>Inhibidores selectivos de la recaptación de la serotonina (ISRS)</dc:title>
</cp:coreProperties>
</file>