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Lst>
  <p:sldSz cx="9144000" cy="6858000"/>
  <p:notesSz cx="6792913"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637D80-5B90-4BEC-A035-001DE814E3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304BF-D412-4214-A426-37612CD6B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EDDCD-8CB5-4972-8467-73BE602CCA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4830DF-C7C9-4658-B790-07C4DB9C4E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0C09F-92D8-4899-8B32-213411D44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6EF2A-6EE4-4C4D-B5C3-B2337D645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21E1F-5CE1-40A2-B2B3-4002B722F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0CF1B-D6B8-4E7F-ADED-C50AF7E33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92828-06BF-4560-970C-741BD2A7B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9C725-224A-483C-AFE6-729C32C9F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2D594-AEC7-4820-A6D8-7B14F2734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A4667-0734-465A-A675-30E30A9925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83664-6696-43D9-AFBE-82DDB02A934B}"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1644480"/>
            <a:ext cx="78487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Verdana"/>
                <a:ea typeface="Times New Roman"/>
              </a:rPr>
              <a:t>AÇÃO CIVIL PÚBLICA AMBIENTAL</a:t>
            </a:r>
            <a:endParaRPr b="0" lang="en-US" sz="4800" spc="-1" strike="noStrike">
              <a:solidFill>
                <a:srgbClr val="000000"/>
              </a:solidFill>
              <a:latin typeface="Times New Roman"/>
            </a:endParaRPr>
          </a:p>
        </p:txBody>
      </p:sp>
      <p:sp>
        <p:nvSpPr>
          <p:cNvPr id="42" name=""/>
          <p:cNvSpPr/>
          <p:nvPr/>
        </p:nvSpPr>
        <p:spPr>
          <a:xfrm>
            <a:off x="5708880" y="5392800"/>
            <a:ext cx="34344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FGV  – 22 de março de 200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João Luís Aguiar de Medeir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Pinheiro Neto - Advogad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Rio de Janeiro, Brasi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19040" y="609480"/>
            <a:ext cx="8305920" cy="527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2º A multa cominada liminarmente só será exigível do réu após o trânsito em julgado da decisão favorável ao autor, mas será devida desde o dia em que se houver configurado o descumpriment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3. Havendo condenação em dinheiro, a indenização pelo dano causado reverterá a um fundo gerido por um Conselho Federal ou por Conselhos Estaduais de que participarão necessariamente o Ministério Público e representantes da comunidade, sendo seus recursos destinados à reconstituição dos bens lesad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Parágrafo único. Enquanto o fundo não for regulamentado, o dinheiro ficará depositado em estabelecimento oficial de crédito, em conta com correção monetári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4. O juiz poderá conferir efeito suspensivo aos recursos, para evitar dano irreparável à par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52280" y="814320"/>
            <a:ext cx="8686800" cy="4140000"/>
          </a:xfrm>
          <a:prstGeom prst="rect">
            <a:avLst/>
          </a:prstGeom>
          <a:noFill/>
          <a:ln w="0">
            <a:noFill/>
          </a:ln>
        </p:spPr>
        <p:style>
          <a:lnRef idx="0"/>
          <a:fillRef idx="0"/>
          <a:effectRef idx="0"/>
          <a:fontRef idx="minor"/>
        </p:style>
        <p:txBody>
          <a:bodyPr lIns="90000" rIns="90000" tIns="46800" bIns="46800" anchor="t">
            <a:spAutoFit/>
          </a:bodyPr>
          <a:p>
            <a:pPr algn="just">
              <a:lnSpc>
                <a:spcPct val="136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II - a descrição detalhada de seu objeto, o valor do investimento previsto e o cronograma físico de execução e de implantação das obras e serviços exigidos, com metas trimestrais a serem atingidas;</a:t>
            </a:r>
            <a:endParaRPr b="0" lang="en-US" sz="2000" spc="-1" strike="noStrike">
              <a:solidFill>
                <a:srgbClr val="000000"/>
              </a:solidFill>
              <a:latin typeface="Times New Roman"/>
            </a:endParaRPr>
          </a:p>
          <a:p>
            <a:pPr algn="just">
              <a:lnSpc>
                <a:spcPct val="136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V - as multas que podem ser aplicadas à pessoa física ou jurídica compromissada e os casos de rescisão, em decorrência do não-cumprimento das obrigações nele pactuadas;</a:t>
            </a:r>
            <a:endParaRPr b="0" lang="en-US" sz="2000" spc="-1" strike="noStrike">
              <a:solidFill>
                <a:srgbClr val="000000"/>
              </a:solidFill>
              <a:latin typeface="Times New Roman"/>
            </a:endParaRPr>
          </a:p>
          <a:p>
            <a:pPr algn="just">
              <a:lnSpc>
                <a:spcPct val="136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 - o valor da multa de que trata o inciso IV não poderá ser superior ao valor do investimento previsto;</a:t>
            </a:r>
            <a:endParaRPr b="0" lang="en-US" sz="2000" spc="-1" strike="noStrike">
              <a:solidFill>
                <a:srgbClr val="000000"/>
              </a:solidFill>
              <a:latin typeface="Times New Roman"/>
            </a:endParaRPr>
          </a:p>
          <a:p>
            <a:pPr algn="just">
              <a:lnSpc>
                <a:spcPct val="13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I - o foro competente para dirimir litígios entre as part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228600" y="839880"/>
            <a:ext cx="8686800" cy="3408840"/>
          </a:xfrm>
          <a:prstGeom prst="rect">
            <a:avLst/>
          </a:prstGeom>
          <a:noFill/>
          <a:ln w="0">
            <a:noFill/>
          </a:ln>
        </p:spPr>
        <p:style>
          <a:lnRef idx="0"/>
          <a:fillRef idx="0"/>
          <a:effectRef idx="0"/>
          <a:fontRef idx="minor"/>
        </p:style>
        <p:txBody>
          <a:bodyPr lIns="90000" rIns="90000" tIns="46800" bIns="46800" anchor="t">
            <a:spAutoFit/>
          </a:bodyPr>
          <a:p>
            <a:pPr algn="just">
              <a:lnSpc>
                <a:spcPct val="136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2</a:t>
            </a:r>
            <a:r>
              <a:rPr b="0" lang="en-US" sz="2000" spc="-1" strike="noStrike" u="sng" baseline="30000">
                <a:solidFill>
                  <a:srgbClr val="000000"/>
                </a:solidFill>
                <a:uFillTx/>
                <a:latin typeface="Arial"/>
                <a:ea typeface="Times New Roman"/>
              </a:rPr>
              <a:t>o</a:t>
            </a:r>
            <a:r>
              <a:rPr b="0" lang="en-US" sz="2000" spc="-1" strike="noStrike">
                <a:solidFill>
                  <a:srgbClr val="000000"/>
                </a:solidFill>
                <a:latin typeface="Arial"/>
                <a:ea typeface="Times New Roman"/>
              </a:rPr>
              <a:t> No tocante aos empreendimentos em curso até o dia 30 de março de 1998, envolvendo construção, instalação, ampliação e funcionamento de estabelecimentos e atividades utilizadores de recursos ambientais, considerados efetiva ou potencialmente poluidores, a assinatura do termo de compromisso deverá ser requerida pelas pessoas físicas e jurídicas interessadas, até o dia 31 de dezembro de 1998, mediante requerimento escrito protocolizado junto aos órgãos competentes do SISNAMA, devendo ser firmado pelo dirigente máximo do estabelecim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0" y="976320"/>
            <a:ext cx="8686800" cy="49053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36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3</a:t>
            </a:r>
            <a:r>
              <a:rPr b="0" lang="en-US" sz="2000" spc="-1" strike="noStrike" u="sng" baseline="30000">
                <a:solidFill>
                  <a:srgbClr val="000000"/>
                </a:solidFill>
                <a:uFillTx/>
                <a:latin typeface="Arial"/>
                <a:ea typeface="Times New Roman"/>
              </a:rPr>
              <a:t>o</a:t>
            </a:r>
            <a:r>
              <a:rPr b="0" lang="en-US" sz="2000" spc="-1" strike="noStrike">
                <a:solidFill>
                  <a:srgbClr val="000000"/>
                </a:solidFill>
                <a:latin typeface="Arial"/>
                <a:ea typeface="Times New Roman"/>
              </a:rPr>
              <a:t> Da data da protocolização do requerimento previsto no § 2</a:t>
            </a:r>
            <a:r>
              <a:rPr b="0" lang="en-US" sz="2000" spc="-1" strike="noStrike" u="sng" baseline="30000">
                <a:solidFill>
                  <a:srgbClr val="000000"/>
                </a:solidFill>
                <a:uFillTx/>
                <a:latin typeface="Arial"/>
                <a:ea typeface="Times New Roman"/>
              </a:rPr>
              <a:t>o</a:t>
            </a:r>
            <a:r>
              <a:rPr b="0" lang="en-US" sz="2000" spc="-1" strike="noStrike">
                <a:solidFill>
                  <a:srgbClr val="000000"/>
                </a:solidFill>
                <a:latin typeface="Arial"/>
                <a:ea typeface="Times New Roman"/>
              </a:rPr>
              <a:t> e enquanto perdurar a vigência do correspondente termo de compromisso, ficarão suspensas, em relação aos fatos que deram causa à celebração do instrumento, a aplicação de sanções administrativas contra a pessoa física ou jurídica que o houver firmado.</a:t>
            </a:r>
            <a:endParaRPr b="0" lang="en-US" sz="2000" spc="-1" strike="noStrike">
              <a:solidFill>
                <a:srgbClr val="000000"/>
              </a:solidFill>
              <a:latin typeface="Times New Roman"/>
            </a:endParaRPr>
          </a:p>
          <a:p>
            <a:pPr lvl="1" marL="457200" algn="just">
              <a:lnSpc>
                <a:spcPct val="136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4</a:t>
            </a:r>
            <a:r>
              <a:rPr b="0" lang="en-US" sz="2000" spc="-1" strike="noStrike" u="sng" baseline="30000">
                <a:solidFill>
                  <a:srgbClr val="000000"/>
                </a:solidFill>
                <a:uFillTx/>
                <a:latin typeface="Arial"/>
                <a:ea typeface="Times New Roman"/>
              </a:rPr>
              <a:t>o</a:t>
            </a:r>
            <a:r>
              <a:rPr b="0" lang="en-US" sz="2000" spc="-1" strike="noStrike">
                <a:solidFill>
                  <a:srgbClr val="000000"/>
                </a:solidFill>
                <a:latin typeface="Arial"/>
                <a:ea typeface="Times New Roman"/>
              </a:rPr>
              <a:t> A celebração do termo de compromisso de que trata este artigo não impede a execução de eventuais multas aplicadas antes da protocolização do requerimento.</a:t>
            </a:r>
            <a:endParaRPr b="0" lang="en-US" sz="2000" spc="-1" strike="noStrike">
              <a:solidFill>
                <a:srgbClr val="000000"/>
              </a:solidFill>
              <a:latin typeface="Times New Roman"/>
            </a:endParaRPr>
          </a:p>
          <a:p>
            <a:pPr lvl="1" marL="457200" algn="just">
              <a:lnSpc>
                <a:spcPct val="136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5</a:t>
            </a:r>
            <a:r>
              <a:rPr b="0" lang="en-US" sz="2000" spc="-1" strike="noStrike" u="sng" baseline="30000">
                <a:solidFill>
                  <a:srgbClr val="000000"/>
                </a:solidFill>
                <a:uFillTx/>
                <a:latin typeface="Arial"/>
                <a:ea typeface="Times New Roman"/>
              </a:rPr>
              <a:t>o</a:t>
            </a:r>
            <a:r>
              <a:rPr b="0" lang="en-US" sz="2000" spc="-1" strike="noStrike">
                <a:solidFill>
                  <a:srgbClr val="000000"/>
                </a:solidFill>
                <a:latin typeface="Arial"/>
                <a:ea typeface="Times New Roman"/>
              </a:rPr>
              <a:t> Considera-se rescindido de pleno direito o termo de compromisso, quando descumprida qualquer de suas cláusulas, ressalvado o caso fortuito ou de força mai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6320" y="1262160"/>
            <a:ext cx="8686800" cy="324792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36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6</a:t>
            </a:r>
            <a:r>
              <a:rPr b="0" lang="en-US" sz="2000" spc="-1" strike="noStrike" u="sng" baseline="30000">
                <a:solidFill>
                  <a:srgbClr val="000000"/>
                </a:solidFill>
                <a:uFillTx/>
                <a:latin typeface="Arial"/>
                <a:ea typeface="Times New Roman"/>
              </a:rPr>
              <a:t>o</a:t>
            </a:r>
            <a:r>
              <a:rPr b="0" lang="en-US" sz="2000" spc="-1" strike="noStrike">
                <a:solidFill>
                  <a:srgbClr val="000000"/>
                </a:solidFill>
                <a:latin typeface="Arial"/>
                <a:ea typeface="Times New Roman"/>
              </a:rPr>
              <a:t> O termo de compromisso deverá ser firmado em até noventa dias, contados da protocolização do requerimento.</a:t>
            </a:r>
            <a:endParaRPr b="0" lang="en-US" sz="2000" spc="-1" strike="noStrike">
              <a:solidFill>
                <a:srgbClr val="000000"/>
              </a:solidFill>
              <a:latin typeface="Times New Roman"/>
            </a:endParaRPr>
          </a:p>
          <a:p>
            <a:pPr lvl="1" marL="457200" algn="just">
              <a:lnSpc>
                <a:spcPct val="136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7</a:t>
            </a:r>
            <a:r>
              <a:rPr b="0" lang="en-US" sz="2000" spc="-1" strike="noStrike" u="sng" baseline="30000">
                <a:solidFill>
                  <a:srgbClr val="000000"/>
                </a:solidFill>
                <a:uFillTx/>
                <a:latin typeface="Arial"/>
                <a:ea typeface="Times New Roman"/>
              </a:rPr>
              <a:t>o</a:t>
            </a:r>
            <a:r>
              <a:rPr b="0" lang="en-US" sz="2000" spc="-1" strike="noStrike">
                <a:solidFill>
                  <a:srgbClr val="000000"/>
                </a:solidFill>
                <a:latin typeface="Arial"/>
                <a:ea typeface="Times New Roman"/>
              </a:rPr>
              <a:t> O requerimento de celebração do termo de compromisso deverá conter as informações necessárias à verificação da sua viabilidade técnica e jurídica, sob pena de indeferimento do plano.</a:t>
            </a:r>
            <a:endParaRPr b="0" lang="en-US" sz="2000" spc="-1" strike="noStrike">
              <a:solidFill>
                <a:srgbClr val="000000"/>
              </a:solidFill>
              <a:latin typeface="Times New Roman"/>
            </a:endParaRPr>
          </a:p>
          <a:p>
            <a:pPr lvl="1" marL="457200" algn="just">
              <a:lnSpc>
                <a:spcPct val="136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8</a:t>
            </a:r>
            <a:r>
              <a:rPr b="0" lang="en-US" sz="2000" spc="-1" strike="noStrike" u="sng" baseline="30000">
                <a:solidFill>
                  <a:srgbClr val="000000"/>
                </a:solidFill>
                <a:uFillTx/>
                <a:latin typeface="Arial"/>
                <a:ea typeface="Times New Roman"/>
              </a:rPr>
              <a:t>o</a:t>
            </a:r>
            <a:r>
              <a:rPr b="0" lang="en-US" sz="2000" spc="-1" strike="noStrike">
                <a:solidFill>
                  <a:srgbClr val="000000"/>
                </a:solidFill>
                <a:latin typeface="Arial"/>
                <a:ea typeface="Times New Roman"/>
              </a:rPr>
              <a:t> Sob pena de ineficácia, os termos de compromisso deverão ser publicados no órgão oficial competente, mediante extrato." (N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4920" y="457200"/>
            <a:ext cx="8534160" cy="527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5. Decorridos 60 (sessenta) dias do trânsito em julgado da sentença condenatória, sem que a associação autora lhe promova a execução, deverá fazê-lo o Ministério Público, facultada igual iniciativa aos demais legitimad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6. A sentença civil fará coisa julgada erga omnes, exceto se a ação for julgada improcedente por deficiência de provas, hipótese em que qualquer legitimado poderá intentar outra ação com idêntico fundamento, valendo-se de nova prova. ALTER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Nova redação dada pela lei 9494/97 e pela MP 2180-35/2001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2 - A sentença civil fará coisa julgada erga omnes, nos limites da competência territorial do órgão prolator, exceto se o pedido for julgado improcedente por insuficiência de provas, hipótese em que qualquer legitimado poderá intentar outra ação com idêntico fundamento, valendo-se de nova prova.</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80880" y="914400"/>
            <a:ext cx="838224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MP2180-35/2001 - 2º A - A sentença civil prolatada em ação de caráter coletivo proposta por entidade associativa, na defesa dos interesses e direitos dos seus associados, abrangerá apenas os substituídos que tenham, na data da propositura da ação, domicílio no âmbito da competência territorial do órgão prolato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Parágrafo único - Nas ações coletivas propostas contra a União, os Estados, o Distrito Federal, os Municípios e suas autarquias e fundações, a petição inicial deverá obrigatoriamente estar instruída com a ata da assembléia da entidade associativa que a autorizou, acompanhada da relação nominal dos seus associados e indicação dos respectivos endereç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09680" y="533520"/>
            <a:ext cx="8305560" cy="558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2º B - A sentença que tenha como objeto a liberação de recurso, inclusão em folha de pagamento, reclassificação, equiparação, concessão de aumento ou extensão de vantagens a servidores da União, dos Estados, do Distrito Federal e dos Municípios, inclusive de suas autarquias e fundações, somente poderá ser executada após seu trânsito em julga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7. O juiz condenará a associação autora a pagar ao réu os honorários advocatícios arbitrados na conformidade do § 4º do art. 20 da Lei nº 5.869, de 11 de janeiro de 1973 - Código de Processo Civil, quando reconhecer que a pretensão é manifestamente infundada. (ALTERA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Parágrafo único. Em caso de litigância de má-fé, a associação autora e os diretores responsáveis pela propositura da ação serão solidariamente condenados ao décuplo das custas, sem prejuízo da responsabilidade por perdas e dan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04920" y="542880"/>
            <a:ext cx="8458200" cy="558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NOVA REDAÇÃO ARTIGO 17 - Em caso de litigância de má fé, a associação autora e os diretores responsáveis pela propositura da ação serão solidariamente condenados em honorários advocatícios e ao décuplo das custas, sem prejuízo da responsabilidade por perdas e dano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8. Nas ações de que trata esta lei, não haverá adiantamento de custas, emolumentos, honorários periciais e quaisquer outras despesas, nem condenação da associação autora, salvo comprovada má-fé, em honorários de advogado, custas e despesas processuai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9. Aplica-se à ação civil pública, prevista nesta Lei, o Código de Processo Civil, aprovado pela Lei nº 5.869, de 11 de janeiro de 1973, naquilo em que não contrarie suas disposiçõ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20. O fundo de que trata o art. 13 desta Lei será regulamentado pelo Poder Executivo no prazo de 90 (noventa) di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95360" y="1219320"/>
            <a:ext cx="815328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21. Aplicam-se à defesa dos interesses difusos, coletivos e individuais, no que for cabível, os dispositivos do título III da lei que instituiu o Código de Defesa do Consumido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22. Esta lei entra em vigor na data de sua publicaçã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23. Revogam-se as disposições em contrári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Brasília, em 24 de julho de 1985; 164º da Independência e 97º da Repúblic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JOSÉ SARNEY</a:t>
            </a:r>
            <a:br>
              <a:rPr sz="2000"/>
            </a:br>
            <a:r>
              <a:rPr b="0" i="1" lang="en-US" sz="2000" spc="-1" strike="noStrike">
                <a:solidFill>
                  <a:srgbClr val="000000"/>
                </a:solidFill>
                <a:latin typeface="Verdana"/>
                <a:ea typeface="Times New Roman"/>
              </a:rPr>
              <a:t>Fernando Ly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57200" y="685800"/>
            <a:ext cx="822960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ea typeface="Times New Roman"/>
              </a:rPr>
              <a:t>AÇÃO CIVIL PÚBLIC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ea typeface="Times New Roman"/>
              </a:rPr>
              <a:t> </a:t>
            </a:r>
            <a:r>
              <a:rPr b="0" lang="pt-BR" sz="2000" spc="-1" strike="noStrike">
                <a:solidFill>
                  <a:srgbClr val="000000"/>
                </a:solidFill>
                <a:latin typeface="Verdana"/>
                <a:ea typeface="Times New Roman"/>
              </a:rPr>
              <a:t>CONCEITO</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ea typeface="Times New Roman"/>
              </a:rPr>
              <a:t> </a:t>
            </a:r>
            <a:r>
              <a:rPr b="0" lang="pt-BR" sz="2000" spc="-1" strike="noStrike">
                <a:solidFill>
                  <a:srgbClr val="000000"/>
                </a:solidFill>
                <a:latin typeface="Verdana"/>
                <a:ea typeface="Times New Roman"/>
              </a:rPr>
              <a:t>ORIGEM</a:t>
            </a:r>
            <a:endParaRPr b="0" lang="en-US" sz="2000" spc="-1" strike="noStrike">
              <a:solidFill>
                <a:srgbClr val="000000"/>
              </a:solidFill>
              <a:latin typeface="Times New Roman"/>
            </a:endParaRPr>
          </a:p>
        </p:txBody>
      </p:sp>
      <p:sp>
        <p:nvSpPr>
          <p:cNvPr id="60" name=""/>
          <p:cNvSpPr/>
          <p:nvPr/>
        </p:nvSpPr>
        <p:spPr>
          <a:xfrm>
            <a:off x="457200" y="106668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57200" y="685800"/>
            <a:ext cx="8229600" cy="588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ÇÃO CIVIL PÚBLICA - HIPÓTESES DE CABIMENTO</a:t>
            </a:r>
            <a:r>
              <a:rPr b="0" lang="en-US" sz="2000" spc="-1" strike="noStrike">
                <a:solidFill>
                  <a:srgbClr val="cc0000"/>
                </a:solidFill>
                <a:latin typeface="Verdana"/>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º LACP - Regem-se pelas disposições desta Lei, sem prejuízo da ação popular, as ações de responsabilidade por danos morais e patrimoniais causad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l - ao meio-ambien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ll - ao consumido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lll - a bens e direitos de valor artístico, estético, histórico, turístico e paisagístic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V - a qualquer outro interesse difuso ou coletiv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V - por infração  da ordem econômica e da economia popula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VI - à ordem urbanístic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
          <p:cNvSpPr/>
          <p:nvPr/>
        </p:nvSpPr>
        <p:spPr>
          <a:xfrm>
            <a:off x="457200" y="106668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43080" y="1247760"/>
            <a:ext cx="845820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CONSTITUIÇÃO FEDERA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29. São funções institucionais do Ministério Público: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II - promover o inquérito civil e a ação civil pública, para a proteção do patrimônio público e social, do meio ambiente e de outros interesses difusos e coletivo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1º - A legitimação do Ministério Público para as ações civis previstas neste artigo não impede a de terceiros, nas mesmas hipóteses, segundo o disposto nesta Constituição e na lei.</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
          <p:cNvSpPr/>
          <p:nvPr/>
        </p:nvSpPr>
        <p:spPr>
          <a:xfrm>
            <a:off x="646560" y="380880"/>
            <a:ext cx="522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ÇÃO CIVIL PÚBLICA - DISPOSIÇÃO LEGAL</a:t>
            </a:r>
            <a:endParaRPr b="0" lang="en-US" sz="2000" spc="-1" strike="noStrike">
              <a:solidFill>
                <a:srgbClr val="000000"/>
              </a:solidFill>
              <a:latin typeface="Times New Roman"/>
            </a:endParaRPr>
          </a:p>
        </p:txBody>
      </p:sp>
      <p:sp>
        <p:nvSpPr>
          <p:cNvPr id="65" name=""/>
          <p:cNvSpPr/>
          <p:nvPr/>
        </p:nvSpPr>
        <p:spPr>
          <a:xfrm>
            <a:off x="457200" y="838080"/>
            <a:ext cx="807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80880" y="1262160"/>
            <a:ext cx="8382240" cy="344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LEI 6.938/81 -LEI DA POLÍTICA NACIONAL DO MEIO AMBIEN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14 §1 - Sem obstar a aplicação das penalidades previstas neste artigo, é o poluidor obrigado, independentemente de existência de culpa, a indenizar ou reparar os danos causados ao meio ambiente e a terceiros, afetados por sua atividade. </a:t>
            </a:r>
            <a:r>
              <a:rPr b="1" lang="en-US" sz="2000" spc="-1" strike="noStrike">
                <a:solidFill>
                  <a:srgbClr val="000000"/>
                </a:solidFill>
                <a:latin typeface="Verdana"/>
                <a:ea typeface="Times New Roman"/>
              </a:rPr>
              <a:t>O ministério público da união e dos estados terá legitimidade para propor ação de responsabilidade civil</a:t>
            </a:r>
            <a:r>
              <a:rPr b="0" lang="en-US" sz="2000" spc="-1" strike="noStrike">
                <a:solidFill>
                  <a:srgbClr val="000000"/>
                </a:solidFill>
                <a:latin typeface="Verdana"/>
                <a:ea typeface="Times New Roman"/>
              </a:rPr>
              <a:t> e criminal por danos causados ao meio ambien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
          <p:cNvSpPr/>
          <p:nvPr/>
        </p:nvSpPr>
        <p:spPr>
          <a:xfrm>
            <a:off x="646560" y="380880"/>
            <a:ext cx="522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ÇÃO CIVIL PÚBLICA - DISPOSIÇÃO LEGAL</a:t>
            </a:r>
            <a:endParaRPr b="0" lang="en-US" sz="2000" spc="-1" strike="noStrike">
              <a:solidFill>
                <a:srgbClr val="000000"/>
              </a:solidFill>
              <a:latin typeface="Times New Roman"/>
            </a:endParaRPr>
          </a:p>
        </p:txBody>
      </p:sp>
      <p:sp>
        <p:nvSpPr>
          <p:cNvPr id="68" name=""/>
          <p:cNvSpPr/>
          <p:nvPr/>
        </p:nvSpPr>
        <p:spPr>
          <a:xfrm>
            <a:off x="457200" y="762120"/>
            <a:ext cx="81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57200" y="2901960"/>
            <a:ext cx="830592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O PRESIDENTE DA REPÚBLICA</a:t>
            </a:r>
            <a:r>
              <a:rPr b="0" lang="en-US" sz="2000" spc="-1" strike="noStrike">
                <a:solidFill>
                  <a:srgbClr val="000000"/>
                </a:solidFill>
                <a:latin typeface="Verdana"/>
                <a:ea typeface="Times New Roman"/>
              </a:rPr>
              <a:t>, faço saber que o Congresso Nacional decreta e eu sanciono a seguinte Lei:</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º Regem-se pelas disposições desta Lei, sem prejuízo da ação popular, as ações de responsabilidade por danos morais e patrimoniais causad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l - ao meio-ambien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ll - ao consumido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lll - a bens e direitos de valor artístico, estético, histórico, turístico e paisagístic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V - a qualquer outro interesse difuso ou coletiv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V - por infração da ordem econômica e da economia popul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VI - à ordem urbanística.</a:t>
            </a:r>
            <a:r>
              <a:rPr b="0" lang="en-US" sz="2000" spc="-1" strike="noStrike">
                <a:solidFill>
                  <a:srgbClr val="000000"/>
                </a:solidFill>
                <a:latin typeface="Verdana"/>
              </a:rPr>
              <a:t> </a:t>
            </a:r>
            <a:endParaRPr b="0" lang="en-US" sz="2000" spc="-1" strike="noStrike">
              <a:solidFill>
                <a:srgbClr val="000000"/>
              </a:solidFill>
              <a:latin typeface="Times New Roman"/>
            </a:endParaRPr>
          </a:p>
        </p:txBody>
      </p:sp>
      <p:sp>
        <p:nvSpPr>
          <p:cNvPr id="44" name=""/>
          <p:cNvSpPr/>
          <p:nvPr/>
        </p:nvSpPr>
        <p:spPr>
          <a:xfrm>
            <a:off x="2262240" y="1433520"/>
            <a:ext cx="632448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Verdana"/>
                <a:ea typeface="Times New Roman"/>
              </a:rPr>
              <a:t>Disciplina a ação civil pública de responsabilidade por danos causados ao meio-ambiente, ao consumidor, a bens e direitos de valor artístico, estético, histórico, turístico e paisagístico (VETADO) e dá outras providências.</a:t>
            </a:r>
            <a:r>
              <a:rPr b="0" lang="en-US" sz="1600" spc="-1" strike="noStrike">
                <a:solidFill>
                  <a:srgbClr val="000000"/>
                </a:solidFill>
                <a:latin typeface="Verdana"/>
              </a:rPr>
              <a:t> </a:t>
            </a:r>
            <a:endParaRPr b="0" lang="en-US" sz="1600" spc="-1" strike="noStrike">
              <a:solidFill>
                <a:srgbClr val="000000"/>
              </a:solidFill>
              <a:latin typeface="Times New Roman"/>
            </a:endParaRPr>
          </a:p>
        </p:txBody>
      </p:sp>
      <p:sp>
        <p:nvSpPr>
          <p:cNvPr id="45" name=""/>
          <p:cNvSpPr/>
          <p:nvPr/>
        </p:nvSpPr>
        <p:spPr>
          <a:xfrm>
            <a:off x="1219320" y="380880"/>
            <a:ext cx="67053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Verdana"/>
                <a:ea typeface="Times New Roman"/>
              </a:rPr>
              <a:t>LEI N</a:t>
            </a:r>
            <a:r>
              <a:rPr b="1" lang="en-US" sz="2000" spc="-1" strike="noStrike" baseline="30000">
                <a:solidFill>
                  <a:srgbClr val="000080"/>
                </a:solidFill>
                <a:latin typeface="Verdana"/>
                <a:ea typeface="Times New Roman"/>
              </a:rPr>
              <a:t>o</a:t>
            </a:r>
            <a:r>
              <a:rPr b="1" lang="en-US" sz="2000" spc="-1" strike="noStrike">
                <a:solidFill>
                  <a:srgbClr val="000080"/>
                </a:solidFill>
                <a:latin typeface="Verdana"/>
                <a:ea typeface="Times New Roman"/>
              </a:rPr>
              <a:t> 7.347, DE 24 DE JULHO DE 198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19040" y="1457280"/>
            <a:ext cx="830592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RSTJ 95/93 - "QUANDO A LEI 7.347/85 FAZ REMISSÃO AO CDC, PRETENDE EXPLICITAR QUE OS INTERESSES INDIVIDUAIS HOMOGÊNEOS SÓ SE INSEREM NA DEFESA DE PROTEÇÃO DA AÇÃO CIVIL QUANTO AOS PREJUÍZOS DECORRENTES DA RELAÇÃO DE CONSUMO ENTRE AQUELES E OS RESPECTIVOS CONSUMIDOR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ÉDIS MILARÉ - "PODE-SE ASSIM PRECISAR O CAMPO DE ABRANGÊNCIA DA LEI: CUIDA ELA DA TUTELA JURISDICIONAL DE INTERESSES TRANSINDIVIDUAIS, DE INICIO COMPREENSIVOS DOS DIFUSOS E DOS COLETIVOS EM SENTIDO ESTRITO, AOS QUAIS NA SEQUÊNCIA SE AGREGARAM OS INDIVIDUAIS HOMOGÊNEOS (LEI 8.078/90, ART.81, III, C/C ARTS. 83 E 11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
          <p:cNvSpPr/>
          <p:nvPr/>
        </p:nvSpPr>
        <p:spPr>
          <a:xfrm>
            <a:off x="533520" y="304920"/>
            <a:ext cx="792468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É CABÍVEL AÇÃO CIVIL PÚBLICA PARA A INDENIZAÇÃO DE INTERESSES INDIVIDUAIS? HÁ DIVERGÊNCI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p:txBody>
      </p:sp>
      <p:sp>
        <p:nvSpPr>
          <p:cNvPr id="71" name=""/>
          <p:cNvSpPr/>
          <p:nvPr/>
        </p:nvSpPr>
        <p:spPr>
          <a:xfrm>
            <a:off x="609480" y="106668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57200" y="457200"/>
            <a:ext cx="822960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 LEGITIMAÇÃO ATIV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5º LACP -  A ação principal e a cautelar poderão ser propostas pelo Ministério Público, pela União, pelos Estados e Municípios. Poderão também ser propostas por autarquia, empresa pública, fundação, sociedade de economia mista ou por associação qu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l - esteja constituída há pelo menos um ano, nos termos da lei civi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I - inclua, entre suas finalidades institucionais, a proteção ao meio-ambiente, ao consumidor, à ordem econômica, à livre concorrência, ou ao patrimônio artístico, estético, histórico, turístico e paisagístico (VET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 name=""/>
          <p:cNvSpPr/>
          <p:nvPr/>
        </p:nvSpPr>
        <p:spPr>
          <a:xfrm>
            <a:off x="533520" y="83808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457200" y="1376280"/>
            <a:ext cx="8229600" cy="49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1º O Ministério Público, se não intervier no processo como parte, atuará obrigatoriamente como fiscal da lei.</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2º Fica facultado ao Poder Público e a outras associações legitimadas nos termos deste artigo habilitar-se como litisconsortes de qualquer das part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3º Em caso de desistência ou abandono da ação por associação legitimada, o Ministério Público ou outro legitimado assumirá a titularidade ativ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4º O requisito da pré constituição poderá ser dispensado pelo juiz, quando haja manifesto interesse social evidenciado pela dimensão ou característica do dano, ou pela relevância do bem jurídico protegi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 name=""/>
          <p:cNvSpPr/>
          <p:nvPr/>
        </p:nvSpPr>
        <p:spPr>
          <a:xfrm>
            <a:off x="611280" y="609480"/>
            <a:ext cx="391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 LEGITIMAÇÃO ATIVA – (Cont.)</a:t>
            </a:r>
            <a:endParaRPr b="0" lang="en-US" sz="2000" spc="-1" strike="noStrike">
              <a:solidFill>
                <a:srgbClr val="000000"/>
              </a:solidFill>
              <a:latin typeface="Times New Roman"/>
            </a:endParaRPr>
          </a:p>
        </p:txBody>
      </p:sp>
      <p:sp>
        <p:nvSpPr>
          <p:cNvPr id="76" name=""/>
          <p:cNvSpPr/>
          <p:nvPr/>
        </p:nvSpPr>
        <p:spPr>
          <a:xfrm>
            <a:off x="457200" y="1066680"/>
            <a:ext cx="762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533520" y="1371600"/>
            <a:ext cx="807696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5º Admitir-se-á o litisconsórcio facultativo entre os Ministérios Públicos da União, do Distrito Federal e dos Estados na defesa dos interesses e direitos de que cuida esta lei.</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6º Os órgãos públicos legitimados poderão tomar dos interessados compromisso de ajustamento de sua conduta às exigências legais, mediante cominações, que terá eficácia de título executivo extra-judicial.</a:t>
            </a:r>
            <a:endParaRPr b="0" lang="en-US" sz="2000" spc="-1" strike="noStrike">
              <a:solidFill>
                <a:srgbClr val="000000"/>
              </a:solidFill>
              <a:latin typeface="Times New Roman"/>
            </a:endParaRPr>
          </a:p>
        </p:txBody>
      </p:sp>
      <p:sp>
        <p:nvSpPr>
          <p:cNvPr id="78" name=""/>
          <p:cNvSpPr/>
          <p:nvPr/>
        </p:nvSpPr>
        <p:spPr>
          <a:xfrm>
            <a:off x="611280" y="609480"/>
            <a:ext cx="391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 LEGITIMAÇÃO ATIVA – (Cont.)</a:t>
            </a:r>
            <a:endParaRPr b="0" lang="en-US" sz="2000" spc="-1" strike="noStrike">
              <a:solidFill>
                <a:srgbClr val="000000"/>
              </a:solidFill>
              <a:latin typeface="Times New Roman"/>
            </a:endParaRPr>
          </a:p>
        </p:txBody>
      </p:sp>
      <p:sp>
        <p:nvSpPr>
          <p:cNvPr id="79" name=""/>
          <p:cNvSpPr/>
          <p:nvPr/>
        </p:nvSpPr>
        <p:spPr>
          <a:xfrm>
            <a:off x="457200" y="1066680"/>
            <a:ext cx="762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533520" y="1371600"/>
            <a:ext cx="807696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r>
              <a:rPr b="0" lang="en-US" sz="2000" spc="-1" strike="noStrike">
                <a:solidFill>
                  <a:srgbClr val="000000"/>
                </a:solidFill>
                <a:latin typeface="Verdana"/>
                <a:ea typeface="Times New Roman"/>
              </a:rPr>
              <a:t>Da limitação constitucional à legitimidade das associações ( Controvérsia)</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Constituição Federal:</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t>
            </a:r>
            <a:r>
              <a:rPr b="0" lang="en-US" sz="2000" spc="-1" strike="noStrike">
                <a:solidFill>
                  <a:srgbClr val="000000"/>
                </a:solidFill>
                <a:latin typeface="Verdana"/>
                <a:ea typeface="Times New Roman"/>
              </a:rPr>
              <a:t>Art 5º, inciso XXI - as entidades associativas, quando expressamente autorizadas, têm legitimidade para representar seus  filiados judicial ou extrajudicialmente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 name=""/>
          <p:cNvSpPr/>
          <p:nvPr/>
        </p:nvSpPr>
        <p:spPr>
          <a:xfrm>
            <a:off x="611280" y="609480"/>
            <a:ext cx="391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 LEGITIMAÇÃO ATIVA – (Cont.)</a:t>
            </a:r>
            <a:endParaRPr b="0" lang="en-US" sz="2000" spc="-1" strike="noStrike">
              <a:solidFill>
                <a:srgbClr val="000000"/>
              </a:solidFill>
              <a:latin typeface="Times New Roman"/>
            </a:endParaRPr>
          </a:p>
        </p:txBody>
      </p:sp>
      <p:sp>
        <p:nvSpPr>
          <p:cNvPr id="82" name=""/>
          <p:cNvSpPr/>
          <p:nvPr/>
        </p:nvSpPr>
        <p:spPr>
          <a:xfrm>
            <a:off x="457200" y="1066680"/>
            <a:ext cx="762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33520" y="1219320"/>
            <a:ext cx="8076960" cy="49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Verdana"/>
              </a:rPr>
              <a:t>Jurisprudênci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Verdana"/>
              </a:rPr>
              <a:t>Ação Civil Pública – I – Descabimento – Não cabe este tipo de ação para a tutela de direitos individuais homogêneos, senão para a tutela de direitos difusos ou coletivos. Inteligência do disposto no artigo 129, inciso III e parágrafo primeiro, da Constituição Federal. II. – legitimidade Ativa de Associação – </a:t>
            </a:r>
            <a:r>
              <a:rPr b="1" i="1" lang="pt-BR" sz="2000" spc="-1" strike="noStrike">
                <a:solidFill>
                  <a:srgbClr val="000000"/>
                </a:solidFill>
                <a:latin typeface="Verdana"/>
              </a:rPr>
              <a:t>Dependem as entidades associativas, constituídas para defesa de direitos e interesses de consumidores, da autorização de seus membros para ingressar com ações judiciais cabíveis.</a:t>
            </a:r>
            <a:r>
              <a:rPr b="0" i="1" lang="pt-BR" sz="2000" spc="-1" strike="noStrike">
                <a:solidFill>
                  <a:srgbClr val="000000"/>
                </a:solidFill>
                <a:latin typeface="Verdana"/>
              </a:rPr>
              <a:t> Com isto se exclui, o óbvio, a legitimidade da mesma associação, para postular direitos e interesses de quem sequer é a ela afiliado. Exegese do disposto no artigo 82, inciso IV, da Lei nº 8.078/90, que não se pode fazer sem considerar os termos do que dispõe o artigo 5º, inciso XXI, da Constituição Federal. (TJRJ - 4ª Câmara Cível - AI 12.924/99-Rel. Des. Jair Pontes de Almeida)</a:t>
            </a:r>
            <a:endParaRPr b="0" lang="en-US" sz="2000" spc="-1" strike="noStrike">
              <a:solidFill>
                <a:srgbClr val="000000"/>
              </a:solidFill>
              <a:latin typeface="Times New Roman"/>
            </a:endParaRPr>
          </a:p>
        </p:txBody>
      </p:sp>
      <p:sp>
        <p:nvSpPr>
          <p:cNvPr id="84" name=""/>
          <p:cNvSpPr/>
          <p:nvPr/>
        </p:nvSpPr>
        <p:spPr>
          <a:xfrm>
            <a:off x="611280" y="609480"/>
            <a:ext cx="391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 LEGITIMAÇÃO ATIVA – (Cont.)</a:t>
            </a:r>
            <a:endParaRPr b="0" lang="en-US" sz="2000" spc="-1" strike="noStrike">
              <a:solidFill>
                <a:srgbClr val="000000"/>
              </a:solidFill>
              <a:latin typeface="Times New Roman"/>
            </a:endParaRPr>
          </a:p>
        </p:txBody>
      </p:sp>
      <p:sp>
        <p:nvSpPr>
          <p:cNvPr id="85" name=""/>
          <p:cNvSpPr/>
          <p:nvPr/>
        </p:nvSpPr>
        <p:spPr>
          <a:xfrm>
            <a:off x="457200" y="1066680"/>
            <a:ext cx="762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419040" y="762120"/>
            <a:ext cx="830592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CONTROVÉRSIAS - O MP TEM LEGITIMAÇÃO PARA A DEFESA DOS DIREITOS INDIVIDUAIS HOMOGÊNE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29 CF. São funções institucionais do Ministério Público: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II - promover o inquérito civil e a ação civil pública, para a proteção do patrimônio público e social, do meio ambiente e de outros </a:t>
            </a:r>
            <a:r>
              <a:rPr b="1" lang="en-US" sz="2000" spc="-1" strike="noStrike">
                <a:solidFill>
                  <a:srgbClr val="000000"/>
                </a:solidFill>
                <a:latin typeface="Verdana"/>
                <a:ea typeface="Times New Roman"/>
              </a:rPr>
              <a:t>interesses difusos e coletivos</a:t>
            </a: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27 CF. O Ministério Público é instituição permanente, essencial à função jurisdicional do Estado, incumbindo-lhe a defesa da ordem jurídica, do regime democrático e dos interesses sociais e </a:t>
            </a:r>
            <a:r>
              <a:rPr b="1" lang="en-US" sz="2000" spc="-1" strike="noStrike">
                <a:solidFill>
                  <a:srgbClr val="000000"/>
                </a:solidFill>
                <a:latin typeface="Verdana"/>
                <a:ea typeface="Times New Roman"/>
              </a:rPr>
              <a:t>individuais indisponíve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 name=""/>
          <p:cNvSpPr/>
          <p:nvPr/>
        </p:nvSpPr>
        <p:spPr>
          <a:xfrm>
            <a:off x="533520" y="144792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19040" y="1066680"/>
            <a:ext cx="8305920" cy="425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81 CDC - A defesa dos interesses e direitos dos consumidores e das vítimas poderá ser exercida em juízo individualmente, ou a título coletiv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Parágrafo único. A defesa coletiva será exercida quando se tratar d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II - </a:t>
            </a:r>
            <a:r>
              <a:rPr b="1" lang="en-US" sz="2000" spc="-1" strike="noStrike">
                <a:solidFill>
                  <a:srgbClr val="000000"/>
                </a:solidFill>
                <a:latin typeface="Verdana"/>
                <a:ea typeface="Times New Roman"/>
              </a:rPr>
              <a:t>interesses ou direitos individuais homogêneos</a:t>
            </a:r>
            <a:r>
              <a:rPr b="0" lang="en-US" sz="2000" spc="-1" strike="noStrike">
                <a:solidFill>
                  <a:srgbClr val="000000"/>
                </a:solidFill>
                <a:latin typeface="Verdana"/>
                <a:ea typeface="Times New Roman"/>
              </a:rPr>
              <a:t>, assim entendidos os decorrentes de origem comum.</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82 CDC - Para os fins do art. 81, parágrafo único, são legitimados concorrentement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 - o Ministério Públic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19040" y="1328760"/>
            <a:ext cx="830592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Verdana"/>
              </a:rPr>
              <a:t> </a:t>
            </a:r>
            <a:r>
              <a:rPr b="0" lang="pt-BR" sz="2000" spc="-1" strike="noStrike">
                <a:solidFill>
                  <a:srgbClr val="000000"/>
                </a:solidFill>
                <a:latin typeface="Verdana"/>
              </a:rPr>
              <a:t>“</a:t>
            </a:r>
            <a:r>
              <a:rPr b="0" lang="pt-BR" sz="2000" spc="-1" strike="noStrike">
                <a:solidFill>
                  <a:srgbClr val="000000"/>
                </a:solidFill>
                <a:latin typeface="Verdana"/>
              </a:rPr>
              <a:t>Ocorre que, para serem tutelados pelo Ministério Público, os direitos individuais homogêneos têm de ser, também, </a:t>
            </a:r>
            <a:r>
              <a:rPr b="1" lang="pt-BR" sz="2000" spc="-1" strike="noStrike">
                <a:solidFill>
                  <a:srgbClr val="000000"/>
                </a:solidFill>
                <a:latin typeface="Verdana"/>
              </a:rPr>
              <a:t>indisponíveis</a:t>
            </a:r>
            <a:r>
              <a:rPr b="0" lang="pt-BR" sz="2000" spc="-1" strike="noStrike">
                <a:solidFill>
                  <a:srgbClr val="000000"/>
                </a:solidFill>
                <a:latin typeface="Verdana"/>
              </a:rPr>
              <a:t> ante os encêrros do artigo 127 da Constituição Federal. Direitos indisponíveis, sabidamente, são aqueles a respeito dos quais não se pode transigir. Dos mesmos constituem exemplos: o direito à vida, à saúde e à educaçã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Quando em discussão estiverem tais direitos de grande </a:t>
            </a:r>
            <a:r>
              <a:rPr b="1" lang="pt-BR" sz="2000" spc="-1" strike="noStrike">
                <a:solidFill>
                  <a:srgbClr val="000000"/>
                </a:solidFill>
                <a:latin typeface="Verdana"/>
              </a:rPr>
              <a:t>relevância social</a:t>
            </a:r>
            <a:r>
              <a:rPr b="0" lang="pt-BR" sz="2000" spc="-1" strike="noStrike">
                <a:solidFill>
                  <a:srgbClr val="000000"/>
                </a:solidFill>
                <a:latin typeface="Verdana"/>
              </a:rPr>
              <a:t>, como tais indisponíveis, a legitimação do Ministério Público para a propositura da ação estará sempre presente.” (TJRJ - 7ª Câmara Cível; Ap. Cível nº 15.076/98-RJ; Rela. Desa. Áurea Pimentel Pereira; J. 08.04.1999; v.u ementa)</a:t>
            </a:r>
            <a:endParaRPr b="0" lang="en-US" sz="2000" spc="-1" strike="noStrike">
              <a:solidFill>
                <a:srgbClr val="000000"/>
              </a:solidFill>
              <a:latin typeface="Times New Roman"/>
            </a:endParaRPr>
          </a:p>
        </p:txBody>
      </p:sp>
      <p:sp>
        <p:nvSpPr>
          <p:cNvPr id="90" name=""/>
          <p:cNvSpPr/>
          <p:nvPr/>
        </p:nvSpPr>
        <p:spPr>
          <a:xfrm>
            <a:off x="607680" y="358920"/>
            <a:ext cx="190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urisprudência</a:t>
            </a:r>
            <a:endParaRPr b="0" lang="en-US" sz="2000" spc="-1" strike="noStrike">
              <a:solidFill>
                <a:srgbClr val="000000"/>
              </a:solidFill>
              <a:latin typeface="Times New Roman"/>
            </a:endParaRPr>
          </a:p>
        </p:txBody>
      </p:sp>
      <p:sp>
        <p:nvSpPr>
          <p:cNvPr id="91" name=""/>
          <p:cNvSpPr/>
          <p:nvPr/>
        </p:nvSpPr>
        <p:spPr>
          <a:xfrm>
            <a:off x="685800" y="76212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452520" y="461880"/>
            <a:ext cx="822960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Verdana"/>
                <a:ea typeface="Times New Roman"/>
              </a:rPr>
              <a:t>NELSON NERY JUNIOR</a:t>
            </a:r>
            <a:r>
              <a:rPr b="0" lang="en-US" sz="2000" spc="-1" strike="noStrike">
                <a:solidFill>
                  <a:srgbClr val="000000"/>
                </a:solidFill>
                <a:latin typeface="Verdana"/>
                <a:ea typeface="Times New Roman"/>
              </a:rPr>
              <a:t> - </a:t>
            </a:r>
            <a:r>
              <a:rPr b="0" i="1" lang="en-US" sz="2000" spc="-1" strike="noStrike">
                <a:solidFill>
                  <a:srgbClr val="000000"/>
                </a:solidFill>
                <a:latin typeface="Verdana"/>
                <a:ea typeface="Times New Roman"/>
              </a:rPr>
              <a:t>"O MINISTÉRIO PÚBLICO ESTÁ LEGITIMADO À DEFESA DE INTERESSES INDIVIDUAIS HOMOGÊNEOS QUE TENHAM EXPRESSÃO PARA A COLETIVIDADE, COMO: A) OS QUE DIGAM RESPEITO À SAÚDE OU À SEGURANÇA DAS PESSOAS, OU AO ACESSO DAS CRIANÇAS E ADOLESCENTES À EDUCAÇÃO; B) ÀQUELES EM QUE HAJA EXTRAORDINÁRIA DISPERSÃO DOS LESADOS; C) QUANDO CONVENHA À COLETIVIDADE O ZELO PELO FUNCIONAMENTO DE UM SISTEMA ECONÔMICO, SOCIAL OU JURÍDIC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 name=""/>
          <p:cNvSpPr/>
          <p:nvPr/>
        </p:nvSpPr>
        <p:spPr>
          <a:xfrm>
            <a:off x="457200" y="4191120"/>
            <a:ext cx="830592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Verdana"/>
                <a:ea typeface="Times New Roman"/>
              </a:rPr>
              <a:t>HUGO NIGRO MAZZILLI</a:t>
            </a:r>
            <a:r>
              <a:rPr b="0" lang="en-US" sz="2000" spc="-1" strike="noStrike">
                <a:solidFill>
                  <a:srgbClr val="000000"/>
                </a:solidFill>
                <a:latin typeface="Verdana"/>
                <a:ea typeface="Times New Roman"/>
              </a:rPr>
              <a:t> - </a:t>
            </a:r>
            <a:r>
              <a:rPr b="0" i="1" lang="en-US" sz="2000" spc="-1" strike="noStrike">
                <a:solidFill>
                  <a:srgbClr val="000000"/>
                </a:solidFill>
                <a:latin typeface="Verdana"/>
                <a:ea typeface="Times New Roman"/>
              </a:rPr>
              <a:t>"A DEFESA DE INTERESSES INDIVIDUAIS PELO MINISTÉRIO PÚBLICO, POR MEIO DE AÇÃO CIVIL PÚBLICA, SÓ SE PODE FAZER ENQUANTO SE TRATE DE DIREITOS INDISPONÍVEIS, QUE DIGAM RESPEITO À COLETIVIDADE COMO UM TODO, ÚNICA FORMA DE CONCILIAR ESSA INICIATIVA COM A DESTINAÇÃO INSTITUCIONAL DO MINISTÉRIO PÚBLICO (ART.127 C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57200" y="609480"/>
            <a:ext cx="8229600" cy="49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Parágrafo único - Não será cabível ação civil pública para veicular pretensões que envolvam tributos, contribuições previdenciárias, o Fundo de Garantia do Tempo de Serviço - FGTS ou outros fundos de natureza institucional cujos beneficiários podem ser individualmente determinad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2º As ações previstas nesta Lei serão propostas no foro do local onde ocorrer o dano, cujo juízo terá competência funcional para processar e julgar a caus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Parágrafo único - A propositura da ação prevenirá a jurisdição do juízo para todas as ações posteriormente intentadas que possuam a mesma causa de pedir ou o mesmo objet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3º A ação civil poderá ter por objeto a condenação em dinheiro ou o cumprimento de obrigação de fazer ou não faz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57200" y="609480"/>
            <a:ext cx="8229600" cy="536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POSSIBILIDADE DE ACOR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5º LACP A ação principal e a cautelar poderão ser propostas pelo Ministério Público, pela União, pelos Estados e Municípios. Poderão também ser propostas por autarquia, empresa pública, fundação, sociedade de economia mista ou por associação que:</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6º Os órgãos públicos legitimados poderão tomar dos interessados compromisso de ajustamento de sua conduta às exigências legais, mediante cominações, que terá eficácia de título executivo extra-judicial.</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CPC Art 269 III -  Extingue-se o processo com julgamento de mérito:</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II - quando as partes transigirem.</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BMISSÃO DA TRANSAÇÃO JUDICIAL AO CONSELHO SUPERIOR DO MP</a:t>
            </a:r>
            <a:endParaRPr b="0" lang="en-US" sz="2000" spc="-1" strike="noStrike">
              <a:solidFill>
                <a:srgbClr val="000000"/>
              </a:solidFill>
              <a:latin typeface="Times New Roman"/>
            </a:endParaRPr>
          </a:p>
        </p:txBody>
      </p:sp>
      <p:sp>
        <p:nvSpPr>
          <p:cNvPr id="95" name=""/>
          <p:cNvSpPr/>
          <p:nvPr/>
        </p:nvSpPr>
        <p:spPr>
          <a:xfrm>
            <a:off x="609480" y="990720"/>
            <a:ext cx="78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95360" y="1371600"/>
            <a:ext cx="8153280" cy="4362840"/>
          </a:xfrm>
          <a:prstGeom prst="rect">
            <a:avLst/>
          </a:prstGeom>
          <a:noFill/>
          <a:ln w="0">
            <a:noFill/>
          </a:ln>
        </p:spPr>
        <p:style>
          <a:lnRef idx="0"/>
          <a:fillRef idx="0"/>
          <a:effectRef idx="0"/>
          <a:fontRef idx="minor"/>
        </p:style>
        <p:txBody>
          <a:bodyPr lIns="90000" rIns="90000" tIns="46800" bIns="46800" anchor="t">
            <a:spAutoFit/>
          </a:bodyPr>
          <a:p>
            <a:pPr marL="482760" indent="-482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  NECESSIDADE DA INTEGRAL REPARAÇÃO DO DANO, EM RAZÃO DA NATUREZA INDISPONÍVEL DO DIREITO VIOLADO</a:t>
            </a:r>
            <a:endParaRPr b="0" lang="en-US" sz="2000" spc="-1" strike="noStrike">
              <a:solidFill>
                <a:srgbClr val="000000"/>
              </a:solidFill>
              <a:latin typeface="Times New Roman"/>
            </a:endParaRPr>
          </a:p>
          <a:p>
            <a:pPr marL="482760" indent="-482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482760" indent="-482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B)  INDISPENSABILIDADE DE CABAL ESCLARECIMENTO DOS FATOS, DE MODO A SER POSSÍVEL A IDENTIFICAÇÃO DAS OBRIGAÇÕES A SEREM ESTIPULADAS, JÁ QUE DESFRUTARÁ DE EFICÁCIA DE TÍTULO EXECUTIVO EXTRA-JUDICIAL</a:t>
            </a:r>
            <a:endParaRPr b="0" lang="en-US" sz="2000" spc="-1" strike="noStrike">
              <a:solidFill>
                <a:srgbClr val="000000"/>
              </a:solidFill>
              <a:latin typeface="Times New Roman"/>
            </a:endParaRPr>
          </a:p>
          <a:p>
            <a:pPr marL="482760" indent="-482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482760" indent="-482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C) OBRIGATORIEDADE DA ESTIPULAÇÃO DE COMINAÇÕES PARA A HIPÓTESE DE INADIMPLEMENTO</a:t>
            </a:r>
            <a:endParaRPr b="0" lang="en-US" sz="2000" spc="-1" strike="noStrike">
              <a:solidFill>
                <a:srgbClr val="000000"/>
              </a:solidFill>
              <a:latin typeface="Times New Roman"/>
            </a:endParaRPr>
          </a:p>
          <a:p>
            <a:pPr marL="482760" indent="-482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82760" indent="-482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D)  ANUÊNCIA DO MINISTÉRIO PÚBLICO, QUANDO NÃO SEJA AUTOR</a:t>
            </a:r>
            <a:endParaRPr b="0" lang="en-US" sz="2000" spc="-1" strike="noStrike">
              <a:solidFill>
                <a:srgbClr val="000000"/>
              </a:solidFill>
              <a:latin typeface="Times New Roman"/>
            </a:endParaRPr>
          </a:p>
          <a:p>
            <a:pPr marL="482760" indent="-482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 name=""/>
          <p:cNvSpPr/>
          <p:nvPr/>
        </p:nvSpPr>
        <p:spPr>
          <a:xfrm>
            <a:off x="533520" y="457200"/>
            <a:ext cx="8229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REQUISITOS DE VALIDADE EXIGIDOS NO AJUSTE EXTRA-JUDICIAL: (ÉDIS MILAR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95360" y="533520"/>
            <a:ext cx="815328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ASPECTOS RELEVANTES DA AÇÃO CIVIL PÚBLIC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1. EFEITOS DA SENTENÇ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6. A sentença civil fará coisa julgada erga omnes, exceto se a ação for julgada improcedente por deficiência de provas, hipótese em que qualquer legitimado poderá intentar outra ação com idêntico fundamento, valendo-se de nova prova. </a:t>
            </a:r>
            <a:r>
              <a:rPr b="1" lang="en-US" sz="2000" spc="-1" strike="noStrike">
                <a:solidFill>
                  <a:srgbClr val="000000"/>
                </a:solidFill>
                <a:latin typeface="Verdana"/>
                <a:ea typeface="Times New Roman"/>
              </a:rPr>
              <a:t>ALTER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
          <p:cNvSpPr/>
          <p:nvPr/>
        </p:nvSpPr>
        <p:spPr>
          <a:xfrm>
            <a:off x="533520" y="4267080"/>
            <a:ext cx="815328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Nova redação dada pela lei 9494/97 e pela MP 2180-35/2001 art. 2 - A sentença civil fará coisa julgada erga omnes</a:t>
            </a:r>
            <a:r>
              <a:rPr b="1" lang="en-US" sz="2000" spc="-1" strike="noStrike">
                <a:solidFill>
                  <a:srgbClr val="000000"/>
                </a:solidFill>
                <a:latin typeface="Verdana"/>
                <a:ea typeface="Times New Roman"/>
              </a:rPr>
              <a:t>, </a:t>
            </a:r>
            <a:r>
              <a:rPr b="1" lang="en-US" sz="2000" spc="-1" strike="noStrike" u="sng">
                <a:solidFill>
                  <a:srgbClr val="000000"/>
                </a:solidFill>
                <a:uFillTx/>
                <a:latin typeface="Verdana"/>
                <a:ea typeface="Times New Roman"/>
              </a:rPr>
              <a:t>nos limites da competência territorial do órgão prolator</a:t>
            </a:r>
            <a:r>
              <a:rPr b="0" lang="en-US" sz="2000" spc="-1" strike="noStrike">
                <a:solidFill>
                  <a:srgbClr val="000000"/>
                </a:solidFill>
                <a:latin typeface="Verdana"/>
                <a:ea typeface="Times New Roman"/>
              </a:rPr>
              <a:t>, exceto se o pedido for julgado improcedente por insuficiência de provas, hipótese em que qualquer legitimado poderá intentar outra ação com idêntico fundamento, valendo-se de nova prov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609480" y="1981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19040" y="1157400"/>
            <a:ext cx="830592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MP2180-35/2001 - 2º A - A sentença civil prolatada em ação de caráter coletivo proposta por entidade associativa, na defesa dos interesses e direitos dos seus associados, abrangerá apenas os substituídos que tenham, na data da propositura da ação, </a:t>
            </a:r>
            <a:r>
              <a:rPr b="1" lang="en-US" sz="2000" spc="-1" strike="noStrike" u="sng">
                <a:solidFill>
                  <a:srgbClr val="000000"/>
                </a:solidFill>
                <a:uFillTx/>
                <a:latin typeface="Verdana"/>
                <a:ea typeface="Times New Roman"/>
              </a:rPr>
              <a:t>domicílio no âmbito da competência territorial do órgão prolator</a:t>
            </a:r>
            <a:r>
              <a:rPr b="1" lang="en-US" sz="2000" spc="-1" strike="noStrike">
                <a:solidFill>
                  <a:srgbClr val="000000"/>
                </a:solidFill>
                <a:latin typeface="Verdana"/>
                <a:ea typeface="Times New Roman"/>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Parágrafo único - Nas ações coletivas propostas contra a União, os Estados, o Distrito Federal, os Municípios e suas autarquias e fundações, a petição inicial deverá obrigatoriamente estar instruída com a ata da assembléia da entidade associativa que a autorizou, acompanhada da relação nominal dos seus associados e indicação dos respectivos endereç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682200" y="533520"/>
            <a:ext cx="396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EFEITOS DA SENTENÇA – (Co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71680" y="1219320"/>
            <a:ext cx="8001000" cy="46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 </a:t>
            </a:r>
            <a:r>
              <a:rPr b="0" lang="en-US" sz="2000" spc="-1" strike="noStrike">
                <a:solidFill>
                  <a:srgbClr val="000000"/>
                </a:solidFill>
                <a:latin typeface="Verdana"/>
              </a:rPr>
              <a:t>“(...) Desprezadas as considerações sobre a inconstitucionalidade do dispositivo transcrito, o fato é que a decisão final que deste feito resultar, estará </a:t>
            </a:r>
            <a:r>
              <a:rPr b="1" lang="en-US" sz="2000" spc="-1" strike="noStrike">
                <a:solidFill>
                  <a:srgbClr val="000000"/>
                </a:solidFill>
                <a:latin typeface="Verdana"/>
              </a:rPr>
              <a:t>amparando a todos os consorciados localizados no município do Rio de Janeiro. </a:t>
            </a:r>
            <a:r>
              <a:rPr b="0" lang="en-US" sz="2000" spc="-1" strike="noStrike">
                <a:solidFill>
                  <a:srgbClr val="000000"/>
                </a:solidFill>
                <a:latin typeface="Verdana"/>
              </a:rPr>
              <a:t>(...)” </a:t>
            </a:r>
            <a:r>
              <a:rPr b="1" lang="en-US" sz="2000" spc="-1" strike="noStrike">
                <a:solidFill>
                  <a:srgbClr val="000000"/>
                </a:solidFill>
                <a:latin typeface="Verdana"/>
                <a:ea typeface="Times New Roman"/>
              </a:rPr>
              <a:t>(Apelação Cível - Processo 1999.001.03084 - 15</a:t>
            </a:r>
            <a:r>
              <a:rPr b="1" lang="en-US" sz="2000" spc="-1" strike="noStrike" baseline="30000">
                <a:solidFill>
                  <a:srgbClr val="000000"/>
                </a:solidFill>
                <a:latin typeface="Verdana"/>
                <a:ea typeface="Times New Roman"/>
              </a:rPr>
              <a:t>a</a:t>
            </a:r>
            <a:r>
              <a:rPr b="1" lang="en-US" sz="2000" spc="-1" strike="noStrike">
                <a:solidFill>
                  <a:srgbClr val="000000"/>
                </a:solidFill>
                <a:latin typeface="Verdana"/>
                <a:ea typeface="Times New Roman"/>
              </a:rPr>
              <a:t> Câmara Cível - Comarca da Capital - Des. Ademir Pimentel)</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II) </a:t>
            </a:r>
            <a:r>
              <a:rPr b="1" lang="en-US" sz="2000" spc="-1" strike="noStrike">
                <a:solidFill>
                  <a:srgbClr val="000000"/>
                </a:solidFill>
                <a:latin typeface="Verdana"/>
              </a:rPr>
              <a:t>Ação Civil Pública. Revisão de cláusulas de contratos bancários de adesão. Limites subjetivos da coisa julgada.</a:t>
            </a:r>
            <a:r>
              <a:rPr b="0" lang="en-US" sz="2000" spc="-1" strike="noStrike">
                <a:solidFill>
                  <a:srgbClr val="000000"/>
                </a:solidFill>
                <a:latin typeface="Verdana"/>
              </a:rPr>
              <a:t> Sendo Réu um banco, com diversas filiais no território nacional, </a:t>
            </a:r>
            <a:r>
              <a:rPr b="1" lang="en-US" sz="2000" spc="-1" strike="noStrike">
                <a:solidFill>
                  <a:srgbClr val="000000"/>
                </a:solidFill>
                <a:latin typeface="Verdana"/>
              </a:rPr>
              <a:t>a eficácia da sentença atinge a todos os contratos de adesão que ele elaborar</a:t>
            </a:r>
            <a:r>
              <a:rPr b="0" lang="en-US" sz="2000" spc="-1" strike="noStrike">
                <a:solidFill>
                  <a:srgbClr val="000000"/>
                </a:solidFill>
                <a:latin typeface="Verdana"/>
              </a:rPr>
              <a:t>, em relação a revisão de cláusulas operadas. Alterações ordenadas em cláusulas contidas nos formulários de contratos do banco. Deram parcial provimento, vencido o Relator, parcialmente.</a:t>
            </a:r>
            <a:endParaRPr b="0" lang="en-US" sz="2000" spc="-1" strike="noStrike">
              <a:solidFill>
                <a:srgbClr val="000000"/>
              </a:solidFill>
              <a:latin typeface="Times New Roman"/>
            </a:endParaRPr>
          </a:p>
        </p:txBody>
      </p:sp>
      <p:sp>
        <p:nvSpPr>
          <p:cNvPr id="104" name=""/>
          <p:cNvSpPr/>
          <p:nvPr/>
        </p:nvSpPr>
        <p:spPr>
          <a:xfrm>
            <a:off x="751680" y="533520"/>
            <a:ext cx="232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JURISPRUDÊNC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609480" y="762120"/>
            <a:ext cx="800100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 Assim, mesmo que o art. 16 da Lei nº 7.347 de 24.07.85 com a redação dada pela Lei nº 9.494 de 10.09.97 estabeleça que a sentença faz coisa julgada erga omnes nos limites da competência territorial do órgão prolator, </a:t>
            </a:r>
            <a:r>
              <a:rPr b="1" lang="pt-BR" sz="2000" spc="-1" strike="noStrike">
                <a:solidFill>
                  <a:srgbClr val="000000"/>
                </a:solidFill>
                <a:latin typeface="Verdana"/>
              </a:rPr>
              <a:t>no caso que se examina, não se pode pretender que a decisão impugnada deva prevalecer no âmbito da comarca de Chapecó pois</a:t>
            </a:r>
            <a:r>
              <a:rPr b="0" lang="pt-BR" sz="2000" spc="-1" strike="noStrike">
                <a:solidFill>
                  <a:srgbClr val="000000"/>
                </a:solidFill>
                <a:latin typeface="Verdana"/>
              </a:rPr>
              <a:t> conforme bem acentuou o Dr. Procurador de Justiça em seu parecer</a:t>
            </a:r>
            <a:r>
              <a:rPr b="1" lang="pt-BR" sz="2000" spc="-1" strike="noStrike">
                <a:solidFill>
                  <a:srgbClr val="000000"/>
                </a:solidFill>
                <a:latin typeface="Verdana"/>
              </a:rPr>
              <a:t>, os danos são de escala nacional.</a:t>
            </a:r>
            <a:r>
              <a:rPr b="0" lang="pt-BR" sz="2000" spc="-1" strike="noStrike">
                <a:solidFill>
                  <a:srgbClr val="000000"/>
                </a:solidFill>
                <a:latin typeface="Verdana"/>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a:t>
            </a:r>
            <a:r>
              <a:rPr b="1" lang="pt-BR" sz="2000" spc="-1" strike="noStrike">
                <a:solidFill>
                  <a:srgbClr val="000000"/>
                </a:solidFill>
                <a:latin typeface="Verdana"/>
              </a:rPr>
              <a:t> Portanto, como a Lei nº 9.494/97 não alterou o art. 93 da Lei nº 8.078/90, prevalece a norma do CDC. </a:t>
            </a:r>
            <a:r>
              <a:rPr b="0" lang="pt-BR" sz="2000" spc="-1" strike="noStrike">
                <a:solidFill>
                  <a:srgbClr val="000000"/>
                </a:solidFill>
                <a:latin typeface="Verdana"/>
              </a:rPr>
              <a:t>(...)”</a:t>
            </a:r>
            <a:r>
              <a:rPr b="1" lang="pt-BR" sz="2000" spc="-1" strike="noStrike">
                <a:solidFill>
                  <a:srgbClr val="000000"/>
                </a:solidFill>
                <a:latin typeface="Verdana"/>
              </a:rPr>
              <a:t> (Apelação Cível nº 597096940, 2</a:t>
            </a:r>
            <a:r>
              <a:rPr b="1" lang="pt-BR" sz="2000" spc="-1" strike="noStrike" baseline="30000">
                <a:solidFill>
                  <a:srgbClr val="000000"/>
                </a:solidFill>
                <a:latin typeface="Verdana"/>
              </a:rPr>
              <a:t>a</a:t>
            </a:r>
            <a:r>
              <a:rPr b="1" lang="pt-BR" sz="2000" spc="-1" strike="noStrike">
                <a:solidFill>
                  <a:srgbClr val="000000"/>
                </a:solidFill>
                <a:latin typeface="Verdana"/>
              </a:rPr>
              <a:t> Câmara Cível, TJRS, Relator Des. Juracy Vilela de Souza, 22/10/199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419040" y="725400"/>
            <a:ext cx="8305920" cy="49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2. CABIMENTO DE INDENIZAÇÃO POR DANOS INDIVIDUAIS SOFRID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3º A ação civil poderá ter por objeto a condenação em dinheiro ou o cumprimento de obrigação de fazer ou não faze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3. Havendo condenação em dinheiro, a indenização pelo dano causado reverterá a um fundo gerido por um Conselho Federal ou por Conselhos Estaduais de que participarão necessariamente o Ministério Público e representantes da comunidade, sendo seus recursos destinados à reconstituição dos bens lesad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Parágrafo único. Enquanto o fundo não for regulamentado, o dinheiro ficará depositado em estabelecimento oficial de crédito, em conta com correção monetár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533520" y="457200"/>
            <a:ext cx="8076960" cy="588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ea typeface="Times New Roman"/>
              </a:rPr>
              <a:t>A AÇÃO CIVIL PÚBLICA É MEIO ADEQUADO PARA SE PERSEGUIR O RESSARCIMENTO DE DANOS INDIVIDUALMENTE SOFRIDOS?</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ea typeface="Times New Roman"/>
              </a:rPr>
              <a:t>Art. 1º Regem-se pelas disposições desta Lei, sem prejuízo da ação popular, as ações de responsabilidade por danos morais e patrimoniais causad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ea typeface="Times New Roman"/>
              </a:rPr>
              <a:t>IV - a qualquer outro interesse difuso ou coletiv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ea typeface="Times New Roman"/>
              </a:rPr>
              <a:t>JURISPRUDÊNCIA:</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a:t>
            </a:r>
            <a:r>
              <a:rPr b="0" lang="pt-BR" sz="2000" spc="-1" strike="noStrike">
                <a:solidFill>
                  <a:srgbClr val="000000"/>
                </a:solidFill>
                <a:latin typeface="Verdana"/>
              </a:rPr>
              <a:t>Decisão: Acordam os Desembargadores integrantes da Primeira Câmara Cível do Tribunal de Justiça do Paraná, por unanimidade de votos, em dar provimento ao recurso, conforme enunciado. Ementa: Ação civil pública. Associação de defesa do consumidor. Entidade não constituída legalmente há mais de um ano. Inexistência, além do mais, de interesses difusos ou coletivos, nem relações de consumo. Ilegitimidade ad causam. Extinção do process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533520" y="685800"/>
            <a:ext cx="8076960" cy="530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Verdana"/>
                <a:ea typeface="Times New Roman"/>
              </a:rPr>
              <a:t> </a:t>
            </a:r>
            <a:r>
              <a:rPr b="0" lang="pt-BR" sz="1900" spc="-1" strike="noStrike">
                <a:solidFill>
                  <a:srgbClr val="000000"/>
                </a:solidFill>
                <a:latin typeface="Verdana"/>
              </a:rPr>
              <a:t>A) A legitimidade concorrente da associação de defesa do consumidor, para a promoção de ação civil pública exige que esteja ela legalmente constituída há pelo menos um ano, “ex vi” do art. 82, IV, da Lei 8.078/90. E a pretensão de pagamento de diferença de índices de correção monetária a possuidores de caderneta de poupança não se enquadra nas exceções previstas no parágrafo 1º daquele dispositivo. B)</a:t>
            </a:r>
            <a:r>
              <a:rPr b="1" lang="pt-BR" sz="1900" spc="-1" strike="noStrike">
                <a:solidFill>
                  <a:srgbClr val="000000"/>
                </a:solidFill>
                <a:latin typeface="Verdana"/>
              </a:rPr>
              <a:t> Ademais, a ação civil pública não se presta à obtenção de ressarcimento por supostos prejuízos individuais - assim entendendo atualização monetária de contas de poupança -, só sendo admissível a defesa coletiva quando se tratar de interesses ou direitos difusos ou coletivos</a:t>
            </a:r>
            <a:r>
              <a:rPr b="0" lang="pt-BR" sz="1900" spc="-1" strike="noStrike">
                <a:solidFill>
                  <a:srgbClr val="000000"/>
                </a:solidFill>
                <a:latin typeface="Verdana"/>
              </a:rPr>
              <a:t>, vinculados a relações de consumo mediante remuneração, o que inocorre no contrato de depósito bancário - quer em conta corrente, quer em conta de poupança -, por não se constituir serviço pago ao banco, existindo, apenas interesse individual disponível”.</a:t>
            </a: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Verdana"/>
              </a:rPr>
              <a:t>(Primeira Câmara Cível do Tribunal de Justiça do Paraná - Acórdão 12352 - Apelação Cível - Relator Desembargador Maranhão de Loyola - publicado em 4.3.96 - Jurisprudência Informatizada Saraiva.)</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533520" y="237960"/>
            <a:ext cx="8076960" cy="344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3. COMPETÊNCIA DE FOR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2º LACP As ações previstas nesta Lei serão propostas no foro do local onde ocorrer o dano, cujo juízo terá competência funcional para processar e julgar a caus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Parágrafo único - A propositura da ação prevenirá a jurisdição do juízo para todas as ações posteriormente intentadas que possuam a mesma causa de pedir ou o mesmo obje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04920" y="914400"/>
            <a:ext cx="8534160" cy="527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4º Poderá ser ajuizada ação cautelar para os fins desta Lei, objetivando, inclusive, evitar o dano ao meio-ambiente, ao consumidor, aos bens e direitos de valor artístico, estético, histórico, turístico e paisagístico (VETA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5º A ação principal e a cautelar poderão ser propostas pelo Ministério Público, pela União, pelos Estados e Municípios. Poderão também ser propostas por autarquia, empresa pública, fundação, sociedade de economia mista ou por associação qu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l - esteja constituída há pelo menos um ano, nos termos da lei civi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I - inclua, entre suas finalidades institucionais, a proteção ao meio-ambiente, ao consumidor, à ordem econômica, à livre concorrência, ou ao patrimônio artístico, estético, histórico, turístico e paisagístico (VET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914400"/>
            <a:ext cx="8229600" cy="344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93 CDC. Ressalvada a competência da Justiça Federal, é competente para a causa a justiça loca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 - no foro do lugar onde ocorreu ou deva ocorrer o dano, quando de âmbito loca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I - no foro da Capital do Estado ou no do Distrito Federal, para os danos de âmbito nacional ou regional, aplicando-se as regras do Código de Processo Civil aos casos de competência concorren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990720"/>
            <a:ext cx="8229600" cy="5170680"/>
          </a:xfrm>
          <a:prstGeom prst="rect">
            <a:avLst/>
          </a:prstGeom>
          <a:noFill/>
          <a:ln w="0">
            <a:noFill/>
          </a:ln>
        </p:spPr>
        <p:style>
          <a:lnRef idx="0"/>
          <a:fillRef idx="0"/>
          <a:effectRef idx="0"/>
          <a:fontRef idx="minor"/>
        </p:style>
        <p:txBody>
          <a:bodyPr lIns="90000" rIns="90000" tIns="46800" bIns="46800" anchor="t">
            <a:spAutoFit/>
          </a:bodyPr>
          <a:p>
            <a:pPr marL="290520" indent="-46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REGRAS DE COMPETÊNCIA:</a:t>
            </a:r>
            <a:endParaRPr b="0" lang="en-US" sz="2000" spc="-1" strike="noStrike">
              <a:solidFill>
                <a:srgbClr val="000000"/>
              </a:solidFill>
              <a:latin typeface="Times New Roman"/>
            </a:endParaRPr>
          </a:p>
          <a:p>
            <a:pPr marL="290520" indent="-46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0520" indent="-4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 QUANDO O DANO É RESTRITO AOS LIMITES DE UMA ÚNICA COMARCA - JUIZ DO FORO DO LOCAL</a:t>
            </a:r>
            <a:endParaRPr b="0" lang="en-US" sz="2000" spc="-1" strike="noStrike">
              <a:solidFill>
                <a:srgbClr val="000000"/>
              </a:solidFill>
              <a:latin typeface="Times New Roman"/>
            </a:endParaRPr>
          </a:p>
          <a:p>
            <a:pPr marL="290520" indent="-4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0520" indent="-4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B) QUANDO O DANO ATINGE MAIS DE UMA COMARCA DENTRO DO MESMO ESTADO - COMARCA DA CAPITAL</a:t>
            </a:r>
            <a:endParaRPr b="0" lang="en-US" sz="2000" spc="-1" strike="noStrike">
              <a:solidFill>
                <a:srgbClr val="000000"/>
              </a:solidFill>
              <a:latin typeface="Times New Roman"/>
            </a:endParaRPr>
          </a:p>
          <a:p>
            <a:pPr marL="290520" indent="-4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0520" indent="-4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C) QUANDO O DANO ATINGE MAIS DE UM ESTADO - COMARCA DA CAPITAL DO ESTADO ONDE SE TENHA DADO A PRIMEIRA CITAÇÃO VÁLIDA</a:t>
            </a:r>
            <a:endParaRPr b="0" lang="en-US" sz="2000" spc="-1" strike="noStrike">
              <a:solidFill>
                <a:srgbClr val="000000"/>
              </a:solidFill>
              <a:latin typeface="Times New Roman"/>
            </a:endParaRPr>
          </a:p>
          <a:p>
            <a:pPr marL="290520" indent="-4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0520" indent="-4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D) QUANDO O DANO ATINGE EFETIVAMENTE TODO O TERRITÓRIO NACIONAL - JUIZ DO FORO DO DISTRITO FEDERAL</a:t>
            </a:r>
            <a:endParaRPr b="0" lang="en-US" sz="2000" spc="-1" strike="noStrike">
              <a:solidFill>
                <a:srgbClr val="000000"/>
              </a:solidFill>
              <a:latin typeface="Times New Roman"/>
            </a:endParaRPr>
          </a:p>
          <a:p>
            <a:pPr marL="290520" indent="-46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290520" indent="-4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29052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19040" y="152280"/>
            <a:ext cx="8305920" cy="588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4. COMPETÊNCIA DE JURISDIÇÃ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09 CF. Aos juízes federais compete processar e julgar: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 - as causas em que a União, entidade autárquica ou empresa pública federal forem interessadas na condição de autoras, rés, assistentes ou oponentes, exceto as de falência, as de acidentes de trabalho e as sujeitas à Justiça Eleitoral e à Justiça do Trabalh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II - as causas fundadas em tratado ou contrato da União com Estado estrangeiro ou organismo internaciona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1º - As causas em que a União for autora serão aforadas na seção judiciária onde tiver domicílio a outra par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2º - As causas intentadas contra a União poderão ser aforadas na seção judiciária em que for domiciliado o autor, naquela onde houver ocorrido o ato ou fato que deu origem à demanda ou onde esteja situada a coisa, ou, ainda, no Distrito Feder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19040" y="152280"/>
            <a:ext cx="830592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3º serão processadas e julgadas na justiça estadual, no foro do domicílio dos segurados ou beneficiários, as causas em que forem parte instituição de previdência social e segurado, sempre que a comarca não seja sede de vara do juízo federal, e, se verificada essa condição, a lei poderá permitir que outras causas sejam também processadas e julgadas pela justiça estadu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09480" y="609480"/>
            <a:ext cx="800100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ea typeface="Times New Roman"/>
              </a:rPr>
              <a:t>  </a:t>
            </a:r>
            <a:r>
              <a:rPr b="0" lang="pt-BR" sz="2000" spc="-1" strike="noStrike">
                <a:solidFill>
                  <a:srgbClr val="000000"/>
                </a:solidFill>
                <a:latin typeface="Verdana"/>
                <a:ea typeface="Times New Roman"/>
              </a:rPr>
              <a:t>JUSTIÇA FEDERAL OU COMUM?</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ea typeface="Times New Roman"/>
              </a:rPr>
              <a:t>Jurisprudênci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Verdana"/>
                <a:ea typeface="Times New Roman"/>
              </a:rPr>
              <a:t>COMPETÊNCIA - Ação civil publica - Tutela do meio ambiente - degradação ambiental que alcança bens de domínio da União - Irrelevância - propositura no foro do local onde ocorreu o dano - aplicação da lei 7347/85 - competência da Justiça Estadual - remessa a Justiça Federal indeferida - recurso não provido. Irrelevante que a degradação ambiental alcance bens de domínio da União, mas precisamente, um rio interestadual, os terrenos marginais e suas praias. O interesse, que visa se tutelar é o meio ambiente, patrimônio comum a toda população, e não especificamente, da União Federal. (Rel. Marcus Andrade - AI nº. 182.852-1-Taubaté - 28.12.199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457200" y="357120"/>
            <a:ext cx="8229600" cy="344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5. POSSIBILIDADE DE DESISTÊNCIA DA AÇÃO CIVIL PÚBLIC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5º LACP A ação principal e a cautelar poderão ser propostas pelo Ministério Público, pela União, pelos Estados e Municípios. Poderão também ser propostas por autarquia, empresa pública, fundação, sociedade de economia mista ou por associação qu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3º Em caso de desistência ou abandono da ação por associação legitimada, o Ministério Público ou outro legitimado assumirá a titularidade ativ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95360" y="914400"/>
            <a:ext cx="8153280" cy="1923480"/>
          </a:xfrm>
          <a:prstGeom prst="rect">
            <a:avLst/>
          </a:prstGeom>
          <a:noFill/>
          <a:ln w="0">
            <a:noFill/>
          </a:ln>
        </p:spPr>
        <p:style>
          <a:lnRef idx="0"/>
          <a:fillRef idx="0"/>
          <a:effectRef idx="0"/>
          <a:fontRef idx="minor"/>
        </p:style>
        <p:txBody>
          <a:bodyPr lIns="90000" rIns="90000" tIns="46800" bIns="46800" anchor="t">
            <a:spAutoFit/>
          </a:bodyPr>
          <a:p>
            <a:pPr marL="290520" indent="-2905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OBRIGAÇÃO DO MP EM ASSUMIR A TITULARIDADE - PARADOXO</a:t>
            </a:r>
            <a:endParaRPr b="0" lang="en-US" sz="2000" spc="-1" strike="noStrike">
              <a:solidFill>
                <a:srgbClr val="000000"/>
              </a:solidFill>
              <a:latin typeface="Times New Roman"/>
            </a:endParaRPr>
          </a:p>
          <a:p>
            <a:pPr marL="290520" indent="-290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290520" indent="-2905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POSSIBILIDADE DE DESISTÊNCIA PELO MP (FUNDAMENTADA E COM REMESSA AO CONSELHO SUPERIOR DO MP)</a:t>
            </a:r>
            <a:endParaRPr b="0" lang="en-US" sz="2000" spc="-1" strike="noStrike">
              <a:solidFill>
                <a:srgbClr val="000000"/>
              </a:solidFill>
              <a:latin typeface="Times New Roman"/>
            </a:endParaRPr>
          </a:p>
          <a:p>
            <a:pPr marL="290520" indent="-290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290520" indent="-290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993680" y="2863800"/>
            <a:ext cx="5155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ea typeface="Times New Roman"/>
              </a:rPr>
              <a:t>INQUÉRITO CIVIL</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31640" y="533520"/>
            <a:ext cx="8305920" cy="49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NQUÉRITO CIVI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8º LACP Para instruir a inicial, o interessado poderá requerer às autoridades competentes as certidões e informações que julgar necessárias, a serem fornecidas no prazo de 15 (quinze) di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1º O Ministério Público poderá instaurar, sob sua presidência, inquérito civil, ou requisitar, de qualquer organismo público ou particular, certidões, informações, exames ou perícias, no prazo que assinalar, o qual não poderá ser inferior a 10 (dez) dias útei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2º Somente nos casos em que a lei impuser sigilo, poderá ser negada certidão ou informação, hipótese em que a ação poderá ser proposta desacompanhada daqueles documentos, cabendo ao juiz requisitá-l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47640" y="990720"/>
            <a:ext cx="7848720" cy="344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29 CF. São funções institucionais do Ministério Público: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II - promover o </a:t>
            </a:r>
            <a:r>
              <a:rPr b="1" lang="en-US" sz="2000" spc="-1" strike="noStrike">
                <a:solidFill>
                  <a:srgbClr val="000000"/>
                </a:solidFill>
                <a:latin typeface="Verdana"/>
                <a:ea typeface="Times New Roman"/>
              </a:rPr>
              <a:t>inquérito civil</a:t>
            </a:r>
            <a:r>
              <a:rPr b="0" lang="en-US" sz="2000" spc="-1" strike="noStrike">
                <a:solidFill>
                  <a:srgbClr val="000000"/>
                </a:solidFill>
                <a:latin typeface="Verdana"/>
                <a:ea typeface="Times New Roman"/>
              </a:rPr>
              <a:t> e a ação civil pública, para a proteção do patrimônio público e social, do meio ambiente e de outros interesses difusos e coletivo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90 CDC. Aplicam-se às ações previstas neste título as normas do Código de Processo Civil e da Lei n° 7.347, de 24 de julho de 1985, inclusive no que respeita ao inquérito civil, naquilo que não contrariar suas disposiçõ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533520"/>
            <a:ext cx="8534160" cy="6192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1º O Ministério Público, se não intervier no processo como parte, atuará obrigatoriamente como fiscal da lei.</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2º Fica facultado ao Poder Público e a outras associações legitimadas nos termos deste artigo habilitar-se como litisconsortes de qualquer das part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3º Em caso de desistência ou abandono da ação por associação legitimada, o Ministério Público ou outro legitimado assumirá a titularidade ativ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4º O requisito da pré constituição poderá ser dispensado pelo juiz, quando haja manifesto interesse social evidenciado pela dimensão ou característica do dano, ou pela relevância do bem jurídico protegi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5º Admitir-se-á o litisconsórcio facultativo entre os Ministérios Públicos da União, do Distrito Federal e dos Estados na defesa dos interesses e direitos de que cuida esta le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04920" y="52560"/>
            <a:ext cx="8610480" cy="268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r>
              <a:rPr b="0" lang="en-US" sz="2000" spc="-1" strike="noStrike">
                <a:solidFill>
                  <a:srgbClr val="000000"/>
                </a:solidFill>
                <a:latin typeface="Verdana"/>
                <a:ea typeface="Times New Roman"/>
              </a:rPr>
              <a:t>CONCEIT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r>
              <a:rPr b="0" lang="en-US" sz="2000" spc="-1" strike="noStrike">
                <a:solidFill>
                  <a:srgbClr val="000000"/>
                </a:solidFill>
                <a:latin typeface="Verdana"/>
                <a:ea typeface="Times New Roman"/>
              </a:rPr>
              <a:t>MECANISMO DE INVESTIGAÇÃO ADMINISTRATIVA DA INSTITUIÇÃO MINISTERIAL, DESTINADO A COLHER DADOS PARA A PROPOSITURA DA AÇÃO CIVIL PÚBLICA. TEM CARÁTER INFORMATIVO.</a:t>
            </a:r>
            <a:endParaRPr b="0" lang="en-US" sz="20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CARACTERÍSTICAS:</a:t>
            </a:r>
            <a:endParaRPr b="0" lang="en-US" sz="20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p:txBody>
      </p:sp>
      <p:sp>
        <p:nvSpPr>
          <p:cNvPr id="121" name=""/>
          <p:cNvSpPr/>
          <p:nvPr/>
        </p:nvSpPr>
        <p:spPr>
          <a:xfrm>
            <a:off x="304920" y="2514600"/>
            <a:ext cx="8305560" cy="344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r>
              <a:rPr b="0" lang="en-US" sz="2000" spc="-1" strike="noStrike">
                <a:solidFill>
                  <a:srgbClr val="000000"/>
                </a:solidFill>
                <a:latin typeface="Verdana"/>
                <a:ea typeface="Times New Roman"/>
              </a:rPr>
              <a:t>SÓ O MP PODE INSTAURAR INQUÉRITO CIVI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r>
              <a:rPr b="0" lang="en-US" sz="2000" spc="-1" strike="noStrike">
                <a:solidFill>
                  <a:srgbClr val="000000"/>
                </a:solidFill>
                <a:latin typeface="Verdana"/>
                <a:ea typeface="Times New Roman"/>
              </a:rPr>
              <a:t>O INQUÉRITO CIVIL PODE SER INSTAURADO POR MEIO DE PORTARIA OU DESPACHO DO ÓRGÃO DO MINISTÉRIO PÚBLICO, PROFERIDO EM REQUERIMENTO, OFÍCIO OU REPRESENTAÇÃO QUE LHE SEJAM ENCAMINHAD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r>
              <a:rPr b="0" lang="en-US" sz="2000" spc="-1" strike="noStrike">
                <a:solidFill>
                  <a:srgbClr val="000000"/>
                </a:solidFill>
                <a:latin typeface="Verdana"/>
                <a:ea typeface="Times New Roman"/>
              </a:rPr>
              <a:t>PRESIDIDO POR PROMOTOR DE JUSTIÇA OU, NAS HIPÓTESES LEGAIS DE ATRIBUIÇÃO ORIGINÁRIA, PELO PROCURADOR GERAL DA JUSTIÇA, QUE PODERÁ DELEGAR ESSA ATRIBUIÇÃO PARA OUTRO MEMBRO DO M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419040" y="138240"/>
            <a:ext cx="8305920" cy="5490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r>
              <a:rPr b="0" lang="en-US" sz="2000" spc="-1" strike="noStrike">
                <a:solidFill>
                  <a:srgbClr val="000000"/>
                </a:solidFill>
                <a:latin typeface="Verdana"/>
                <a:ea typeface="Times New Roman"/>
              </a:rPr>
              <a:t>O PRESIDENTE DO INQUÉRITO DITA OS RUMOS DA INVESTIGAÇÃO, COLHE AS PROVAS QUE SE MOSTRAREM NECESSÁRIAS (TODAS AS DILIGÊNCIAS DEVEM SER DOCUMENTAD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r>
              <a:rPr b="0" lang="en-US" sz="2000" spc="-1" strike="noStrike">
                <a:solidFill>
                  <a:srgbClr val="000000"/>
                </a:solidFill>
                <a:latin typeface="Verdana"/>
                <a:ea typeface="Times New Roman"/>
              </a:rPr>
              <a:t>PODERES INSTRUTÓRIOS DE NOTIFICAÇÃO, REQUISIÇÃO, INSPEÇÃO, VISTORIA E DILIGÊNCIA INVESTIGATÓRIA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r>
              <a:rPr b="0" lang="en-US" sz="2000" spc="-1" strike="noStrike">
                <a:solidFill>
                  <a:srgbClr val="000000"/>
                </a:solidFill>
                <a:latin typeface="Verdana"/>
                <a:ea typeface="Times New Roman"/>
              </a:rPr>
              <a:t>O INQUÉRITO CIVIL NÃO É INDISPENSÁVEL PARA A PROPOSITURA DA AÇÃO CIVIL PÚBLIC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r>
              <a:rPr b="0" lang="en-US" sz="2000" spc="-1" strike="noStrike">
                <a:solidFill>
                  <a:srgbClr val="000000"/>
                </a:solidFill>
                <a:latin typeface="Verdana"/>
                <a:ea typeface="Times New Roman"/>
              </a:rPr>
              <a:t>AS PROVAS COLHIDAS EM INQUÉRITO CIVIL NÃO NECESSITAM, EM REGRA, RENOVAÇÃO EM JUIZO, MAS DEVERÃO SER RECEBIDAS COM EXTREMA CAUTELA E RESSALVA, POIS FORAM COLHIDAS SEM A GARANTIA DO CONTRADITÓRIO. CABERÁ AO JUIZ DECIDI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r>
              <a:rPr b="0" lang="en-US" sz="2000" spc="-1" strike="noStrike">
                <a:solidFill>
                  <a:srgbClr val="000000"/>
                </a:solidFill>
                <a:latin typeface="Verdana"/>
                <a:ea typeface="Times New Roman"/>
              </a:rPr>
              <a:t>TUDO O QUE SE APURA NO INQUÉRITO CIVIL VALE COMO INÍCIO DE PROVA MATERIAL, COM PRESUNÇÃO DE VERACIDA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457200" y="304920"/>
            <a:ext cx="8001000" cy="658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CONCLUSÃO DO INQUÉRIT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SE DÁ COM A PROPOSITURA DA AÇÃO CIVIL PÚBLICA OU COM O SEU ARQUIVAMENT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 LACP É OMISSA QUANTO AO PRAZO PARA A CONCLUSÃO DO INQUÉRITO CIVIL, ABRINDO ESPAÇO PARA REGULAÇÃO DA MATÉRIA PELO MINISTÉRIO PÚBLIC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ARQUIVAMENT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9º LACP - Se o órgão do Ministério Público, esgotadas todas as diligências, se convencer da inexistência de fundamento para a propositura da ação civil, promoverá o arquivamento dos autos do inquérito civil ou das peças informativas, fazendo-o fundamentadamente.  </a:t>
            </a:r>
            <a:endParaRPr b="0" lang="en-US" sz="20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DE FORMA EXPRESSA E MOTIVAD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O INQUÉRITO DEVE SER REMETIDO NO PRAZO DE 3 DIAS AO CONSELHO SUPERIOR DO MP </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57200" y="457200"/>
            <a:ext cx="8001000" cy="6085440"/>
          </a:xfrm>
          <a:prstGeom prst="rect">
            <a:avLst/>
          </a:prstGeom>
          <a:noFill/>
          <a:ln w="0">
            <a:noFill/>
          </a:ln>
        </p:spPr>
        <p:style>
          <a:lnRef idx="0"/>
          <a:fillRef idx="0"/>
          <a:effectRef idx="0"/>
          <a:fontRef idx="minor"/>
        </p:style>
        <p:txBody>
          <a:bodyPr lIns="90000" rIns="90000" tIns="46800" bIns="46800" anchor="t">
            <a:spAutoFit/>
          </a:bodyPr>
          <a:p>
            <a:pPr marL="193680" indent="-1936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r>
              <a:rPr b="0" lang="en-US" sz="2000" spc="-1" strike="noStrike">
                <a:solidFill>
                  <a:srgbClr val="000000"/>
                </a:solidFill>
                <a:latin typeface="Verdana"/>
                <a:ea typeface="Times New Roman"/>
              </a:rPr>
              <a:t>O CONSELHO, SE CONCORDAR COM O ARQUIVAMENTO PROPOSTO, HOMOLOGA O ATO DO PROMOTOR DE JUSTIÇA.</a:t>
            </a:r>
            <a:endParaRPr b="0" lang="en-US" sz="2000" spc="-1" strike="noStrike">
              <a:solidFill>
                <a:srgbClr val="000000"/>
              </a:solidFill>
              <a:latin typeface="Times New Roman"/>
            </a:endParaRPr>
          </a:p>
          <a:p>
            <a:pPr marL="193680" indent="-1936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3680" indent="-1936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O CONSELHO, SE REJEITAR O PEDIDO DE ARQUIVAMENTO, DESDE LOGO COMUNICA O FATO AO PROCURADOR GERAL DA JUSTIÇA COM VISTA À DESIGNAÇÃO DE OUTRO ÓRGÃO DO MP PARA O AJUIZAMENTO DA AÇÃO, QUE SERÁ OBRIGADO A CUMPRIR A DETERMINAÇÃO DO CONSELHO.</a:t>
            </a:r>
            <a:endParaRPr b="0" lang="en-US" sz="2000" spc="-1" strike="noStrike">
              <a:solidFill>
                <a:srgbClr val="000000"/>
              </a:solidFill>
              <a:latin typeface="Times New Roman"/>
            </a:endParaRPr>
          </a:p>
          <a:p>
            <a:pPr marL="193680" indent="-193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193680" indent="-1936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SE O CONSELHO ENTENDER QUE O CASO NÃO ESTÁ SUFICIENTEMENTE ESCLARECIDO, CONVERTE O JULGAMENTO EM DILIGÊNCIA.</a:t>
            </a:r>
            <a:endParaRPr b="0" lang="en-US" sz="2000" spc="-1" strike="noStrike">
              <a:solidFill>
                <a:srgbClr val="000000"/>
              </a:solidFill>
              <a:latin typeface="Times New Roman"/>
            </a:endParaRPr>
          </a:p>
          <a:p>
            <a:pPr marL="193680" indent="-193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193680" indent="-1936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O ARQUIVAMENTO É ATO DO ÓRGÃO DO MP, SEM INTERVENÇÃO JUDICIAL. PORTANTO TAL ATO NÃO TORNA PRECLUSA A MATÉRIA, NEM VINCULA A TERCEIROS, POIS NADA IMPEDE A SUA REABERTURA EM CASO DE SURGIMENTO DE NOVAS PROVAS.</a:t>
            </a:r>
            <a:endParaRPr b="0" lang="en-US" sz="2000" spc="-1" strike="noStrike">
              <a:solidFill>
                <a:srgbClr val="000000"/>
              </a:solidFill>
              <a:latin typeface="Times New Roman"/>
            </a:endParaRPr>
          </a:p>
          <a:p>
            <a:pPr marL="193680" indent="-193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193680" indent="-193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609480" y="685800"/>
            <a:ext cx="7925040" cy="2014560"/>
          </a:xfrm>
          <a:prstGeom prst="rect">
            <a:avLst/>
          </a:prstGeom>
          <a:noFill/>
          <a:ln w="0">
            <a:noFill/>
          </a:ln>
        </p:spPr>
        <p:style>
          <a:lnRef idx="0"/>
          <a:fillRef idx="0"/>
          <a:effectRef idx="0"/>
          <a:fontRef idx="minor"/>
        </p:style>
        <p:txBody>
          <a:bodyPr lIns="90000" rIns="90000" tIns="46800" bIns="46800" anchor="t">
            <a:spAutoFit/>
          </a:bodyPr>
          <a:p>
            <a:pPr marL="193680" indent="-1936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ea typeface="Times New Roman"/>
              </a:rPr>
              <a:t>A REGRA É A DA PUBLICIDADE DE TODOS OS ATOS DO INQUÉRITO, RESSALVADAS AS HIPÓTESES LEGAIS DE SIGILO OU QUANDO POSSA HAVER PREJUÍZO À INVESTIGAÇÃO.</a:t>
            </a:r>
            <a:endParaRPr b="0" lang="en-US" sz="2000" spc="-1" strike="noStrike">
              <a:solidFill>
                <a:srgbClr val="000000"/>
              </a:solidFill>
              <a:latin typeface="Times New Roman"/>
            </a:endParaRPr>
          </a:p>
          <a:p>
            <a:pPr marL="193680" indent="-193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3680" indent="-1936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3680" indent="-1936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95360" y="457200"/>
            <a:ext cx="8153280" cy="456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TERMO DE AJUSTAMENTO DE CONDUT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Legislaçã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5º LACP</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6º Os órgãos públicos legitimados poderão tomar dos interessados compromisso de ajustamento de sua conduta às exigências legais, mediante cominações, que terá eficácia de título executivo extra-judicia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343080" y="609480"/>
            <a:ext cx="8458200" cy="579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MP 2163-41 DE 23 DE AGOSTO DE 2001</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a:t>
            </a:r>
            <a:r>
              <a:rPr b="0" lang="en-US" sz="2000" spc="-1" strike="noStrike" u="sng" baseline="30000">
                <a:solidFill>
                  <a:srgbClr val="000000"/>
                </a:solidFill>
                <a:uFillTx/>
                <a:latin typeface="Verdana"/>
                <a:ea typeface="Times New Roman"/>
              </a:rPr>
              <a:t>o</a:t>
            </a:r>
            <a:r>
              <a:rPr b="0" lang="en-US" sz="2000" spc="-1" strike="noStrike">
                <a:solidFill>
                  <a:srgbClr val="000000"/>
                </a:solidFill>
                <a:latin typeface="Verdana"/>
                <a:ea typeface="Times New Roman"/>
              </a:rPr>
              <a:t> A Lei n</a:t>
            </a:r>
            <a:r>
              <a:rPr b="0" lang="en-US" sz="2000" spc="-1" strike="noStrike" u="sng" baseline="30000">
                <a:solidFill>
                  <a:srgbClr val="000000"/>
                </a:solidFill>
                <a:uFillTx/>
                <a:latin typeface="Verdana"/>
                <a:ea typeface="Times New Roman"/>
              </a:rPr>
              <a:t>o</a:t>
            </a:r>
            <a:r>
              <a:rPr b="0" lang="en-US" sz="2000" spc="-1" strike="noStrike">
                <a:solidFill>
                  <a:srgbClr val="000000"/>
                </a:solidFill>
                <a:latin typeface="Verdana"/>
                <a:ea typeface="Times New Roman"/>
              </a:rPr>
              <a:t> 9.605, de 12 de fevereiro de 1998, passa a vigorar acrescida do seguinte artig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79-A. Para o cumprimento do disposto nesta Lei, os órgãos ambientais integrantes do SISNAMA*, responsáveis pela execução de programas e projetos e pelo controle e fiscalização dos estabelecimentos e das atividades suscetíveis de degradarem a qualidade ambiental, ficam autorizados a celebrar, com força de título executivo extrajudicial, termo de compromisso com pessoas físicas ou jurídicas responsáveis pela construção, instalação, ampliação e funcionamento de estabelecimentos e atividades utilizadores de recursos ambientais, considerados efetiva ou potencialmente poluidore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rtigo 6 º da Lei 6.938/81 ( CONAMA, IBAMA,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419040" y="909720"/>
            <a:ext cx="8305920" cy="387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Verdana"/>
                <a:ea typeface="Times New Roman"/>
              </a:rPr>
              <a:t>ERICH DANZ</a:t>
            </a:r>
            <a:r>
              <a:rPr b="1" lang="en-US" sz="2000" spc="-1" strike="noStrike">
                <a:solidFill>
                  <a:srgbClr val="000000"/>
                </a:solidFill>
                <a:latin typeface="Verdana"/>
                <a:ea typeface="Times New Roman"/>
              </a:rPr>
              <a:t> - </a:t>
            </a:r>
            <a:r>
              <a:rPr b="0" i="1" lang="en-US" sz="2000" spc="-1" strike="noStrike">
                <a:solidFill>
                  <a:srgbClr val="000000"/>
                </a:solidFill>
                <a:latin typeface="Verdana"/>
                <a:ea typeface="Times New Roman"/>
              </a:rPr>
              <a:t>“A VIDA NÃO ESTÁ A SERVIÇO DOS CONCEITOS, MAS SIM ESTES AO SERVIÇO DA VIDA"</a:t>
            </a: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CONCEITO</a:t>
            </a:r>
            <a:r>
              <a:rPr b="0" lang="en-US" sz="2000" spc="-1" strike="noStrike">
                <a:solidFill>
                  <a:srgbClr val="000000"/>
                </a:solidFill>
                <a:latin typeface="Verdana"/>
                <a:ea typeface="Times New Roman"/>
              </a:rPr>
              <a:t>: O AJUSTAMENTO DE CONDUTA DO POLUIDOR ÀS EXIGÊNCIAS LEGAIS É O SEU COMPROMETIMENTO EM ADEQUAR-SE À LEGISLAÇÃO COM A FINALIDADE DE EVITAR O AJUIZAMENTO DA AÇÃO CIVIL PÚBLICA. PORÉM, SE NÃO HOUVER CUMPRIMENTO DO QUE FOI AJUSTADO, O COMPROMISSO SERÁ EXECUTADO COM FORÇA DE TÍTULO EXTRA-JUDICIA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696240" y="304920"/>
            <a:ext cx="581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ERMO DE AJUSTAMENTO DE CONDUTA (Cont.)</a:t>
            </a:r>
            <a:endParaRPr b="0" lang="en-US" sz="2000" spc="-1" strike="noStrike">
              <a:solidFill>
                <a:srgbClr val="000000"/>
              </a:solidFill>
              <a:latin typeface="Times New Roman"/>
            </a:endParaRPr>
          </a:p>
        </p:txBody>
      </p:sp>
      <p:sp>
        <p:nvSpPr>
          <p:cNvPr id="130" name=""/>
          <p:cNvSpPr/>
          <p:nvPr/>
        </p:nvSpPr>
        <p:spPr>
          <a:xfrm>
            <a:off x="609480" y="762120"/>
            <a:ext cx="78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228600" y="1004760"/>
            <a:ext cx="8686800" cy="4942080"/>
          </a:xfrm>
          <a:prstGeom prst="rect">
            <a:avLst/>
          </a:prstGeom>
          <a:noFill/>
          <a:ln w="0">
            <a:noFill/>
          </a:ln>
        </p:spPr>
        <p:style>
          <a:lnRef idx="0"/>
          <a:fillRef idx="0"/>
          <a:effectRef idx="0"/>
          <a:fontRef idx="minor"/>
        </p:style>
        <p:txBody>
          <a:bodyPr lIns="90000" rIns="90000" tIns="46800" bIns="46800" anchor="t">
            <a:spAutoFit/>
          </a:bodyPr>
          <a:p>
            <a:pPr marL="193680" indent="-193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CARACTERÍSTICAS DOS TERMOS DE AJUSTAMENTO DE CONDUTA</a:t>
            </a:r>
            <a:endParaRPr b="0" lang="en-US" sz="1800" spc="-1" strike="noStrike">
              <a:solidFill>
                <a:srgbClr val="000000"/>
              </a:solidFill>
              <a:latin typeface="Times New Roman"/>
            </a:endParaRPr>
          </a:p>
          <a:p>
            <a:pPr marL="193680" indent="-193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193680" indent="-1936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PODEM SER FIRMADOS COM A PROMOTORIA E COM OS ÓRGÃOS FISCALIZADORES (FEEMA, IBAMA) NO QUE SE REFERE A IRREGULARIDADES ADMINISTRATIVAS</a:t>
            </a:r>
            <a:endParaRPr b="0" lang="en-US" sz="2000" spc="-1" strike="noStrike">
              <a:solidFill>
                <a:srgbClr val="000000"/>
              </a:solidFill>
              <a:latin typeface="Times New Roman"/>
            </a:endParaRPr>
          </a:p>
          <a:p>
            <a:pPr marL="193680" indent="-193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193680" indent="-1936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DEIXAR EXPRESSO NO TAC O NÃO RECONHECIMENTO DE CULPA</a:t>
            </a:r>
            <a:endParaRPr b="0" lang="en-US" sz="2000" spc="-1" strike="noStrike">
              <a:solidFill>
                <a:srgbClr val="000000"/>
              </a:solidFill>
              <a:latin typeface="Times New Roman"/>
            </a:endParaRPr>
          </a:p>
          <a:p>
            <a:pPr marL="193680" indent="-1936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3680" indent="-193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QUANDO FIRMADOS FORA DO ÂMBITO DE UMA AÇÃO CIVIL PÚBLICA (NA ESFERA ADMINISTRATIVA OU EM UM INQUÉRITO CIVIL), SÃO TÍTULOS EXECUTIVOS EXTRA-JUDICIAIS, QUE COMPORTAM, SE NÃO CUMPRIDOS, AÇÃO DE EXECUÇÃO DE OBRIGAÇÃO DE FAZER OU DE PAGAR.</a:t>
            </a:r>
            <a:endParaRPr b="0" lang="en-US" sz="2000" spc="-1" strike="noStrike">
              <a:solidFill>
                <a:srgbClr val="000000"/>
              </a:solidFill>
              <a:latin typeface="Times New Roman"/>
            </a:endParaRPr>
          </a:p>
          <a:p>
            <a:pPr marL="193680" indent="-193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193680" indent="-193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DESTINA-SE A PREVENIR O LITÍGIO (PROPOSITURA DA AÇÃO CIVIL PÚBLICA) OU POR-LHE FIM (AÇÃO EM ANDAMENTO)</a:t>
            </a:r>
            <a:endParaRPr b="0" lang="en-US" sz="2000" spc="-1" strike="noStrike">
              <a:solidFill>
                <a:srgbClr val="000000"/>
              </a:solidFill>
              <a:latin typeface="Times New Roman"/>
            </a:endParaRPr>
          </a:p>
        </p:txBody>
      </p:sp>
      <p:sp>
        <p:nvSpPr>
          <p:cNvPr id="132" name=""/>
          <p:cNvSpPr/>
          <p:nvPr/>
        </p:nvSpPr>
        <p:spPr>
          <a:xfrm>
            <a:off x="567720" y="304920"/>
            <a:ext cx="581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ERMO DE AJUSTAMENTO DE CONDUTA (Cont.)</a:t>
            </a:r>
            <a:endParaRPr b="0" lang="en-US" sz="2000" spc="-1" strike="noStrike">
              <a:solidFill>
                <a:srgbClr val="000000"/>
              </a:solidFill>
              <a:latin typeface="Times New Roman"/>
            </a:endParaRPr>
          </a:p>
        </p:txBody>
      </p:sp>
      <p:sp>
        <p:nvSpPr>
          <p:cNvPr id="133" name=""/>
          <p:cNvSpPr/>
          <p:nvPr/>
        </p:nvSpPr>
        <p:spPr>
          <a:xfrm>
            <a:off x="457200" y="6858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04920" y="1371600"/>
            <a:ext cx="842004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ea typeface="Times New Roman"/>
              </a:rPr>
              <a:t>CURIOSIDADES:</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ea typeface="Times New Roman"/>
              </a:rPr>
              <a:t>EXISTEM 158 AÇÕES CIVIS PÚBLICAS INSTAURADAS PELO MP ESTADUAL NO MUNICIPIO DO RIO DE JANEIR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 name=""/>
          <p:cNvSpPr/>
          <p:nvPr/>
        </p:nvSpPr>
        <p:spPr>
          <a:xfrm>
            <a:off x="4479840" y="3927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6" name=""/>
          <p:cNvSpPr/>
          <p:nvPr/>
        </p:nvSpPr>
        <p:spPr>
          <a:xfrm>
            <a:off x="5708880" y="5789520"/>
            <a:ext cx="3434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ão Luís Aguiar de Medeir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nheiro Neto - Advogad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o de Janeiro, Brasil</a:t>
            </a:r>
            <a:endParaRPr b="0" lang="en-US" sz="1800" spc="-1" strike="noStrike">
              <a:solidFill>
                <a:srgbClr val="000000"/>
              </a:solidFill>
              <a:latin typeface="Times New Roman"/>
            </a:endParaRPr>
          </a:p>
        </p:txBody>
      </p:sp>
      <p:sp>
        <p:nvSpPr>
          <p:cNvPr id="137" name=""/>
          <p:cNvSpPr/>
          <p:nvPr/>
        </p:nvSpPr>
        <p:spPr>
          <a:xfrm>
            <a:off x="5710320" y="5256360"/>
            <a:ext cx="3202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GV  – 22 de março de 200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57200" y="557280"/>
            <a:ext cx="8229600" cy="588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6º Os órgãos públicos legitimados poderão tomar dos interessados compromisso de ajustamento de sua conduta às exigências legais, mediante cominações, que terá eficácia de título executivo extra-judicia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6º Qualquer pessoa poderá e o servidor público deverá provocar a iniciativa do Ministério Público, ministrando-lhe informações sobre fatos que constituam objeto da ação civil e indicando-lhe os elementos de convicçã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7º Se, no exercício de suas funções, os juízes e tribunais tiverem conhecimento de fatos que possam ensejar a propositura da ação civil, remeterão peças ao Ministério Público para as providências cabívei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8º Para instruir a inicial, o interessado poderá requerer às autoridades competentes as certidões e informações que julgar necessárias, a serem fornecidas no prazo de 15 (quinze) di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071720" y="357120"/>
            <a:ext cx="70102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Verdana"/>
                <a:ea typeface="Times New Roman"/>
              </a:rPr>
              <a:t>LEI Nº 9.494, DE 10 DE SETEMBRO DE 1997.</a:t>
            </a: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 name=""/>
          <p:cNvSpPr/>
          <p:nvPr/>
        </p:nvSpPr>
        <p:spPr>
          <a:xfrm>
            <a:off x="380880" y="1219320"/>
            <a:ext cx="838224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2º O art. 16 da Lei nº 7.347/85</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passa a vigorar com a seguinte redaçã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t>
            </a:r>
            <a:r>
              <a:rPr b="0" lang="en-US" sz="2000" spc="-1" strike="noStrike">
                <a:solidFill>
                  <a:srgbClr val="000000"/>
                </a:solidFill>
                <a:latin typeface="Verdana"/>
                <a:ea typeface="Times New Roman"/>
              </a:rPr>
              <a:t>Art. 16. A sentença civil fará coisa julgada erga omnes, nos limites da competência territorial do órgão prolator, exceto se o pedido for julgado improcedente por insuficiência de provas, hipótese em que qualquer legitimado poderá intentar outra ação com idêntico fundamento, valendo-se de nova prov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 name=""/>
          <p:cNvSpPr/>
          <p:nvPr/>
        </p:nvSpPr>
        <p:spPr>
          <a:xfrm>
            <a:off x="380880" y="4495680"/>
            <a:ext cx="9144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2º-A (vide MP nº 2180-35/200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457200" y="533520"/>
            <a:ext cx="8153280" cy="558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CAPÍTULO VI</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DO MEIO AMBIENTE (Constituição Federa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225. Todos têm direito ao meio ambiente ecologicamente equilibrado, bem de uso comum do povo e essencial à sadia qualidade de vida, impondo-se ao Poder Público e à coletividade o dever de defendê-lo e preservá- lo para as presentes e futuras geraçõe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1º - Para assegurar a efetividade desse direito, incumbe ao Poder Públic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 - preservar e restaurar os processos ecológicos essenciais e prover o manejo ecológico das espécies e ecossistem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I - preservar a diversidade e a integridade do patrimônio genético do País e fiscalizar as entidades dedicadas à pesquisa e manipulação de material genétic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380880" y="609480"/>
            <a:ext cx="8382240" cy="46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II - definir, em todas as unidades da Federação, espaços territoriais e seus componentes a serem especialmente protegidos, sendo a alteração e a supressão permitidas somente através de lei, vedada qualquer utilização que comprometa a integridade dos atributos que justifiquem sua proteção;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V - exigir, na forma da lei, para instalação de obra ou atividade potencialmente causadora de significativa degradação do meio ambiente, estudo prévio de impacto ambiental, a que se dará publicidade;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V - controlar a produção, a comercialização e o emprego de técnicas, métodos e substâncias que comportem risco para a vida, a qualidade de vida e o meio ambien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80880" y="838080"/>
            <a:ext cx="8382240" cy="344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VI - promover a educação ambiental em todos os níveis de ensino e a conscientização pública para a preservação do meio ambien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VII - proteger a fauna e a flora, vedadas, na forma da lei, as práticas que coloquem em risco sua função ecológica, provoquem a extinção de espécies ou submetam os animais a crueldade.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2º - Aquele que explorar recursos minerais fica obrigado a recuperar o meio ambiente degradado, de acordo com solução técnica exigida pelo órgão público competente, na forma da le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8600" y="533520"/>
            <a:ext cx="8572680" cy="46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3º - As condutas e atividades consideradas lesivas ao meio ambiente sujeitarão os infratores, pessoas físicas ou jurídicas, a sanções penais e administrativas, independentemente da obrigação de reparar os danos causado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4º - A Floresta Amazônica brasileira, a Mata Atlântica, a Serra do Mar, o Pantanal Mato-Grossense e a Zona Costeira são patrimônio nacional, e sua utilização far-se-á, na forma da lei, dentro de condições que assegurem a preservação do meio ambiente, inclusive quanto ao uso dos recursos naturai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5º - São indisponíveis as terras devolutas ou arrecadadas pelos Estados, por ações discriminatórias, necessárias à proteção dos ecossistemas natura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533520"/>
            <a:ext cx="8229600" cy="558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6º - As usinas que operem com reator nuclear deverão ter sua localização definida em lei federal, sem o que não poderão ser instalad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__________________</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29. São funções institucionais do Ministério Público: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II - promover o inquérito civil e a ação civil pública, para a proteção do patrimônio público e social, do meio ambiente e de outros interesses difusos e coletivo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VIII - requisitar diligências investigatórias e a instauração de inquérito policial, indicados os fundamentos jurídicos de suas manifestações processuai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1º - A legitimação do Ministério Público para as ações civis previstas neste artigo não impede a de terceiros, nas mesmas hipóteses, segundo o disposto nesta Constituição e na le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419040" y="762120"/>
            <a:ext cx="8305920" cy="378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Da Ordem Econômica e Financeira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CAPÍTULO I</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DOS PRINCÍPIOS GERAIS DA ATIVIDADE ECONÔMIC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70. A ordem econômica, fundada na valorização do trabalho humano e na livre iniciativa, tem por fim assegurar a todos existência digna, conforme os ditames da justiça social, observados os seguintes princípios:</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VI - defesa do meio ambien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380880" y="762120"/>
            <a:ext cx="8382240" cy="344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09. Aos juízes federais compete processar e julgar: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 - as causas em que a União, entidade autárquica ou empresa pública federal forem interessadas na condição de autoras, rés, assistentes ou oponentes, exceto as de falência, as de acidentes de trabalho e as sujeitas à Justiça Eleitoral e à Justiça do Trabalh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I - as causas entre Estado estrangeiro ou organismo internacional e Município ou pessoa domiciliada ou residente no Paí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431640" y="685800"/>
            <a:ext cx="830592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II - as causas fundadas em tratado ou contrato da União com Estado estrangeiro ou organismo internaciona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1º - As causas em que a União for autora serão aforadas na seção judiciária onde tiver domicílio a outra par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2º - As causas intentadas contra a União poderão ser aforadas na seção judiciária em que for domiciliado o autor, naquela onde houver ocorrido o ato ou fato que deu origem à demanda ou onde esteja situada a coisa, ou, ainda, no Distrito Feder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647640" y="914400"/>
            <a:ext cx="784872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23. É competência comum da União, dos Estados, do Distrito Federal e dos Municípi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VI - proteger o meio ambiente e combater a poluição em qualquer de suas forma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VII - preservar as florestas, a fauna e a flor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304920"/>
            <a:ext cx="8229600" cy="649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1º O Ministério Público poderá instaurar, sob sua presidência, inquérito civil, ou requisitar, de qualquer organismo público ou particular, certidões, informações, exames ou perícias, no prazo que assinalar, o qual não poderá ser inferior a 10 (dez) dias útei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2º Somente nos casos em que a lei impuser sigilo, poderá ser negada certidão ou informação, hipótese em que a ação poderá ser proposta desacompanhada daqueles documentos, cabendo ao juiz requisitá-l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9º Se o órgão do Ministério Público, esgotadas todas as diligências, se convencer da inexistência de fundamento para a propositura da ação civil, promoverá o arquivamento dos autos do inquérito civil ou das peças informativas, fazendo-o fundamentadamen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1º Os autos do inquérito civil ou das peças de informação arquivadas serão remetidos, sob pena de se incorrer em falta grave, no prazo de 3 (três) dias, ao Conselho Superior do Ministério Públic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80880" y="685800"/>
            <a:ext cx="8382240" cy="49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CAPÍTULO IV</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DAS FUNÇÕES ESSENCIAIS À JUSTIÇ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Seção 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DO MINISTÉRIO PÚBLIC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27. O Ministério Público é instituição permanente, essencial à função jurisdicional do Estado, incumbindo-lhe a defesa da ordem jurídica, do regime democrático e dos interesses sociais e individuais indisponívei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1º - São princípios institucionais do Ministério Público a unidade, a indivisibilidade e a independência funciona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419040" y="457200"/>
            <a:ext cx="8305920" cy="558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ÍTULO III</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Da Defesa do Consumidor em Juíz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CAPÍTULO I</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Disposições Gerai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81. A defesa dos interesses e direitos dos consumidores e das vítimas poderá ser exercida em juízo individualmente, ou a título coletiv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Parágrafo único. A defesa coletiva será exercida quando se tratar d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 - interesses ou direitos difusos, assim entendidos, para efeitos deste código, os transindividuais, de natureza indivisível, de que sejam titulares pessoas indeterminadas e ligadas por circunstâncias de fato;</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04920" y="304920"/>
            <a:ext cx="8534160" cy="6192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I - interesses ou direitos coletivos, assim entendidos, para efeitos deste código, os transindividuais, de natureza indivisível de que seja titular grupo, categoria ou classe de pessoas ligadas entre si ou com a parte contrária por uma relação jurídica bas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II - interesses ou direitos individuais homogêneos, assim entendidos os decorrentes de origem comum.</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Times New Roman"/>
              </a:rPr>
              <a:t>Art. 82. </a:t>
            </a:r>
            <a:r>
              <a:rPr b="0" lang="en-US" sz="2000" spc="-1" strike="noStrike">
                <a:solidFill>
                  <a:srgbClr val="0000ff"/>
                </a:solidFill>
                <a:latin typeface="Verdana"/>
                <a:ea typeface="Times New Roman"/>
              </a:rPr>
              <a:t>Para os fins do art. 81, parágrafo único, são legitimados concorrentemente: </a:t>
            </a:r>
            <a:r>
              <a:rPr b="1" i="1" lang="en-US" sz="2000" spc="-1" strike="noStrike">
                <a:solidFill>
                  <a:srgbClr val="000000"/>
                </a:solidFill>
                <a:latin typeface="Verdana"/>
                <a:ea typeface="Times New Roman"/>
              </a:rPr>
              <a:t>(Redação dada pela Lei nº 9.008, de 21.3.1995)</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 - o Ministério Públic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I - a União, os Estados, os Municípios e o Distrito Federa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II - as entidades e órgãos da Administração Pública, direta ou indireta, ainda que sem personalidade jurídica, especificamente destinados à defesa dos interesses e direitos protegidos por este códig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80880" y="304920"/>
            <a:ext cx="8305920" cy="588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V - as associações legalmente constituídas há pelo menos um ano e que incluam entre seus fins institucionais a defesa dos interesses e direitos protegidos por este código, dispensada a autorização assemblea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1° O requisito da pré-constituição pode ser dispensado pelo juiz, nas ações previstas nos arts. 91 e seguintes, quando haja manifesto interesse social evidenciado pela dimensão ou característica do dano, ou pela relevância do bem jurídico a ser protegi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2° (Veta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3° (Veta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83. Para a defesa dos direitos e interesses protegidos por este código são admissíveis todas as espécies de ações capazes de propiciar sua adequada e efetiva tutel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Parágrafo único. (Veta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419040" y="380880"/>
            <a:ext cx="8305920" cy="527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84. Na ação que tenha por objeto o cumprimento da obrigação de fazer ou não fazer, o juiz concederá a tutela específica da obrigação ou determinará providências que assegurem o resultado prático equivalente ao do adimplement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1° A conversão da obrigação em perdas e danos somente será admissível se por elas optar o autor ou se impossível a tutela específica ou a obtenção do resultado prático corresponden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2° A indenização por perdas e danos se fará sem prejuízo da multa (art. 287, do Código de Processo Civi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3° Sendo relevante o fundamento da demanda e havendo justificado receio de ineficácia do provimento final, é lícito ao juiz conceder a tutela liminarmente ou após justificação prévia, citado o ré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80880" y="685800"/>
            <a:ext cx="8382240" cy="46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4° O juiz poderá, na hipótese do § 3° ou na sentença, impor multa diária ao réu, independentemente de pedido do autor, se for suficiente ou compatível com a obrigação, fixando prazo razoável para o cumprimento do preceit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5° Para a tutela específica ou para a obtenção do resultado prático equivalente, poderá o juiz determinar as medidas necessárias, tais como busca e apreensão, remoção de coisas e pessoas, desfazimento de obra, impedimento de atividade nociva, além de requisição de força policia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85. (Veta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86. (Vet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431640" y="457200"/>
            <a:ext cx="8305920" cy="527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87. Nas ações coletivas de que trata este código não haverá adiantamento de custas, emolumentos, honorários periciais e quaisquer outras despesas, nem condenação da associação autora, salvo comprovada má-fé, em honorários de advogados, custas e despesas processuai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Parágrafo único. Em caso de litigância de má-fé, a associação autora e os diretores responsáveis pela propositura da ação serão solidariamente condenados em honorários advocatícios e ao décuplo das custas, sem prejuízo da responsabilidade por perdas e dan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88. Na hipótese do art. 13, parágrafo único deste código, a ação de regresso poderá ser ajuizada em processo autônomo, facultada a possibilidade de prosseguir-se nos mesmos autos, vedada a denunciação da li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457200" y="380880"/>
            <a:ext cx="8229600" cy="588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89. (Veta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90. Aplicam-se às ações previstas neste título as normas do Código de Processo Civil e da Lei n° 7.347, de 24 de julho de 1985, inclusive no que respeita ao inquérito civil, naquilo que não contrariar suas disposições. civil, naquilo que não contrariar suas disposiçõ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CAPÍTULO II</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Das Ações Coletivas Para a Defesa de Interesses Individuais Homogêne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Times New Roman"/>
              </a:rPr>
              <a:t>Art. 91</a:t>
            </a:r>
            <a:r>
              <a:rPr b="0" lang="en-US" sz="2000" spc="-1" strike="noStrike">
                <a:solidFill>
                  <a:srgbClr val="0000ff"/>
                </a:solidFill>
                <a:latin typeface="Verdana"/>
                <a:ea typeface="Times New Roman"/>
              </a:rPr>
              <a:t>. Os legitimados de que trata o art. 82 poderão propor, em nome próprio e no interesse das vítimas ou seus sucessores, ação civil coletiva de responsabilidade pelos danos individualmente sofridos, de acordo com o disposto nos artigos seguintes.</a:t>
            </a:r>
            <a:r>
              <a:rPr b="0" i="1" lang="en-US" sz="2000" spc="-1" strike="noStrike">
                <a:solidFill>
                  <a:srgbClr val="0000ff"/>
                </a:solidFill>
                <a:latin typeface="Verdana"/>
                <a:ea typeface="Times New Roman"/>
              </a:rPr>
              <a:t> </a:t>
            </a:r>
            <a:r>
              <a:rPr b="1" i="1" lang="en-US" sz="2000" spc="-1" strike="noStrike">
                <a:solidFill>
                  <a:srgbClr val="000000"/>
                </a:solidFill>
                <a:latin typeface="Verdana"/>
                <a:ea typeface="Times New Roman"/>
              </a:rPr>
              <a:t>(Redação dada pela Lei nº 9.008, de 21.3.199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380880" y="254160"/>
            <a:ext cx="8382240" cy="6192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92. O Ministério Público, se não ajuizar a ação, atuará sempre como fiscal da lei.</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Parágrafo único. (Veta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93. Ressalvada a competência da Justiça Federal, é competente para a causa a justiça loca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 - no foro do lugar onde ocorreu ou deva ocorrer o dano, quando de âmbito loca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I - no foro da Capital do Estado ou no do Distrito Federal, para os danos de âmbito nacional ou regional, aplicando-se as regras do Código de Processo Civil aos casos de competência concorren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94. Proposta a ação, será publicado edital no órgão oficial, a fim de que os interessados possam intervir no processo como litisconsortes, sem prejuízo de ampla divulgação pelos meios de comunicação social por parte dos órgãos de defesa do consumid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04920" y="380880"/>
            <a:ext cx="8534160" cy="527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95. Em caso de procedência do pedido, a condenação será genérica, fixando a responsabilidade do réu pelos danos causad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96. (Veta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97. A liquidação e a execução de sentença poderão ser promovidas pela vítima e seus sucessores, assim como pelos legitimados de que trata o art. 82.</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Parágrafo único. (Veta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Times New Roman"/>
              </a:rPr>
              <a:t>Art. 98.</a:t>
            </a:r>
            <a:r>
              <a:rPr b="0" lang="en-US" sz="2000" spc="-1" strike="noStrike">
                <a:solidFill>
                  <a:srgbClr val="0000ff"/>
                </a:solidFill>
                <a:latin typeface="Verdana"/>
                <a:ea typeface="Times New Roman"/>
              </a:rPr>
              <a:t> A execução poderá ser coletiva, sendo promovida pelos legitimados de que trata o art. 82, abrangendo as vítimas cujas indenizações já tiveram sido fixadas em sentença de liquidação, sem prejuízo do ajuizamento de outras execuções.</a:t>
            </a:r>
            <a:r>
              <a:rPr b="0" i="1" lang="en-US" sz="2000" spc="-1" strike="noStrike">
                <a:solidFill>
                  <a:srgbClr val="0000ff"/>
                </a:solidFill>
                <a:latin typeface="Verdana"/>
                <a:ea typeface="Times New Roman"/>
              </a:rPr>
              <a:t> </a:t>
            </a:r>
            <a:r>
              <a:rPr b="1" i="1" lang="en-US" sz="2000" spc="-1" strike="noStrike">
                <a:solidFill>
                  <a:srgbClr val="000000"/>
                </a:solidFill>
                <a:latin typeface="Verdana"/>
                <a:ea typeface="Times New Roman"/>
              </a:rPr>
              <a:t>(Redação dada pela Lei nº 9.008, de 21.3.199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04920" y="442800"/>
            <a:ext cx="8305560" cy="6192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2º Até que, em sessão do Conselho Superior do Ministério Público, seja homologada ou rejeitada a promoção de arquivamento, poderão as associações legitimadas apresentar razões escritas ou documentos, que serão juntados aos autos do inquérito ou anexados às peças de informaçã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3º A promoção de arquivamento será submetida a exame e deliberação do Conselho Superior do Ministério Público, conforme dispuser o seu Regiment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4º Deixando o Conselho Superior de homologar a promoção de arquivamento, designará, desde logo, outro órgão do Ministério Público para o ajuizamento da açã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0. Constitui crime, punido com pena de reclusão de 1 (um) a 3 (três) anos, mais multa de 10 (dez) a 1.000 (mil) Obrigações Reajustáveis do Tesouro Nacional - ORTN, a recusa, o retardamento ou a omissão de dados técnicos indispensáveis à propositura da ação civil, quando requisitados pelo Ministério Públic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457200" y="838080"/>
            <a:ext cx="8229600" cy="46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1° A execução coletiva far-se-á com base em certidão das sentenças de liquidação, da qual deverá constar a ocorrência ou não do trânsito em julga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2° É competente para a execução o juíz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 - da liquidação da sentença ou da ação condenatória, no caso de execução individua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I - da ação condenatória, quando coletiva a execuçã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99. Em caso de concurso de créditos decorrentes de condenação prevista na Lei n.° 7.347, de 24 de julho de 1985 e de indenizações pelos prejuízos individuais resultantes do mesmo evento danoso, estas terão preferência no pagamento.</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19040" y="533520"/>
            <a:ext cx="830592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Parágrafo único. Para efeito do disposto neste artigo, a destinação da importância recolhida ao fundo criado pela Lei n°7.347 de 24 de julho de 1985, ficará sustada enquanto pendentes de decisão de segundo grau as ações de indenização pelos danos individuais, salvo na hipótese de o patrimônio do devedor ser manifestamente suficiente para responder pela integralidade das dívid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00. Decorrido o prazo de um ano sem habilitação de interessados em número compatível com a gravidade do dano, poderão os legitimados do art. 82 promover a liquidação e execução da indenização devid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Parágrafo único. O produto da indenização devida reverterá para o fundo criado pela Lei n.° 7.347, de 24 de julho de 198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57200" y="76320"/>
            <a:ext cx="8305920" cy="637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CAPÍTULO III</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Das Ações de Responsabilidade do Fornecedor de Produtos e Serviç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01. Na ação de responsabilidade civil do fornecedor de produtos e serviços, sem prejuízo do disposto nos Capítulos I e II deste título, serão observadas as seguintes norm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 - a ação pode ser proposta no domicílio do au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I - o réu que houver contratado seguro de responsabilidade poderá chamar ao processo o segurador, vedada a integração do contraditório pelo Instituto de Resseguros do Brasil. Nesta hipótese, a sentença que julgar procedente o pedido condenará o réu nos termos do art. 80 do Código de Processo Civil. Se o réu houver sido declarado falido, o síndico será intimado a informar a existência de seguro de responsabilidade, facultando-se, em caso afirmativo, o ajuizamento de ação de indenização diretamente contra o segurador, vedada a denunciação da lide ao Instituto de Resseguros do Brasil e dispensado o litisconsórcio obrigatório com est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80880" y="736560"/>
            <a:ext cx="838224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02. Os legitimados a agir na forma deste código poderão propor ação visando compelir o Poder Público competente a proibir, em todo o território nacional, a produção, divulgação distribuição ou venda, ou a determinar a alteração na composição, estrutura, fórmula ou acondicionamento de produto, cujo uso ou consumo regular se revele nocivo ou perigoso à saúde pública e à incolumidade pessoa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1° (Veta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2° (Vet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04920" y="533520"/>
            <a:ext cx="8534160" cy="527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CAPÍTULO IV</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Da Coisa Julgad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03. Nas ações coletivas de que trata este código, a sentença fará coisa julgad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 - erga omnes, exceto se o pedido for julgado improcedente por insuficiência de provas, hipótese em que qualquer legitimado poderá intentar outra ação, com idêntico fundamento valendo-se de nova prova, na hipótese do inciso I do parágrafo único do art. 81;</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I - ultra partes, mas limitadamente ao grupo, categoria ou classe, salvo improcedência por insuficiência de provas, nos termos do inciso anterior, quando se tratar da hipótese prevista no inciso II do parágrafo único do art. 8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571680" y="838080"/>
            <a:ext cx="800100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II - erga omnes, apenas no caso de procedência do pedido, para beneficiar todas as vítimas e seus sucessores, na hipótese do inciso III do parágrafo único do art. 81.</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1° Os efeitos da coisa julgada previstos nos incisos I e II não prejudicarão interesses e direitos individuais dos integrantes da coletividade, do grupo, categoria ou clas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2° Na hipótese prevista no inciso III, em caso de improcedência do pedido, os interessados que não tiverem intervindo no processo como litisconsortes poderão propor ação de indenização a título individual.</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304920" y="365040"/>
            <a:ext cx="8458200" cy="558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3° Os efeitos da coisa julgada de que cuida o art. 16, combinado com o art. 13 da Lei n° 7.347, de 24 de julho de 1985, não prejudicarão as ações de indenização por danos pessoalmente sofridos, propostas individualmente ou na forma prevista neste código, mas, se procedente o pedido, beneficiarão as vítimas e seus sucessores, que poderão proceder à liquidação e à execução, nos termos dos arts. 96 a 99.</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4º Aplica-se o disposto no parágrafo anterior à sentença penal condenatór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04. As ações coletivas, previstas nos incisos I e II e do parágrafo único do art. 81, não induzem litispendência para as ações individuais, mas os efeitos da coisa julgada erga omnes ou ultra partes a que aludem os incisos II e III do artigo anterior não beneficiarão os autores das ações individuais, se não for requerida sua suspensão no prazo de trinta dias, a contar da ciência nos autos do ajuizamento da ação coletiva.</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279360" y="812880"/>
            <a:ext cx="8610480" cy="49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ÍTULO IV</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Do Sistema Nacional de Defesa do Consumido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05. Integram o Sistema Nacional de Defesa do Consumidor (SNDC), os órgãos federais, estaduais, do Distrito Federal e municipais e as entidades privadas de defesa do consumido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06. O Departamento Nacional de Defesa do Consumidor, da Secretaria Nacional de Direito Econômico (MJ), ou órgão federal que venha substituí-lo, é organismo de coordenação da política do Sistema Nacional de Defesa do Consumidor, cabendo-lh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 - planejar, elaborar, propor, coordenar e executar a política nacional de proteção ao consumid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57200" y="406440"/>
            <a:ext cx="8153280" cy="527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I - receber, analisar, avaliar e encaminhar consultas, denúncias ou sugestões apresentadas por entidades representativas ou pessoas jurídicas de direito público ou priva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II - prestar aos consumidores orientação permanente sobre seus direitos e garanti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V - informar, conscientizar e motivar o consumidor através dos diferentes meios de comunicaçã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V - solicitar à polícia judiciária a instauração de inquérito policial para a apreciação de delito contra os consumidores, nos termos da legislação vigen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VI - representar ao Ministério Público competente para fins de adoção de medidas processuais no âmbito de suas atribuiçõ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380880" y="152280"/>
            <a:ext cx="8229600" cy="6192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VII - levar ao conhecimento dos órgãos competentes as infrações de ordem administrativa que violarem os interesses difusos, coletivos, ou individuais dos consumidor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VIII - solicitar o concurso de órgãos e entidades da União, Estados, do Distrito Federal e Municípios, bem como auxiliar a fiscalização de preços, abastecimento, quantidade e segurança de bens e serviç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X - incentivar, inclusive com recursos financeiros e outros programas especiais, a formação de entidades de defesa do consumidor pela população e pelos órgãos públicos estaduais e municipai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X - (Veta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XI - (Veta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XII - (Vet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80880" y="380880"/>
            <a:ext cx="8458200" cy="558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1. Na ação que tenha por objeto o cumprimento de obrigação de fazer ou não fazer, o juiz determinará o cumprimento da prestação da atividade devida ou a cessação da atividade nociva, sob pena de execução específica, ou de cominação de multa diária, se esta for suficiente ou compatível, independentemente de requerimento do auto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2. Poderá o juiz conceder mandado liminar, com ou sem justificação prévia, em decisão sujeita a agrav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1º A requerimento de pessoa jurídica de direito público interessada, e para evitar grave lesão à ordem, à saúde, à segurança e à economia pública, poderá o Presidente do Tribunal a que competir o conhecimento do respectivo recurso suspender a execução da liminar, em decisão fundamentada, da qual caberá agravo para uma das turmas julgadoras, no prazo de 5 (cinco) dias a partir da publicação do a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04920" y="304920"/>
            <a:ext cx="8534160" cy="558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XIII - desenvolver outras atividades compatíveis com suas finalidad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Parágrafo único. Para a consecução de seus objetivos, o Departamento Nacional de Defesa do Consumidor poderá solicitar o concurso de órgãos e entidades de notória especialização técnico-científic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ÍTULO V</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Da Convenção Coletiva de Consum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07. As entidades civis de consumidores e as associações de fornecedores ou sindicatos de categoria econômica podem regular, por convenção escrita, relações de consumo que tenham por objeto estabelecer condições relativas ao preço, à qualidade, à quantidade, à garantia e características de produtos e serviços, bem como à reclamação e composição do conflito de consum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380880" y="304920"/>
            <a:ext cx="8382240" cy="6192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1° A convenção tornar-se-á obrigatória a partir do registro do instrumento no cartório de títulos e document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2° A convenção somente obrigará os filiados às entidades signatári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3° Não se exime de cumprir a convenção o fornecedor que se desligar da entidade em data posterior ao registro do instrument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08. (Veta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ÍTULO VI</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Disposições Finai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09. (Veta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10. Acrescente-se o seguinte inciso IV ao art. 1° da Lei n° 7.347, de 24 de julho de 198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43080" y="685800"/>
            <a:ext cx="8458200" cy="527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V - a qualquer outro interesse difuso ou coletiv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11. O inciso II do art. 5° da Lei n° 7.347, de 24 de julho de 1985, passa a ter a seguinte redaçã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I - inclua, entre suas finalidades institucionais, a proteção ao meio ambiente, ao consumidor, ao patrimônio artístico, estético, histórico, turístico e paisagístico, ou a qualquer outro interesse difuso ou coletiv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12. O § 3° do art. 5° da Lei n° 7.347, de 24 de julho de 1985, passa a ter a seguinte redaçã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3° Em caso de desistência infundada ou abandono da ação por associação legitimada, o Ministério Público ou outro legitimado assumirá a titularidade ativ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380880" y="533520"/>
            <a:ext cx="8382240" cy="527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13. Acrescente-se os seguintes §§ 4°, 5° e 6° ao art. 5º. da Lei n.° 7.347, de 24 de julho de 1985:</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4.° O requisito da pré-constituição poderá ser dispensado pelo juiz, quando haja manifesto interesse social evidenciado pela dimensão ou característica do dano, ou pela relevância do bem jurídico a ser protegi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5.° Admitir-se-á o litisconsórcio facultativo entre os Ministérios Públicos da União, do Distrito Federal e dos Estados na defesa dos interesses e direitos de que cuida esta lei.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6° Os órgãos públicos legitimados poderão tomar dos interessados compromisso de ajustamento de sua conduta às exigências legais, mediante combinações, que terá eficácia de título executivo extrajudici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533520" y="609480"/>
            <a:ext cx="8076960" cy="527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14. O art. 15 da Lei n° 7.347, de 24 de julho de 1985, passa a ter a seguinte redaçã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5. Decorridos sessenta dias do trânsito em julgado da sentença condenatória, sem que a associação autora lhe promova a execução, deverá fazê-lo o Ministério Público, facultada igual iniciativa aos demais legitimad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15. Suprima-se o caput do art. 17 da Lei n° 7.347, de 24 de julho de 1985, passando o parágrafo único a constituir o caput, com a seguinte redaçã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7. Em caso de litigância de má-fé, a dan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16. Dê-se a seguinte redação ao art. 18 da Lei n° 7.347, de 24 de julho de 198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343080" y="533520"/>
            <a:ext cx="8458200" cy="46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8. Nas ações de que trata esta lei, não haverá adiantamento de custas, emolumentos, honorários periciais e quaisquer outras despesas, nem condenação da associação autora, salvo comprovada má-fé, em honorários de advogado, custas e despesas processuai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17. Acrescente-se à Lei n° 7.347, de 24 de julho de 1985, o seguinte dispositivo, renumerando-se os seguint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21. Aplicam-se à defesa dos direitos e interesses difusos, coletivos e individuais, no que for cabível, os dispositivos do Título III da lei que instituiu o Código de Defesa do Consumido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18. Este código entrará em vigor dentro de cento e oitenta dias a contar de sua publicaçã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380880" y="838080"/>
            <a:ext cx="8382240" cy="344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rt. 119. Revogam-se as disposições em contrári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Brasília, 11 de setembro de 1990; 169° da Independência e 102° da Repúblic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FERNANDO COLLOR</a:t>
            </a:r>
            <a:br>
              <a:rPr sz="2000"/>
            </a:br>
            <a:r>
              <a:rPr b="0" i="1" lang="en-US" sz="2000" spc="-1" strike="noStrike">
                <a:solidFill>
                  <a:srgbClr val="000000"/>
                </a:solidFill>
                <a:latin typeface="Verdana"/>
                <a:ea typeface="Times New Roman"/>
              </a:rPr>
              <a:t>Bernardo Cabral </a:t>
            </a:r>
            <a:br>
              <a:rPr sz="2000"/>
            </a:br>
            <a:r>
              <a:rPr b="0" i="1" lang="en-US" sz="2000" spc="-1" strike="noStrike">
                <a:solidFill>
                  <a:srgbClr val="000000"/>
                </a:solidFill>
                <a:latin typeface="Verdana"/>
                <a:ea typeface="Times New Roman"/>
              </a:rPr>
              <a:t>Zélia M. Cardoso de Mello </a:t>
            </a:r>
            <a:br>
              <a:rPr sz="2000"/>
            </a:br>
            <a:r>
              <a:rPr b="0" i="1" lang="en-US" sz="2000" spc="-1" strike="noStrike">
                <a:solidFill>
                  <a:srgbClr val="000000"/>
                </a:solidFill>
                <a:latin typeface="Verdana"/>
                <a:ea typeface="Times New Roman"/>
              </a:rPr>
              <a:t>Ozires Silva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Times New Roman"/>
              </a:rPr>
              <a:t>Este texto não substitui o publicado no D.O.U. de 12.9.199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343080" y="380880"/>
            <a:ext cx="8458200" cy="4726440"/>
          </a:xfrm>
          <a:prstGeom prst="rect">
            <a:avLst/>
          </a:prstGeom>
          <a:noFill/>
          <a:ln w="0">
            <a:noFill/>
          </a:ln>
        </p:spPr>
        <p:style>
          <a:lnRef idx="0"/>
          <a:fillRef idx="0"/>
          <a:effectRef idx="0"/>
          <a:fontRef idx="minor"/>
        </p:style>
        <p:txBody>
          <a:bodyPr lIns="90000" rIns="90000" tIns="46800" bIns="46800" anchor="t">
            <a:spAutoFit/>
          </a:bodyPr>
          <a:p>
            <a:pPr algn="ctr">
              <a:lnSpc>
                <a:spcPct val="13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DIDA PROVISÓRIA N</a:t>
            </a:r>
            <a:r>
              <a:rPr b="1" lang="en-US" sz="2000" spc="-1" strike="noStrike" baseline="30000">
                <a:solidFill>
                  <a:srgbClr val="000000"/>
                </a:solidFill>
                <a:latin typeface="Arial"/>
                <a:ea typeface="Times New Roman"/>
              </a:rPr>
              <a:t>o</a:t>
            </a:r>
            <a:r>
              <a:rPr b="1" lang="en-US" sz="2000" spc="-1" strike="noStrike">
                <a:solidFill>
                  <a:srgbClr val="000000"/>
                </a:solidFill>
                <a:latin typeface="Arial"/>
                <a:ea typeface="Times New Roman"/>
              </a:rPr>
              <a:t> 2.163-41, DE 23 DE AGOSTO 2001.</a:t>
            </a:r>
            <a:endParaRPr b="0" lang="en-US" sz="2000" spc="-1" strike="noStrike">
              <a:solidFill>
                <a:srgbClr val="000000"/>
              </a:solidFill>
              <a:latin typeface="Times New Roman"/>
            </a:endParaRPr>
          </a:p>
          <a:p>
            <a:pPr algn="ctr">
              <a:lnSpc>
                <a:spcPct val="13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3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crescenta dispositivo à Lei n</a:t>
            </a:r>
            <a:r>
              <a:rPr b="0" lang="en-US" sz="2000" spc="-1" strike="noStrike" u="sng" baseline="30000">
                <a:solidFill>
                  <a:srgbClr val="000000"/>
                </a:solidFill>
                <a:uFillTx/>
                <a:latin typeface="Arial"/>
                <a:ea typeface="Times New Roman"/>
              </a:rPr>
              <a:t>o</a:t>
            </a:r>
            <a:r>
              <a:rPr b="0" lang="en-US" sz="2000" spc="-1" strike="noStrike">
                <a:solidFill>
                  <a:srgbClr val="000000"/>
                </a:solidFill>
                <a:latin typeface="Arial"/>
                <a:ea typeface="Times New Roman"/>
              </a:rPr>
              <a:t> 9.605, de 12 de fevereiro de 1998, que dispõe sobre as sanções penais e administrativas derivadas de condutas e atividades lesivas ao meio ambiente.</a:t>
            </a:r>
            <a:endParaRPr b="0" lang="en-US" sz="2000" spc="-1" strike="noStrike">
              <a:solidFill>
                <a:srgbClr val="000000"/>
              </a:solidFill>
              <a:latin typeface="Times New Roman"/>
            </a:endParaRPr>
          </a:p>
          <a:p>
            <a:pPr algn="just">
              <a:lnSpc>
                <a:spcPct val="13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 PRESIDENTE DA REPÚBLICA,</a:t>
            </a:r>
            <a:r>
              <a:rPr b="0" lang="en-US" sz="2000" spc="-1" strike="noStrike">
                <a:solidFill>
                  <a:srgbClr val="000000"/>
                </a:solidFill>
                <a:latin typeface="Arial"/>
                <a:ea typeface="Times New Roman"/>
              </a:rPr>
              <a:t> no uso da atribuição que lhe confere o art. 62 da Constituição, adota a seguinte Medida Provisória, com força de lei:</a:t>
            </a:r>
            <a:endParaRPr b="0" lang="en-US" sz="20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rt. 1</a:t>
            </a:r>
            <a:r>
              <a:rPr b="0" lang="en-US" sz="2000" spc="-1" strike="noStrike" u="sng" baseline="30000">
                <a:solidFill>
                  <a:srgbClr val="000000"/>
                </a:solidFill>
                <a:uFillTx/>
                <a:latin typeface="Arial"/>
                <a:ea typeface="Times New Roman"/>
              </a:rPr>
              <a:t>o</a:t>
            </a:r>
            <a:r>
              <a:rPr b="0" lang="en-US" sz="2000" spc="-1" strike="noStrike">
                <a:solidFill>
                  <a:srgbClr val="000000"/>
                </a:solidFill>
                <a:latin typeface="Arial"/>
                <a:ea typeface="Times New Roman"/>
              </a:rPr>
              <a:t> A Lei n</a:t>
            </a:r>
            <a:r>
              <a:rPr b="0" lang="en-US" sz="2000" spc="-1" strike="noStrike" u="sng" baseline="30000">
                <a:solidFill>
                  <a:srgbClr val="000000"/>
                </a:solidFill>
                <a:uFillTx/>
                <a:latin typeface="Arial"/>
                <a:ea typeface="Times New Roman"/>
              </a:rPr>
              <a:t>o</a:t>
            </a:r>
            <a:r>
              <a:rPr b="0" lang="en-US" sz="2000" spc="-1" strike="noStrike">
                <a:solidFill>
                  <a:srgbClr val="000000"/>
                </a:solidFill>
                <a:latin typeface="Arial"/>
                <a:ea typeface="Times New Roman"/>
              </a:rPr>
              <a:t> 9.605, de 12 de fevereiro de 1998, passa a vigorar acrescida do seguinte artig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80880" y="946080"/>
            <a:ext cx="8305920" cy="4237560"/>
          </a:xfrm>
          <a:prstGeom prst="rect">
            <a:avLst/>
          </a:prstGeom>
          <a:noFill/>
          <a:ln w="0">
            <a:noFill/>
          </a:ln>
        </p:spPr>
        <p:style>
          <a:lnRef idx="0"/>
          <a:fillRef idx="0"/>
          <a:effectRef idx="0"/>
          <a:fontRef idx="minor"/>
        </p:style>
        <p:txBody>
          <a:bodyPr lIns="90000" rIns="90000" tIns="46800" bIns="46800" anchor="t">
            <a:spAutoFit/>
          </a:bodyPr>
          <a:p>
            <a:pPr algn="just">
              <a:lnSpc>
                <a:spcPct val="13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rt. 79-A. Para o cumprimento do disposto nesta Lei, os órgãos ambientais integrantes do SISNAMA, responsáveis pela execução de programas e projetos e pelo controle e fiscalização dos estabelecimentos e das atividades suscetíveis de degradarem a qualidade ambiental, ficam autorizados a celebrar, com força de título executivo extrajudicial, termo de compromisso com pessoas físicas ou jurídicas responsáveis pela construção, instalação, ampliação e funcionamento de estabelecimentos e atividades utilizadores de recursos ambientais, considerados efetiva ou potencialmente poluido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228600" y="533520"/>
            <a:ext cx="8686800" cy="47365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1</a:t>
            </a:r>
            <a:r>
              <a:rPr b="0" lang="en-US" sz="2000" spc="-1" strike="noStrike" u="sng" baseline="30000">
                <a:solidFill>
                  <a:srgbClr val="000000"/>
                </a:solidFill>
                <a:uFillTx/>
                <a:latin typeface="Arial"/>
                <a:ea typeface="Times New Roman"/>
              </a:rPr>
              <a:t>o</a:t>
            </a:r>
            <a:r>
              <a:rPr b="0" lang="en-US" sz="2000" spc="-1" strike="noStrike">
                <a:solidFill>
                  <a:srgbClr val="000000"/>
                </a:solidFill>
                <a:latin typeface="Arial"/>
                <a:ea typeface="Times New Roman"/>
              </a:rPr>
              <a:t> O termo de compromisso a que se refere este artigo destinar-se-á, exclusivamente, a permitir que as pessoas físicas e jurídicas mencionadas no </a:t>
            </a:r>
            <a:r>
              <a:rPr b="1" lang="en-US" sz="2000" spc="-1" strike="noStrike">
                <a:solidFill>
                  <a:srgbClr val="000000"/>
                </a:solidFill>
                <a:latin typeface="Arial"/>
                <a:ea typeface="Times New Roman"/>
              </a:rPr>
              <a:t>caput</a:t>
            </a:r>
            <a:r>
              <a:rPr b="0" lang="en-US" sz="2000" spc="-1" strike="noStrike">
                <a:solidFill>
                  <a:srgbClr val="000000"/>
                </a:solidFill>
                <a:latin typeface="Arial"/>
                <a:ea typeface="Times New Roman"/>
              </a:rPr>
              <a:t> possam promover as necessárias correções de suas atividades, para o atendimento das exigências impostas pelas autoridades ambientais competentes, sendo obrigatório que o respectivo instrumento disponha sobre:</a:t>
            </a:r>
            <a:endParaRPr b="0" lang="en-US" sz="2000" spc="-1" strike="noStrike">
              <a:solidFill>
                <a:srgbClr val="000000"/>
              </a:solidFill>
              <a:latin typeface="Times New Roman"/>
            </a:endParaRPr>
          </a:p>
          <a:p>
            <a:pPr algn="just">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 - o nome, a qualificação e o endereço das partes compromissadas e dos respectivos representantes legais; </a:t>
            </a:r>
            <a:endParaRPr b="0" lang="en-US" sz="2000" spc="-1" strike="noStrike">
              <a:solidFill>
                <a:srgbClr val="000000"/>
              </a:solidFill>
              <a:latin typeface="Times New Roman"/>
            </a:endParaRPr>
          </a:p>
          <a:p>
            <a:pPr algn="just">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I - o prazo de vigência do compromisso, que, em função da complexidade das obrigações nele fixadas, poderá variar entre o mínimo de noventa dias e o máximo de três anos, com possibilidade de prorrogação por igual perío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0T12:49:39Z</dcterms:created>
  <dc:creator>PDM</dc:creator>
  <dc:description/>
  <dc:language>en-US</dc:language>
  <cp:lastModifiedBy>Acs.Net Ltda.</cp:lastModifiedBy>
  <cp:lastPrinted>2002-03-21T22:15:21Z</cp:lastPrinted>
  <dcterms:modified xsi:type="dcterms:W3CDTF">2005-03-27T16:38:44Z</dcterms:modified>
  <cp:revision>31</cp:revision>
  <dc:subject/>
  <dc:title>Apresentação do PowerPoint</dc:title>
</cp:coreProperties>
</file>