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A99-B22B-409F-8B29-3C3D0460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2E3-9F14-4FC4-A0DD-D755883D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B9F-776B-4238-88CA-9F3D6E24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099-88B9-485A-A427-31CF9C91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12D-8529-4895-AAA0-EBA0E5B9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C76-B5FB-43D3-9793-79759E95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7003-31D1-4B6E-B0D5-CE3A1D55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8EE-F64E-4514-A106-4F1B8779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14E5-F011-4576-B363-DA98DD8A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4B2-C284-499D-9BF6-8852071A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E8C4-C3A0-4334-ABD4-AA96DBD2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54B1-2925-4C03-AA8C-3AF5B51C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FE25-8D99-4AD5-A1DD-410FD6270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1625400"/>
            <a:ext cx="594360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CKERNEL – DESIGN AND IMPLEMENTATION OF NEW CPU SCHEDULING ALGORITHMS IN LINUX</a:t>
            </a:r>
            <a:br>
              <a:rPr sz="3200"/>
            </a:b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240" y="4165200"/>
            <a:ext cx="61722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U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t Professor G.Agh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.Sarn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Sri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Sri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57680" y="1320840"/>
            <a:ext cx="119988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3040" y="3352680"/>
            <a:ext cx="1143000" cy="1015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314360" y="1523880"/>
            <a:ext cx="16002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4560" y="3352680"/>
            <a:ext cx="114300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3556080"/>
            <a:ext cx="131436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57560" y="1523880"/>
            <a:ext cx="2114640" cy="203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885680" y="3962520"/>
            <a:ext cx="1028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057560" y="4064040"/>
            <a:ext cx="1200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57680" y="6095880"/>
            <a:ext cx="1371600" cy="82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229280" y="4673520"/>
            <a:ext cx="2000160" cy="1930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1142640" y="4673520"/>
            <a:ext cx="171468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NHANCEM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 CPU and I/O factors can be fixed dynamically depending upon the nature of job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nference could be made from the history data coll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ERATING SYSTEMS’ PRINCIPLE ON SCHEDU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17272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process that engages the CPU for long must be given lesser pre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process that relinquishes CPU often waiting for I/O should be given more prefere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14440" y="1625760"/>
            <a:ext cx="5829120" cy="65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scheduling algorithms are designed ,  implemented and tes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nd Robin with different time sl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AIRALL scheduli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CKERNEL scheduling algorith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ISTING SCHEDULING ALGORITHM IN LIN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4440" y="14223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rocess  is given a time slice to run.Any process which exhausts it faster has to wait for a longer period of time , until other processes come in p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implemented with a field called counter which gets decremented once for each clock tick for a running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ve point :  Abides  the O.S.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ve point  :under heavy loads of cpu jobs it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fails to prioritize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 ALL SCHEDU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9600" y="1727280"/>
            <a:ext cx="5829480" cy="74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ic equation for this scheduling algorithm 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ve time =  time since last schedule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code execution time in i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schedul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ve po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r treatment to I/O and CPU jo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ve point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gets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9600" y="-3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CKERNEL SCHEDU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1320480"/>
            <a:ext cx="5829120" cy="78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neric equation for this algorithm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ve time = time since last  schedule 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factor  +  time not in  runq  * io factor - accumulated  code executio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e points :prioritizes I/O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changing of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ve points  : The cpu factor and io fac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should be manually tu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71100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STEM CALL IMPLE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2742840"/>
            <a:ext cx="5829120" cy="78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nipulate the CPU and  I/O   factors by the system  administrator we ‘ve implemented  2  system calls in Linu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get_factors (int * , int *)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set_factors (int , int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600084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STORY OF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582948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llect information about a process when it exits and store the reqd  info in a hash table in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on the system shutting down, the hash table entries are  transferred  to a file in the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each bootup the hash table is reconstructed from the history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purpose of this history file is to understand the nature of each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STING ROUT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time for each process is calculated as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time = total time in runq - CPU usa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devised an automated testing routine for analyzing the performance of various kernels under different job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9T19:10:17Z</dcterms:created>
  <dc:creator>sarnath</dc:creator>
  <dc:description/>
  <dc:language>en-US</dc:language>
  <cp:lastModifiedBy>sarnath</cp:lastModifiedBy>
  <cp:lastPrinted>2000-04-09T21:45:24Z</cp:lastPrinted>
  <dcterms:modified xsi:type="dcterms:W3CDTF">2000-04-09T21:48:26Z</dcterms:modified>
  <cp:revision>64</cp:revision>
  <dc:subject/>
  <dc:title>HACKERNEL – DESIGN AND IMPLEMENTATION OF NEW CPU SCHEDULING ALGORITHMS IN LINUX     </dc:title>
</cp:coreProperties>
</file>