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89D-BF32-45BE-81DC-2A723F7E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6477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591720"/>
            <a:ext cx="6477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8B1-4762-4DA7-BA90-3E72957D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0800" y="335268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59172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0800" y="359172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FD0-A687-4020-A057-96BF9159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208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3352680"/>
            <a:ext cx="208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1720" y="3352680"/>
            <a:ext cx="208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591720"/>
            <a:ext cx="208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591720"/>
            <a:ext cx="208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1720" y="3591720"/>
            <a:ext cx="208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CF3-A306-46D2-8D27-DC4FB5A7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FB60-CE3B-4E34-BD3B-5B125841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67A2-8E07-475C-A603-7466B564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C876-1DD3-422B-AF1D-E687C554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6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0800" y="3352680"/>
            <a:ext cx="316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2C7D-9433-4F19-8BA3-04760C45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F4B1-DCBA-4B93-A1A3-E259352D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7712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FC94-9F21-4D8E-9170-F6D05D6D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0800" y="3352680"/>
            <a:ext cx="316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59172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90FB-702C-4330-B897-69614F9C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9EB-52E8-4EFF-A0E6-243A4430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6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0800" y="335268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0800" y="359172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B182-167C-494C-ADDD-93BEE11A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0800" y="335268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591720"/>
            <a:ext cx="6477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86AB-F6F2-42A3-BF0E-D4055DF3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6477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591720"/>
            <a:ext cx="6477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C2EB-80D3-4C18-A358-14BA2D5A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0800" y="335268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59172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0800" y="359172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75AA-6F53-4FD5-B6F5-F8889ACA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208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1840" y="3352680"/>
            <a:ext cx="208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1720" y="3352680"/>
            <a:ext cx="208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591720"/>
            <a:ext cx="208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1840" y="3591720"/>
            <a:ext cx="208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1720" y="3591720"/>
            <a:ext cx="208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B710-2E88-4D05-A4AF-663A5280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D86-A2A8-4A19-AF83-D7600434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6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0800" y="3352680"/>
            <a:ext cx="316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517-0026-4E31-A907-DB395A7F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713-A4A4-4E77-A36E-333F5134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7712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A11-45CD-47D7-AB2C-6A95C75B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0800" y="3352680"/>
            <a:ext cx="316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59172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947-FF53-46F0-9D61-D64DE4F4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6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0800" y="335268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0800" y="359172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DD0-5D6A-40F2-BD6A-3368FBC0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0800" y="3352680"/>
            <a:ext cx="316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591720"/>
            <a:ext cx="6477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D54-881F-4679-B9C9-C6D29516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428840" indent="-22860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771560" indent="-22860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771560" indent="-228600">
              <a:spcBef>
                <a:spcPts val="1500"/>
              </a:spcBef>
              <a:buClr>
                <a:srgbClr val="f8f8f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771560" indent="-228600">
              <a:spcBef>
                <a:spcPts val="1500"/>
              </a:spcBef>
              <a:buClr>
                <a:srgbClr val="f8f8f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485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0920" y="6248520"/>
            <a:ext cx="38862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6321-AEB4-48F6-AD3B-F97AEFEFDE63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80920" y="6248520"/>
            <a:ext cx="38862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543440" y="62485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5E52-3322-4587-99D4-716B28543545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f8f8f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f8f8f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Visual Quiz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819000"/>
            <a:ext cx="6019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dentify this entertainer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1" name="walt-disney" descr=""/>
          <p:cNvPicPr/>
          <p:nvPr/>
        </p:nvPicPr>
        <p:blipFill>
          <a:blip r:embed="rId2"/>
          <a:stretch/>
        </p:blipFill>
        <p:spPr>
          <a:xfrm>
            <a:off x="1752480" y="1542960"/>
            <a:ext cx="5792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Maker of the Geniu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3" name="ramakant%20achrekar" descr=""/>
          <p:cNvPicPr/>
          <p:nvPr/>
        </p:nvPicPr>
        <p:blipFill>
          <a:blip r:embed="rId2"/>
          <a:stretch/>
        </p:blipFill>
        <p:spPr>
          <a:xfrm>
            <a:off x="1371600" y="1584360"/>
            <a:ext cx="640080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dentify anyon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" name="harivanshrai%20with%20amitabh" descr=""/>
          <p:cNvPicPr/>
          <p:nvPr/>
        </p:nvPicPr>
        <p:blipFill>
          <a:blip r:embed="rId2"/>
          <a:stretch/>
        </p:blipFill>
        <p:spPr>
          <a:xfrm>
            <a:off x="3200400" y="1447920"/>
            <a:ext cx="3092400" cy="46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-228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anks!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Send your entries to mail2ankur@gmail.com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dentify this yesteryear’s superstar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J%20Jayalalita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048120" y="1447920"/>
            <a:ext cx="312264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uthor. Who?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6" name="ayn_rand" descr=""/>
          <p:cNvPicPr/>
          <p:nvPr/>
        </p:nvPicPr>
        <p:blipFill>
          <a:blip r:embed="rId2"/>
          <a:stretch/>
        </p:blipFill>
        <p:spPr>
          <a:xfrm>
            <a:off x="2652840" y="1486080"/>
            <a:ext cx="383832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nk who could he be?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8" name="hitler_young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35467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istress and Wife. Who?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0" name="eva-braun-1" descr=""/>
          <p:cNvPicPr/>
          <p:nvPr/>
        </p:nvPicPr>
        <p:blipFill>
          <a:blip r:embed="rId2"/>
          <a:stretch/>
        </p:blipFill>
        <p:spPr>
          <a:xfrm>
            <a:off x="2708280" y="1447920"/>
            <a:ext cx="3824280" cy="46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founder of a book!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2" name="john%20wisden" descr=""/>
          <p:cNvPicPr/>
          <p:nvPr/>
        </p:nvPicPr>
        <p:blipFill>
          <a:blip r:embed="rId2"/>
          <a:stretch/>
        </p:blipFill>
        <p:spPr>
          <a:xfrm>
            <a:off x="2895480" y="1600200"/>
            <a:ext cx="335304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amous CEO - Who?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hoto-balmer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95" name="SteveBalmer" descr=""/>
          <p:cNvPicPr/>
          <p:nvPr/>
        </p:nvPicPr>
        <p:blipFill>
          <a:blip r:embed="rId3"/>
          <a:srcRect l="0" t="0" r="54606" b="0"/>
          <a:stretch/>
        </p:blipFill>
        <p:spPr>
          <a:xfrm>
            <a:off x="5410080" y="1828800"/>
            <a:ext cx="17528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nagement Guru! Who?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eterdrucker" descr=""/>
          <p:cNvPicPr/>
          <p:nvPr/>
        </p:nvPicPr>
        <p:blipFill>
          <a:blip r:embed="rId2"/>
          <a:stretch/>
        </p:blipFill>
        <p:spPr>
          <a:xfrm>
            <a:off x="1908000" y="1579680"/>
            <a:ext cx="5407200" cy="45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dentify the duo!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9" name="Beant_singh_and_satwant_singh" descr=""/>
          <p:cNvPicPr/>
          <p:nvPr/>
        </p:nvPicPr>
        <p:blipFill>
          <a:blip r:embed="rId2"/>
          <a:stretch/>
        </p:blipFill>
        <p:spPr>
          <a:xfrm>
            <a:off x="1295280" y="1574640"/>
            <a:ext cx="6553440" cy="444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9:24:42Z</dcterms:created>
  <dc:creator>Ankur Jain</dc:creator>
  <dc:description/>
  <dc:language>en-US</dc:language>
  <cp:lastModifiedBy>Ankur Jain</cp:lastModifiedBy>
  <dcterms:modified xsi:type="dcterms:W3CDTF">2006-02-13T19:51:04Z</dcterms:modified>
  <cp:revision>4</cp:revision>
  <dc:subject/>
  <dc:title>Visual Quiz</dc:title>
</cp:coreProperties>
</file>