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58920" y="4075920"/>
            <a:ext cx="768672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768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58920" y="40759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7680" y="40759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58120" y="15541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7320" y="15541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58920" y="40759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58120" y="40759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7320" y="4075920"/>
            <a:ext cx="247500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375084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7680" y="1554120"/>
            <a:ext cx="375084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04640" y="997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7680" y="1554120"/>
            <a:ext cx="375084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58920" y="40759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375084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768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7680" y="40759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7680" y="1554120"/>
            <a:ext cx="375084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58920" y="4075920"/>
            <a:ext cx="7686720" cy="230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31840" cy="684540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50000">
                <a:srgbClr val="dadada"/>
              </a:gs>
              <a:gs pos="100000">
                <a:srgbClr val="adad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18ffd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39760" y="1400040"/>
            <a:ext cx="79660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4520" y="643248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CB52-4E5C-4DF6-9EC7-D46E10BB3725}" type="slidenum">
              <a:rPr b="0" lang="en-US" sz="2000" spc="-1" strike="noStrike">
                <a:solidFill>
                  <a:srgbClr val="114ff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 rot="5400000">
            <a:off x="-2629080" y="262872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Virus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comic"/>
              </a:rPr>
              <a:t>Virus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8920" y="2597040"/>
            <a:ext cx="7686720" cy="25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, Disaste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Plan tha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here Viruses Hid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ogram code that is part of the Master Boot Record on a har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rt of the boot record program that loads the OS on the active partition of the har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t program on a floppy disk (one of the most common ways a virus is sp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here Viruses Hid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ecutable (.exe or .com) programs or word processing documents with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irus copies itself into a data file containing no macros, it can do no more damage than corrupting the data it has overwritten with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artite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a boot sector virus and a fi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ak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try to hide from antiviru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orphic - changes its distinguishing characteristics so it is harder to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- can transform itself from a replicating program to a nonreplicating program and back again to avoid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th - actively conceal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618ffd"/>
              </a:buClr>
              <a:buSzPct val="6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s OS information to mask the size of the file it is hiding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618ffd"/>
              </a:buClr>
              <a:buSzPct val="6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file operations: when it sees its host file is about to be opened, it removes itself from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Damage from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done by an infestation is called the pay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yload may be dropped in response to a triggering event, such as a date, opening of a certain file, or pressing of a certain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may be minor, such as displaying bugs crawling over the screen, or major, such as erasing everything on a har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Damage from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2440" y="6018120"/>
            <a:ext cx="805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  The harmless or benign Walker virus 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n walking across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95560" y="1447920"/>
            <a:ext cx="59846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Damage from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27320" y="5675400"/>
            <a:ext cx="758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2  The crash virus appears to be destructi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e screen show only garbage, but does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 to the hard dr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84480" y="1447920"/>
            <a:ext cx="55306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How Infestations Sprea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63520" y="14108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gerous practic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floppy disks containing progra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the computer to an unprotect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software from unreliabl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ing programs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ppy disks from unknow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hared network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-mail that automatically executes a word processor to read attach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write-protecting original program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How Infestations Sprea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virus repl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a program containing a virus is copied to your PC, the virus can spread only when the infected program is exec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uses are loaded into memory with the program and then executed from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-resident viruses stay in memory after the host program is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memory resident viruses terminate when the host program is cl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How Infestations Sprea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08960" y="4978440"/>
            <a:ext cx="671796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st program is copied into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The virus may or may not move itself to a new location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 second program is opened and copied into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The virus copies itself to the second program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The newly infected second program is written back to the hard d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3  How a virus re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495440"/>
            <a:ext cx="587664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otecting Against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antivirus (AV) software and set your computer to run it automatically at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AV software current by periodically downloading upgrades from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virus scan program to automatically scan word-processor documents as they are o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d faithfully execute a plan to make backups of the har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eventive Maintenanc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maintenance plan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prevent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ow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quipment last longer, reducing replacemen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prevent data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otecting Against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buy software from reputable vend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trade program files on floppy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use floppy disks from unknown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wnload software from the Internet sparingly, then scan program files for viruses before executi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 use pirated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 floppy disks before first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otecting Against 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-protect original program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 shared network programs, such as Java or ActiveX programs on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opt strict company policies against using unauthorised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one has been on a computer before you, reboot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the PC to boot from drive C, then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rn on AV protection for the CMOS MB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 Symptom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s takes longer than usual to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and length of disk accesses seem excessive for simpl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sual error messages occur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memory than usual i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mysteriously disappear or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graphics display on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makes strange no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S MEM command reveals strange TSRs loaded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 Symptom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does not recognise the hard drive when you’ve booted from a floppy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does not recognise the CD-ROM drive, although it had worked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ble files have change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ess lights on the hard drive and floppy drive turn on when they shoul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rd drive boots but hangs up before getting a DOS prompt or Windows 95 safe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 Symptom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noticeable reduction in disk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constantly get corru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or bizarre error messages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error messages display about the FAT or partition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extensions or file attributes change without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ssage displays from the AV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bad sectors on the hard drive continues to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otecting Against Virus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uspect you have 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latest version of a virus scan program to detect and delete the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AV software, look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download current upgrades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automatically execute at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detect macro viruses in word-processing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automatically monitor files being downloaded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otecting Against Virus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85560" y="6383160"/>
            <a:ext cx="421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2  Antiviru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2125800"/>
            <a:ext cx="781200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AV Soft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can for viruses on a floppy disk using AV software from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s &amp; Bo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yenne AntiVirus 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canning box, enter what you want the software to scan: to scan a floppy disk, insert the disk in drive A and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th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; verify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elected;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turn to the opening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ecute the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AV Soft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7440" y="6018120"/>
            <a:ext cx="795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4  Set the Cheyenne AntiVirus software to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oot sectors and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84400" y="1450800"/>
            <a:ext cx="59151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AV Soft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7440" y="6018120"/>
            <a:ext cx="795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5  Set the Cheyenne AntiVirus software to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les, including compressed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43280" y="1422360"/>
            <a:ext cx="62038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eventive Maintenanc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4760" y="6018120"/>
            <a:ext cx="767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1  Guidelines For Developing a PC Preven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5800" y="1476360"/>
            <a:ext cx="7748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on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w O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 the 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air vents are clear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pressed air to blow d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case; Ensure chip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s are firmly s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OS se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record of se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hanges are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py dr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lean the drive head if dr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drive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r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regular back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week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virus scan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da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ragment dr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PC from h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Hard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20760" y="1420920"/>
            <a:ext cx="7686720" cy="46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 d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ld from several hundred megabytes to several giga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an internal or external de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not require special backup software, although using it will make backups as efficient and effortless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convenient than floppy or removable disks and relatively inexp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data sequentially, so access is slow and inconvenient for general storage of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tape interfaces with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rnal tape drive can use the parallel port with an optional pass-through to the printer so they can share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rnal or internal tape drive can use the SCSI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rnal or internal tape drive can use its own proprietary controller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rnal or internal tape drive can use the floppy driv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1560" y="5653080"/>
            <a:ext cx="7825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7  An external tape drive can use the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for input/output, with an optional pass-through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12720" y="1501920"/>
            <a:ext cx="728676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pe drives accommodate one of two kinds of 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-size data cartridges: 4 x 6 x 5/8 i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cartridges: 3 1/4 x 2 1/2 x 3/5 i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cartridges are more popular because their drives fit into a standard 5 1/4 inch drive b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pes have a FAT at the beginning that tracks the location of data and bad s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pes must be formatted before they ar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5400" y="6018120"/>
            <a:ext cx="6603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8  Minicartridge for a tape drive h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-protect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95280" y="2316240"/>
            <a:ext cx="768060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8960" y="5653080"/>
            <a:ext cx="775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9  Tables from two tape drive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the multitude of formats used when read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o 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44640" y="1539720"/>
            <a:ext cx="6728040" cy="2778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22600" y="4444920"/>
            <a:ext cx="568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Tape compatibility for the Ditto 2GB tape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s -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19040" y="1806480"/>
            <a:ext cx="7678800" cy="187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47400" y="5653080"/>
            <a:ext cx="775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9  Tables from two tape drive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the multitude of formats used when read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o tap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71520" y="4044960"/>
            <a:ext cx="749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inicartridge capacities obtained by the Eagle TR-3 tape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five different tap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49640" y="3727440"/>
            <a:ext cx="644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Using software compression with an assumed 2:1 compression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roubleshooting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nicartridge does no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trying to write data, verify that the minicartridge is write-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inserting the minicartridge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using the correct type of minicart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inicartridge format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tension the tape using backup software to eliminate loose spots on the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roubleshooting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minicartridge out and re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using a new mini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ape was removed from the drive while data was being written to it, the data may be un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ive doesn’t work after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pin 1 is correctly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for a resource or IRQ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OS, check for appropriate entries in Config.sys and Autoexec.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roubleshooting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fer is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e tape software have an option for optimising speed or data compress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pe drives can use an accelerator card to speed up data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y a new minicartri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ossible, completely erase the tape and reforma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n accelerator card, verify that it is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at there is enough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eventive Maintenanc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4760" y="6018120"/>
            <a:ext cx="767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1  Guidelines For Developing a PC Preven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6520" y="1476360"/>
            <a:ext cx="75819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on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w O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t c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liquids a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, mon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regular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out dust and bits of pa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paper, ribbon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top-quality cartri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it is authorised 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Recycle Bin; \temp f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software, hardwar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hang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s, mainten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roubleshooting Tape Driv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drive intermittently fails or gives erro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y a new ta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the read/write heads of the dr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n external drive, move it as far as possible from the computer and moni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format the ta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-tension the ta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ify that you are using the correct tape type and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ape Backup Method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, incremental, and differ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- all data on the hard drive is backed 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mental - backs up only files that have been changed or created since the last backup (full or increment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ial - backs up only files that have been changed or created since the last full back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, Parent, and Grand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, store, and rotate copies of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ape Backup Method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85000" y="601812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3  The Child, Parent, Grandparent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33440" y="1612800"/>
            <a:ext cx="75996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Soft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ape drives come with some backup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95 and Windows NT can back up your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stall Windows 95 backup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/Remo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stall from the disks or C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Softwar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26080" y="6018120"/>
            <a:ext cx="7988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4  Tape Drives Supported and Not Suppor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95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57480" y="1698480"/>
            <a:ext cx="775620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Windows 95 Backup utility to backup your hard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reen displays with a dialog box telling you that it has created a file set for a full system backup of the entire hard drive;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 selected,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 list of file sets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your first time, only the Full System Backup set is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6480" y="6018120"/>
            <a:ext cx="8173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0  The Windows 95 Backup utility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a file set to back up the entire hard d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054160" y="1444680"/>
            <a:ext cx="5826240" cy="44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kup utility builds a complete list of the files on the hard drive;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the full system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ack up only certain folders, files, or logical drives, don’t open Full System Backup; select files, folders, and drives you want to bac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drive to hold the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gin the process; you will be asked to enter a Backup Se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ess report displays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0000" y="6018120"/>
            <a:ext cx="785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1  Windows 95 Backup lets you select f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les to back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87640" y="1447920"/>
            <a:ext cx="586404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ver files, folders, or the entire drive from backup using the Windows 95 Backup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backup utility, clic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medium to restore from und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backup you want;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ckup se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entire backup set, or select individual files or folders you want to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eventive Maintenanc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v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the hard drive, or at least back up data and copy important configuration files to a floppy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ape cartridges or CDs from the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off the PC and all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 the power cords from the electrical outlet and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Windows 95 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35160" y="1410840"/>
            <a:ext cx="76867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95 Backup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ack up files with certain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ack up only files and folders that have been altered during a selected ti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ull backup or use incremental backup of files that have changed since the last full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data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verify backup by automatically comparing files when the backup is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ormat tapes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drives, folders, and files to ba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nter the requir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art the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screen progress reports will display on th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3800" y="6018120"/>
            <a:ext cx="771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2  Windows NT backup utility works simil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dows 95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74800" y="1486080"/>
            <a:ext cx="681372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ing the schedul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-clic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Services window selec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edu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tart the scheduler; clic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rvice is running and will start each time the OS is loa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99800" y="6383160"/>
            <a:ext cx="619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3  Installing the Schedul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000160" y="1486080"/>
            <a:ext cx="62294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Backup Utilit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Windows NT command prompt, the AT command can be used to schedule a program to run at a later time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ndows NT command NTBackup performs backups from the command prompt, giving the same results as the Backup utility under Administrative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AT Comman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0600" y="5653080"/>
            <a:ext cx="7972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5  Explanation of Parameters in Windows N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T Commands Used to Schedule Tasks for a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1680" y="1492200"/>
            <a:ext cx="788364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ndows NT AT Commands Used to Schedule Task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[\\computername] [id] [/DELETE[/YES]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[\\computername] time [\INTERACTIVE] [/EVERY:date[,...] | /NEXT:date[,...] “command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mand Parameter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\\computer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of the remote computer the command applie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number assigned by Windows 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E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s the identified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nfirmation of the deletion without a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he event is scheduled to occ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AT Comman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0600" y="5653080"/>
            <a:ext cx="7972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5  Explanation of Parameters in Windows N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T Commands Used to Schedule Tasks for a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1680" y="1479600"/>
            <a:ext cx="788364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AT Commands Used to Schedule Ta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[\\computername] [id] [/DELETE[/YES]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 [\\computername] time [/INTERACTIVE] [/EVERY:date[,...] | /NEXT:date[,...] “command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mand Parameter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INTER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the process to interact with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VERY:date,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day of the week or month the process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to occ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EXT:date,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xt date the process will be perfo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and you are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with no parame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s currently scheduled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AT Comman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76560" y="6018120"/>
            <a:ext cx="7752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6  Explanation of Parameters of the NT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65680" y="1479600"/>
            <a:ext cx="775260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BACKUP comma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BACKUP operation path [/a] [/v] [/r] [/d “text”] [/b] [/hc:{on|off}] [t {option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/l”filename”] [/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mmand Parameter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ither BACKUP or EJECT (eject the tap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h or paths to folders to back u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 will be appended to data already on the ta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ifies that the write operation runs without err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tricts access to the ta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d “text”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cription of the backup cont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Using the Windows NT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AT Comman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76560" y="6018120"/>
            <a:ext cx="7752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6  Explanation of Parameters of the NT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66400" y="1479600"/>
            <a:ext cx="7839720" cy="41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BACKUP comma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BACKUP operation path [/a] [/v] [/r] [/d “text”] [/b] [/hc:{on|off}] [t {option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/l”filename”] [/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mmand Parameter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ck up the regist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hc:on or /hc:off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data compre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t op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es the type of backup (/t normal, /t daily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t incremental, /t copy, /t differentia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l filenam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to a log file; include the path in the file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ly include exceptions in the log 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Preventive Maintenance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 all external devices from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abelling the cable connections to identify where each is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up all cords and secure them with plastic ties or rubber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 the computer, monitor, and all other devices in their original shipping cartons; use packing material to pa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Managing and Maintaining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Tape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to manage tap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 Tape - erases all data on a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tension Tape - fast forwards to the end of the tape then rewinds the tape to eliminate any loose s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Tape - formats the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 Tape - ejects the cartridge from the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ogue - lists a description of the backup, including the files and folders back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RAI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ides maintaining good backups, another method of protecting data is to continuously write 2 copies of the data, each to a different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or Redundant array of independent disks is a collection of several methods for improving performance and/or automatically recovering from a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RAI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19200" y="6383160"/>
            <a:ext cx="705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17-7  The Three Most Common RAID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30200" y="1969920"/>
            <a:ext cx="75787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RAI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 toler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degree to which a system can tolerat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rip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eating multiple hard drives as a singl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ategy whereby the same data is written to 2 hard drives in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ex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dundant data is written to 2 or more drives, each with its own adaptor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system feature whereby one hard drive can be removed and another inserting without powering down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RAID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8040" y="5653080"/>
            <a:ext cx="775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7-14  RAID 5, disk striping with parity, allow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rive capacity as well as fault tolerance: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rive can fail and data can still be re-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00240" y="1473120"/>
            <a:ext cx="787392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s of preventive maintenanc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PCs last longer and work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tect data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the cost of re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infestation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jan 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virus software is your best defence against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iruses are relatively harmless; others can destroy everything on the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teps to take to protect your PC from infestations, including not trading floppy disks and using the latest updates of antivir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 drives are very common hardware devices used to back up a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 backup, followed by incremental or differential backups can speed up the time it takes to make 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95 and Windows NT include a Backup utility that can be used with tape d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es and Other Computer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infestat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, a Trojan Horse, or a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unwanted program that is unknowingly transmitted to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damage data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igned to damage the computer hardware, although it may destroy boot sect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hoax - warning about a nonexistent virus that ties up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es and Other Computer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can replicate itself by attaching itself to oth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he infected, or host, program to execute in order for it to be able to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simply replicate itself, filling up the hard drive, or may actually do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triggered to do damage at a future point in time: on a specific date, or when the host program activates some lo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04640" y="997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Viruses and Other Computer</a:t>
            </a:r>
            <a:br>
              <a:rPr sz="4400"/>
            </a:br>
            <a:r>
              <a:rPr b="0" lang="en-US" sz="4400" spc="-1" strike="noStrike">
                <a:solidFill>
                  <a:srgbClr val="61538d"/>
                </a:solidFill>
                <a:latin typeface="Arial"/>
              </a:rPr>
              <a:t>Infestations</a:t>
            </a:r>
            <a:endParaRPr b="0" lang="en-US" sz="4400" spc="-1" strike="noStrike">
              <a:solidFill>
                <a:srgbClr val="6153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920" y="1554120"/>
            <a:ext cx="768672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spreads copies of itself throughout a network, overload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need a hos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766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disguised as a helpful utility or a legitimat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human interventio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need a hos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6T14:21:32Z</dcterms:created>
  <dc:creator>Floyd and Julie Winters</dc:creator>
  <dc:description/>
  <dc:language>en-US</dc:language>
  <cp:lastModifiedBy>Michael</cp:lastModifiedBy>
  <cp:lastPrinted>1998-03-14T01:31:48Z</cp:lastPrinted>
  <dcterms:modified xsi:type="dcterms:W3CDTF">2000-03-04T22:32:42Z</dcterms:modified>
  <cp:revision>61</cp:revision>
  <dc:subject>Managing and Maintaining your PC - Andrews</dc:subject>
  <dc:title>MMPC Chapter 17</dc:title>
</cp:coreProperties>
</file>