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098413" cy="3809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2D0-FC79-4D1D-BF8B-8249AB71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7680" y="11006280"/>
            <a:ext cx="3238488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7680" y="22946760"/>
            <a:ext cx="3238488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C93-4C47-4D0C-A114-657BC902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7680" y="1100628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451880" y="1100628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7680" y="2294676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451880" y="2294676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C36-7BC7-4D17-9545-C7764D1B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7680" y="11006280"/>
            <a:ext cx="1042776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807080" y="11006280"/>
            <a:ext cx="1042776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756840" y="11006280"/>
            <a:ext cx="1042776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7680" y="22946760"/>
            <a:ext cx="1042776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807080" y="22946760"/>
            <a:ext cx="1042776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756840" y="22946760"/>
            <a:ext cx="1042776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1CA-7009-4EF9-9DE3-70018A14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7680" y="11006280"/>
            <a:ext cx="3238488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50D-053A-40B9-9F19-5D284D2C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7680" y="11006280"/>
            <a:ext cx="32384880" cy="22860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48C-B1A6-436F-8E5E-E8027779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7680" y="11006280"/>
            <a:ext cx="15803640" cy="22860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451880" y="11006280"/>
            <a:ext cx="15803640" cy="22860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2F0-76F6-4F8E-9593-04E2863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AE7-51BF-409D-9DCA-AB733738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7680" y="3385800"/>
            <a:ext cx="3238488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75E-0EF1-4498-B19C-9DE29ACD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7680" y="1100628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451880" y="11006280"/>
            <a:ext cx="15803640" cy="22860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7680" y="2294676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900-8115-494B-9137-BAB4447C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7680" y="11006280"/>
            <a:ext cx="15803640" cy="22860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451880" y="1100628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51880" y="2294676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006-D2EC-4C17-ACF7-73E84262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7680" y="1100628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451880" y="11006280"/>
            <a:ext cx="1580364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7680" y="22946760"/>
            <a:ext cx="32384880" cy="10904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7AA-A577-4C38-8643-CBD6788D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7680" y="3385800"/>
            <a:ext cx="32384880" cy="635004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r>
              <a:rPr b="0" lang="en-US" sz="21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7680" y="11006280"/>
            <a:ext cx="32384880" cy="22860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1633680" indent="-16336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440" indent="-13618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2" marL="5443560" indent="-108900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3" marL="7620120" indent="-108900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4" marL="9796320" indent="-108720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5" marL="9796320" indent="-108720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6" marL="9796320" indent="-108720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57680" y="34713720"/>
            <a:ext cx="7937280" cy="2540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Autofit/>
          </a:bodyPr>
          <a:lstStyle>
            <a:lvl1pPr indent="0">
              <a:buNone/>
              <a:tabLst>
                <a:tab algn="l" pos="0"/>
                <a:tab algn="l" pos="4354560"/>
                <a:tab algn="l" pos="870912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54560"/>
                <a:tab algn="l" pos="870912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17600" y="34713720"/>
            <a:ext cx="12065040" cy="2540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Autofit/>
          </a:bodyPr>
          <a:lstStyle>
            <a:lvl1pPr indent="0" algn="ctr">
              <a:buNone/>
              <a:tabLst>
                <a:tab algn="l" pos="0"/>
                <a:tab algn="l" pos="4354560"/>
                <a:tab algn="l" pos="870912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304560" y="34713720"/>
            <a:ext cx="7937640" cy="2540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Autofit/>
          </a:bodyPr>
          <a:lstStyle>
            <a:lvl1pPr indent="0" algn="r">
              <a:buNone/>
              <a:tabLst>
                <a:tab algn="l" pos="0"/>
                <a:tab algn="l" pos="4354560"/>
                <a:tab algn="l" pos="870912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54560"/>
                <a:tab algn="l" pos="8709120"/>
              </a:tabLst>
            </a:pPr>
            <a:fld id="{4E4E8419-9EC0-43B8-9C82-514EDCF68D67}" type="slidenum"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210204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Ship Constr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scort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rigate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estroyer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ight Crusier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um Transport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usier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Battle Crusier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arge Transport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Battleship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readnought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Baseship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2120" y="304920"/>
            <a:ext cx="6629400" cy="5395680"/>
            <a:chOff x="762120" y="304920"/>
            <a:chExt cx="6629400" cy="5395680"/>
          </a:xfrm>
        </p:grpSpPr>
        <p:sp>
          <p:nvSpPr>
            <p:cNvPr id="43" name=""/>
            <p:cNvSpPr/>
            <p:nvPr/>
          </p:nvSpPr>
          <p:spPr>
            <a:xfrm>
              <a:off x="2666880" y="304920"/>
              <a:ext cx="2835360" cy="329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pul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 Engine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 Engine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 Engine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elf-Destruct Device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Contra-Terrene Engine 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Emergency Propulsion 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Engine Overloading Weapons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Contra-Terrene Engine II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Emergency Propulsion II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Contra-Terrene Engine II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Emergency Propulsion II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Jacketed-Photon Engine I (Tech Level 7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Emergency Propulsion IV (Tech Level 7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High-Energy Discharge Weapons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Jacketed-Photon Engine II (Tech Level 8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Emegency Propulsion V (Tech Level 8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Jacketed-Photon Engine III (Tech Level 9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Quantum Engine I (Tech Level 1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Quantum Engine II (Tech Level 1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Quantum Engine III (Tech Level 1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2120" y="3962520"/>
              <a:ext cx="2286000" cy="17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ngine Overloading Weap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Dispenser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Dispenser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Dispenser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Dispenser IV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Dispenser V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Pulse Missile 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Pulse Missile II (Tech Level 7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Pulse Missile III (Tech Level 8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Pulse Missile IV (Tech Level 9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Pulse Missile V (Tech Level 1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05520" y="3962520"/>
              <a:ext cx="2286000" cy="17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gh-Enegy Discharge Weap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ipper Beam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ipper Beam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ipper Beam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ipper Beam IV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ncinerator Beam I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ncinerator Beam I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ncinerator Beam III (Tech Level 7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Wave-Motion Gun I (Tech Level 8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Wave-Motion Gun II (Tech Level 9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Wave-Motion Gun III (Tech Level 1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2209680" y="3048120"/>
              <a:ext cx="457200" cy="838080"/>
              <a:chOff x="2209680" y="3048120"/>
              <a:chExt cx="457200" cy="838080"/>
            </a:xfrm>
          </p:grpSpPr>
          <p:sp>
            <p:nvSpPr>
              <p:cNvPr id="47" name=""/>
              <p:cNvSpPr/>
              <p:nvPr/>
            </p:nvSpPr>
            <p:spPr>
              <a:xfrm flipH="1">
                <a:off x="2209680" y="30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209680" y="3048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5486400" y="3048120"/>
              <a:ext cx="457200" cy="838080"/>
              <a:chOff x="5486400" y="3048120"/>
              <a:chExt cx="457200" cy="83808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5486400" y="30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943600" y="3048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" name=""/>
          <p:cNvGrpSpPr/>
          <p:nvPr/>
        </p:nvGrpSpPr>
        <p:grpSpPr>
          <a:xfrm>
            <a:off x="8381880" y="152280"/>
            <a:ext cx="19811880" cy="7377120"/>
            <a:chOff x="8381880" y="152280"/>
            <a:chExt cx="19811880" cy="7377120"/>
          </a:xfrm>
        </p:grpSpPr>
        <p:grpSp>
          <p:nvGrpSpPr>
            <p:cNvPr id="53" name=""/>
            <p:cNvGrpSpPr/>
            <p:nvPr/>
          </p:nvGrpSpPr>
          <p:grpSpPr>
            <a:xfrm>
              <a:off x="8381880" y="152280"/>
              <a:ext cx="19811880" cy="5334120"/>
              <a:chOff x="8381880" y="152280"/>
              <a:chExt cx="19811880" cy="5334120"/>
            </a:xfrm>
          </p:grpSpPr>
          <p:sp>
            <p:nvSpPr>
              <p:cNvPr id="54" name=""/>
              <p:cNvSpPr/>
              <p:nvPr/>
            </p:nvSpPr>
            <p:spPr>
              <a:xfrm>
                <a:off x="13258800" y="152280"/>
                <a:ext cx="3109680" cy="146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hysic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Times New Roman"/>
                  </a:rPr>
                  <a:t>Tech Level 1 (Shields)  (Tech Are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Times New Roman"/>
                  </a:rPr>
                  <a:t>Tech Level 1 (Sensors)  (Tech Are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Times New Roman"/>
                  </a:rPr>
                  <a:t>Tech Level 1 (Energy Stream Weapons)  (Tech Are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Times New Roman"/>
                  </a:rPr>
                  <a:t>Tech Level 1 (Energy Pulse Weapons)  (Tech Are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Times New Roman"/>
                  </a:rPr>
                  <a:t>Tech Level 2 (Scanners)  (Tech Are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Times New Roman"/>
                  </a:rPr>
                  <a:t>Tech Level 2 (Phased-Energy Weapons)  (Tech Are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Times New Roman"/>
                  </a:rPr>
                  <a:t>Tech Level 3 (Cloacking)  (Tech Are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Times New Roman"/>
                  </a:rPr>
                  <a:t>Tech Level 4 (Warp Weapons)  (Tech Are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334760" y="2057400"/>
                <a:ext cx="301788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hiel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Generator I (Tech Level 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Generator II (Tech Level 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Generator III (Tech Level 3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mall Shield Generator I (Tech Level 3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Generator IV (Tech Level 4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mall Shield Generator II (Tech Level 4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Damaging Weapons (Tech Are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Generator V (Tech Level 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mall Shield Generator III (Tech Level 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Shield Generator I (Tech Level 6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ReGenerator I (Tech Level 6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Shield Generator II (Tech Level 7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Regenerator II (Tech Level 7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Shield Generator III (Tech Level 8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Regenerator III (Tech Level 8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Shield Generator IV (Tech Level 9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Regenerator IV (Tech Level 9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lanetary Gravitational Shield Facility (Tech Level 9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Shield Generator V (Tech Level 1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hield Regenerator V (Tech Level 1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ystem Gravitational Shield Facility (Tech Level 1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820160" y="2057400"/>
                <a:ext cx="2286000" cy="118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enso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Combat Sensors I (Tech Level 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Combat Sensors II (Tech Level 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Combat Sensors III (Tech Level 3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Tachyon Sensors I (Tech Level 4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Tachyon Sensors II (Tech Level 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Tachyon Sensors III (Tech Level 6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81880" y="2057400"/>
                <a:ext cx="2286000" cy="213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nergy Stream Weap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I (Tech Level 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II (Tech Level 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III (Tech Level 3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IV (Tech Level 4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V (Tech Level 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VI (Tech Level 6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VII (Tech Level 7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VIII (Tech Level 8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IX (Tech Level 9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X (Tech Level 1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XI (Tech Level 1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Anti-Proton Beam XII (Tech Level 1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459200" y="2057400"/>
                <a:ext cx="2286000" cy="118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nergy Pulse Weap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Meson Blaster I (Tech Level 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Meson Blaster II (Tech Level 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Meson Blaster III (Tech Level 3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Meson Blaster IV (Tech Level 4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Meson Blaster V (Tech Level 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Meson Blaster VI (Tech Level 6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821160" y="2057400"/>
                <a:ext cx="2286000" cy="82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cann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Long Range Scanners I (Tech Level 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Long Range Scanners II (Tech Level 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Scanner Jammer (Tech Level 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Long Range Scanners III (Tech Level 3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183480" y="2057400"/>
                <a:ext cx="2286000" cy="100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hased Energy Weap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Polaron Beam I (Tech Level 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Polaron Beam II (Tech Level 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Polaron Beam III (Tech Level 3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Polaron Beam IV (Tech Level 4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Phased-Polaron Beam V (Tech Level 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3545800" y="2057400"/>
                <a:ext cx="2286000" cy="731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Cloack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Cloacking Device I (Tech Level 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Cloacking Device II (Tech Level 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Cloacking Device III (Tech Level 3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907760" y="2057400"/>
                <a:ext cx="2286000" cy="731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Warp Weap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Wormhole Beam I (Tech Level 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Wormhole Beam II (Tech Level 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000" spc="-1" strike="noStrike">
                    <a:solidFill>
                      <a:srgbClr val="000000"/>
                    </a:solidFill>
                    <a:latin typeface="Times New Roman"/>
                  </a:rPr>
                  <a:t>Wormhole Beam III (Tech Level 3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82680" y="1600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9372600" y="182880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4782680" y="1828800"/>
                <a:ext cx="124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372600" y="182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887200" y="182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782680" y="182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525880" y="182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9964160" y="182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250160" y="182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688800" y="182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7203400" y="182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3716000" y="5790960"/>
              <a:ext cx="2286000" cy="17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hield Damaging Weap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epleter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epleter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epleter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epleter IV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epleter V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isrupter 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isrupter II (Tech Level 7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isrupter III (Tech Level 8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isrupter IV (Tech Level 9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hield Disrupter V (Tech Level 1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782680" y="5486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8346400" y="152280"/>
            <a:ext cx="182880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Rep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pair Ba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pair Ba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pair Ba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327480" y="152280"/>
            <a:ext cx="1919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Gas Giant Colo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Gas Giant Colony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308920" y="152280"/>
            <a:ext cx="1919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Rock Colo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ck Colony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0" y="152280"/>
            <a:ext cx="1919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IceColo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Ice Colny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001000"/>
            <a:ext cx="19191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Base Constr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pace Station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Battle Station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tarbase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8001000"/>
            <a:ext cx="29257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Car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rgo Ba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upply Storag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al Resource Storag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Organic Resource Storag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oactive Resource Storag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rgo Facilit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rgo Ba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upply Storag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al Resource Storag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Organic Resource Storage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oactive Resource Storag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rgo Facilit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rgo Ba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upply Storag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al Resource Storag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Organic Resource Storag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oactive Resource Storag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rgo Facilit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8001000"/>
            <a:ext cx="201132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Applied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search Cent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search Cent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search Cent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8001000"/>
            <a:ext cx="2193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Applied Intellig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Intelligence Cent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Intelligence Cent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Intelligence Cent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uppet Political Parties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39280" y="8001000"/>
            <a:ext cx="246852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Weapons Platfo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Weapons Platform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um Weapons Platform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arge Weapons Platform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106520" y="8001000"/>
            <a:ext cx="246852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Satell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atellite Ba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Satellite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atellite Ba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um Satellite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atellite Ba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arge Satellite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60" y="7772400"/>
            <a:ext cx="3809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773400" y="8001000"/>
            <a:ext cx="246852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Space Y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pace Yard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pace Yard Facilit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pace Yard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pace Yard Facilit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pace Yard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pace Yard Facilit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440280" y="8001000"/>
            <a:ext cx="246852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Re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supply Depot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ergency Resupply Pod I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ergency Resupply Pod II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ergency Resupply Pod III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Quantum Reactor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031200" y="8001000"/>
            <a:ext cx="24685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Mineral Ex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-Miner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al Miner Facilit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-Miner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al Miner Facilit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-Miner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al Miner Facilit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al Scanner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al Scanner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al Scanner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Mineral Scanner 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Mineral Scanner 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Mineral Scanner III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774400" y="8001000"/>
            <a:ext cx="24685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Organic Ex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-Farm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Organics Farm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-Farm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Organics Farm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-Farm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Organics Farm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brid Eco-Farm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brid Eco-Farm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brid Eco-Farm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Eco-Farm 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Eco-Farm 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Eco-Farm III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41280" y="8001000"/>
            <a:ext cx="2833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Radioactive Ex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 Rad-Extrator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oactive Extration Facility I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 Rad-Extrator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oactive Extration Facilit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 Rad-Extrator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dioactive Extration Facilit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oactive Collider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oactive Collider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oactive Collider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Radioactives Collider 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Radioactives Collider 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Radioactives Collider III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489400" y="8001000"/>
            <a:ext cx="2286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Dr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rone Computer Core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rone Launch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Ship Warhead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Planet Warhead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Drone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rone Launch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Ship Warhead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Planet Warhead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um Drone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rone Launch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Ship Warhead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Planet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arge Drone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06720" y="12725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353680"/>
            <a:ext cx="14859000" cy="5867280"/>
            <a:chOff x="457200" y="11353680"/>
            <a:chExt cx="14859000" cy="5867280"/>
          </a:xfrm>
        </p:grpSpPr>
        <p:sp>
          <p:nvSpPr>
            <p:cNvPr id="95" name=""/>
            <p:cNvSpPr/>
            <p:nvPr/>
          </p:nvSpPr>
          <p:spPr>
            <a:xfrm>
              <a:off x="7010640" y="11353680"/>
              <a:ext cx="3200400" cy="11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strophys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1 (Stellar Manipulation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1 (Tractor/Repulser Weapons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1 (Stellar Harnessing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2 (Gravitational Weapons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2 (Null-Space Weapons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2 (Gravitational Technology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1800" y="12877560"/>
              <a:ext cx="3200400" cy="434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ellar Manip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Beta Displacement Pulser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onic Concussion Blaster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onolith Facility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Tectonic Bomb 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atter Gravity Sphere 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onolith Facility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ational Condenser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ational Quantum Resonator 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Tectonic Bomb 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atter Gravity Sphere 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onolith Facility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ational Quatum Resonator I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Tectonic Bomb II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atter Gravity Sphere II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ational Quatum Resonator III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tellar Plasma Sphere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ing-World Placement Generator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Planetary Gravity Plating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Hyper-Density Cables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ational Quantum Resonator IV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tellar Nucleonic Torpedo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Nebulae Graviton Emitter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Quantum Graviton Beam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ational Quatum Resonator V (Tech Level 7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Nucleonic Thresher Torpedo (Tech Level 7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Inverted Quantum Beam (Tech Level 7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phere World Placement Generator (Tech Level 8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7120" y="12877560"/>
              <a:ext cx="2011320" cy="11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ctor/Repulser Weap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epulser Beam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Tractor Beam 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epulser Beam 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Tractor Beam I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epulser Beam III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Tractor Beam II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86800" y="12877560"/>
              <a:ext cx="2011320" cy="11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ellar Harnes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olar Collector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olar Collector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olar Collector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olar Sail 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olar Sail II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olar Sail II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50760" y="12877560"/>
              <a:ext cx="2103480" cy="100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ravitational Weap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on Hellbore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on Hellbore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on Hellbore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on Hellbore IV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on Hellbore V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030200" y="12877560"/>
              <a:ext cx="2286000" cy="73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ull-Space Weap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Null-Space Projector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Null-Space Projector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Null-Space Projector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12877560"/>
              <a:ext cx="2286000" cy="73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ravitational Techn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ic Sensors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ic Sensors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Gravitic Sensors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4240" y="12648960"/>
              <a:ext cx="1272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4240" y="12648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12648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67840" y="12648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77520" y="12648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887200" y="12648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49520" y="12648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5621120" y="11353680"/>
            <a:ext cx="4814640" cy="1843200"/>
            <a:chOff x="15621120" y="11353680"/>
            <a:chExt cx="4814640" cy="1843200"/>
          </a:xfrm>
        </p:grpSpPr>
        <p:sp>
          <p:nvSpPr>
            <p:cNvPr id="110" name=""/>
            <p:cNvSpPr/>
            <p:nvPr/>
          </p:nvSpPr>
          <p:spPr>
            <a:xfrm>
              <a:off x="16687800" y="11353680"/>
              <a:ext cx="2833560" cy="5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i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1 (Medical Technology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2 (Biological Weapons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621120" y="12192120"/>
              <a:ext cx="1919160" cy="10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edical Techn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edical Bay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edical Bay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edical Bay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edical Bay IV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Medical Bay V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516600" y="12192120"/>
              <a:ext cx="1919160" cy="10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iological Weap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Plague Bomb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Plague Bomb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Plague Bomb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Plague Bomb IV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Plague Bomb V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6920" y="12039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059400" y="11887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306920" y="12039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88200" y="12039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0954880" y="11353680"/>
            <a:ext cx="4708800" cy="3276720"/>
            <a:chOff x="20954880" y="11353680"/>
            <a:chExt cx="4708800" cy="3276720"/>
          </a:xfrm>
        </p:grpSpPr>
        <p:sp>
          <p:nvSpPr>
            <p:cNvPr id="118" name=""/>
            <p:cNvSpPr/>
            <p:nvPr/>
          </p:nvSpPr>
          <p:spPr>
            <a:xfrm>
              <a:off x="21717000" y="11353680"/>
              <a:ext cx="3017880" cy="5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hemi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1 (Armor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Times New Roman"/>
                </a:rPr>
                <a:t>Tech Level 2 (Resource Manipulation) (Tech Are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954880" y="12192120"/>
              <a:ext cx="21942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rm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Armor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mall Armor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Armor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Armor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Emissive Armor 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mall Emissive Armor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tealth Armor 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cattering Armor I (Tech Level 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Emissive Armor II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tealth Armor II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cattering Armor II (Tech Level 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Emissive Armor II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tealth Armor II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Scattering Armor III (Tech Level 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469480" y="12192120"/>
              <a:ext cx="21942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ource Manip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esource Converter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Ultra-Recycler I (Tech Level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esource Converter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Ultra-Recycler II (Tech Level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Resource Converter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Times New Roman"/>
                </a:rPr>
                <a:t>Ultra-Recycler III (Tech Level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412080" y="120394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240880" y="11887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412080" y="12039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146000" y="12039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9413080" y="11277720"/>
            <a:ext cx="219420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Fighter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Troop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Mine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8120" y="12344400"/>
            <a:ext cx="29257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Figh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ighter Ba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ighter Cockpit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ighter Life Support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Ion Engine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Depleted Uranium Cannon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Combat Sensor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fterburner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ight Carrier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Fighter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ighter Ba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Contra-Terrene Engine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Combat Sensors II 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fterburner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um Fighter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ighter Ba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Jacketed Photon Engine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Combat Sensor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fterburner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rrier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arge Fighter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Quatum Engine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eavy Carrier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032200" y="12344400"/>
            <a:ext cx="292572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Tro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roop Cockpit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Troop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Troop Weapon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um Troop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arge Troop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489400" y="13563720"/>
            <a:ext cx="210348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Troop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Ground Cannon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Ground Cannon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Ground Cannon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232600" y="12344400"/>
            <a:ext cx="2103480" cy="19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M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Lay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Sweeper I (Tech Lev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Mine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Lay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Sweep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um Min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Lay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r Sweep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arge Mine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Sweeper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Sweeper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355680" y="12192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0120" y="1196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355680" y="1219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0120" y="1219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0120" y="1333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375600" y="1219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-360" y="11125080"/>
            <a:ext cx="3809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7754480"/>
            <a:ext cx="2376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Computer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8440280"/>
            <a:ext cx="292572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mpu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aster Comput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toid Factor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entral Computer Complex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itizen Databank Complex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aster Comput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toid Factor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entral Computer Complex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itizen Databank Complex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aster Comput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obotoid Factor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entral Computer Complex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itizen Databank Complex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Robotoid Factory I 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Computer Complex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Citizen Databank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4 (Computer Combat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Robotoid Factory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Computer Complex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Citizen Databank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Robotoid Factory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Computer Complex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ystem Citizen Databank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2174200"/>
            <a:ext cx="292572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mputer Comb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mputer Viru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mputer Viru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mputer Viru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18211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2021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17830800"/>
            <a:ext cx="3475080" cy="11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Militaty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Combat Support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Torpedo Weapon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Point-Defence Cannon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2 (Advanced Military Science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2 (Weapon Overloading Weapon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2 (Ship Capture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991720" y="19278720"/>
            <a:ext cx="2286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mbat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ultiplex Tracking (2)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CM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ECM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ultiplex Tracking (3)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CM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ECM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ultiplex Tracking (4)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CM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ECM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ultiplex Tracking (5)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19278720"/>
            <a:ext cx="2286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Torpedo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Matter Torpedo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Matter Torpedo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Matter Torpedo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Matter Torpedo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nti-Matter Torpedo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Quantum Torpedo 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Quantum Torpedo I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Quantum Torpedo I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Quantum Torpedo IV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Quantum Torpedo V (Tech Level 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9278720"/>
            <a:ext cx="256068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oint-Defense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oint-Defense Cannon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oint-Defense Cannon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oint-Defese Cannon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oint-Defense Cannons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oint-Defense Cannons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506320" y="19278720"/>
            <a:ext cx="25606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Advanced Military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ip Training Facilit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leet Training Facilit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ip Training Facilit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leet Training Facilit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ip Training Facilit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leet Training Facilit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per Optics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per Optics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per Optics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249520" y="19278720"/>
            <a:ext cx="265104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Weapon Overloading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achyon Projection Cannon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achyon Projection Cannon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achyon Projection Cannon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achyon Projection Cannon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achyon Projection Cannon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145000" y="19278720"/>
            <a:ext cx="2286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Ship Cap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Boarding Partie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curity Station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Boarding Partie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curity Station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Boarding Partie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curity Station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Boarding Parties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curity Station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Boarding Parties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curity Station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952880" y="19126080"/>
            <a:ext cx="134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9126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0120" y="19126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134720" y="19126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25280" y="19126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544800" y="19126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364320" y="19126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134720" y="19050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735920" y="1813572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lanetary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Planet Utilization) 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735920" y="18745200"/>
            <a:ext cx="2819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lanet Util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limate Control Facilit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limate Control Facilit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limate Control Facilit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Value Improvement Plant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Value Improvement Plant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Value Improvement Plant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tmospheric Modification Plant 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tmospheric Modification Plant 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tmospheric Mofication Plant III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031200" y="18592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936320" y="18135720"/>
            <a:ext cx="3108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sych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Applied Political Science) 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936320" y="18745200"/>
            <a:ext cx="310824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Applied Political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Urban Pacification Cent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Urban Pacification Cent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Urban Pacification Cent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60200" y="18592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365320" y="18059400"/>
            <a:ext cx="31082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Missile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pital Ship Missil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pital Ship Missil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pital Ship Missil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Missile 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pital Ship Missile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Missile I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apital Ship Missile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Missile I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Missile IV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Missile V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0" y="18059400"/>
            <a:ext cx="310824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ojectile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epleted Uranium Cannon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Depleted Uranium Cannon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epleted Uranium Cannon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Depleted Uranium Cannon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epleted Uranium Cannon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Depleted Uranium Cannon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epleted Uranium Cannon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epleted Uranium Cannon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070680" y="18059400"/>
            <a:ext cx="22860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lanetary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netary Napalm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ation Bomb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netary Napalm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ation Bomb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netary Napalm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ation Bomb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netary Napalm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ation Bomb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netary Napalm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adiation Bomb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Neutron Bomb 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rt Bomb RD 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rt Bomb SP 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Neutron Bomb I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rt Bomb RD I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rt Bomb SP I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Neutron Bomb I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rt Bomb RD I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rt Bomb SP I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Neutron Bomb IV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Neutron Bomb V (Tech Level 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585280" y="18059400"/>
            <a:ext cx="228600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Explosive Warhea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Warhead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balt Warhead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Warhead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balt Warhead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ine Warhead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balt Warhead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-360" y="17449920"/>
            <a:ext cx="3809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3545800"/>
            <a:ext cx="26510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Smaller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Anti-Proton Beam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Meason Blast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Phased-Polaron Beam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Incinerator Beam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Anti-Matter Torpedo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Kamikaze Warhead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Cluster Bomb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Rocket Pod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Graviton Beam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Shield Deplet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Anti-Proton Beam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Meson Blast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Phased-Polaron Beam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Incinerator Beam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Anti-Matter Torpedo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Kamikaze Warhead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Cluster Bomb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Rocket Pod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Shield Deplet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Graviton Beam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Anti-Proton Beam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Meson Blast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Phased-Polaron Beam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Incinerator Beam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Anti-Matter Torpedo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Kamikaze Warhead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Cluster Bomb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Rocket Pod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Shield Deplet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Graviron Beam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23469480"/>
            <a:ext cx="3017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mporal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Temporal Technology) 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2 (Temporal Weapon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24307920"/>
            <a:ext cx="274320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mporal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Sensor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vents Predicto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Vacation Servic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Sensor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vents Predicto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Vacation Servic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Sensor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vents Predicto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ral Vacation Servic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Space Yard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Space Yard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Space Yard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24307920"/>
            <a:ext cx="27432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mporal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ime Distortion Burst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Shift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Time Distortion Burst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ime Distortion Burst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Shift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Time Distortion Burst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ime Distortion Burst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mporal Shift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mall Time Distortion Burst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ield Accelerator 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achyon Cannon 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ime Distortion Burst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ield Accelerator I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achyon Cannon I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ime Distortion Burst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ield Accelerator I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achyon Cannon I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ield Accelerator IV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ield Accelerator V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4155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2415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2415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2400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896480" y="23469480"/>
            <a:ext cx="3017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Crystallu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Crystalline Technology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Crystalline Weapon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601200" y="24307920"/>
            <a:ext cx="283356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Crystalline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Armo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Reestructuring Plant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ergy Transmission Lent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Armo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Restructuring Plant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ergy Transmission Lent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Armo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Reestructuring Plant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ergy Transmission Lent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olar Generator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olar Generator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olar Generator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649320" y="24307920"/>
            <a:ext cx="283356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Crystalline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Torpedo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Torpedo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Torpedo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ystalline Cannon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rustalline Torpedo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V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egy Damper 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VI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ergy Damper I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VI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igh-Energy Magnifier 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ergy Damper I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IX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igh-Energy Magnifier II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hard Cannon X (Tech Level 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igh-Energy Magnifier III (Tech Level 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15600" y="241552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420720" y="2400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15600" y="2415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325480" y="2415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92720" y="23469480"/>
            <a:ext cx="28335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Organic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Organic Technology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Organic Weapon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849720" y="24307920"/>
            <a:ext cx="201132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Organic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Organic Armo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Gestation Vat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cal Lab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Organic Armo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Gestation Vat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cal Lab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Organic Armo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Gestation Vat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dical Lab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plicant Center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plicant Center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plicant Center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35720" y="24307920"/>
            <a:ext cx="25606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Organic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Charg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lectric Discharg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eking Parasit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cid Globul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Charg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lectric Discharg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eking Parasit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cid Globul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Charg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lectric Discharg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eking Parasit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cid Globul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Charge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ighting Ray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eking Parasite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cid Globule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lasma Charge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LIghting Ray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Seeking Parasite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cid Globule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per-Plasma Bolt 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veloping Acid Globule 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per-Plasma Bolt I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veloping Acid Globule II (Tech Level 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per-Plasma Bolt I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veloping Acid Globule III (Tech Level 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per-Plasma Bolt IV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veloping Acid Globule IV (Tech Level 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Hyper-Plasma Bolt V (Tech Level 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nveloping Acid Globule V (Tech Level 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611480" y="241552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40280" y="2400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611480" y="2415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193120" y="2415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07720" y="23469480"/>
            <a:ext cx="28335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sychic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Psychic Technology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2 (Psychic Weapons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954880" y="24307920"/>
            <a:ext cx="283392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sychic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Receptors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Ship Training Facilit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Fleet Training Facility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Receptors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Ship Training Facilit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Fleet Training Facility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Receptors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Ship Training Facility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Fleet Training Facility III (Tech Level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Scanner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Scanner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Psychic Scanner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079320" y="24307920"/>
            <a:ext cx="28335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sychic Weap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lekinetic Projecto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ntal Flailer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lekinetic Projecto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ntal Flailer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lekinetic Projecto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ntal Flailer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lekinetic Projector IV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llegiance Subverter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ntal Singularity Generator I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elekinetic Projector V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llegiance Subverter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ntal Singularity Generator II (Tech Level 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llegiance Subverter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Mental Singularity Generator III (Tech Level 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250520" y="24155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155280" y="2400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250520" y="2415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31800" y="2415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279720" y="23469480"/>
            <a:ext cx="3017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Religious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ech Level 1 (Religious Technology) (Tech Are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660600" y="24307920"/>
            <a:ext cx="2103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00000"/>
                </a:solidFill>
                <a:uFillTx/>
                <a:latin typeface="Times New Roman"/>
              </a:rPr>
              <a:t>Religious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War Shrin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eath Shrin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ime Shrin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Nature Shrin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ate Shrine I (Tech Level 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War Shrin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eath Shrin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ime Shrin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Nature Shrin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ate Shrine II (Tech Level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War Shrin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eath Shrin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Time Shrin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Nature Shrin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Fate Shrine III (Tech Level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eligious Talisman (Tech Level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651320" y="2392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34520" y="12573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" y="23088600"/>
            <a:ext cx="3809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ed by Matías A. V. matias_gnr@yahoo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0:05:39Z</dcterms:created>
  <dc:creator>Administrador</dc:creator>
  <dc:description/>
  <dc:language>en-US</dc:language>
  <cp:lastModifiedBy>Administrador</cp:lastModifiedBy>
  <dcterms:modified xsi:type="dcterms:W3CDTF">2003-01-03T19:18:42Z</dcterms:modified>
  <cp:revision>33</cp:revision>
  <dc:subject/>
  <dc:title>Sin título de diapositiva</dc:title>
</cp:coreProperties>
</file>