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BF9-481E-468C-BD64-94EBC283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434-DBD5-4226-9349-19526270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14C-1715-4576-8D45-8571C29D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187-4CBE-46A6-BB12-EFEBA969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6C5-FFC0-4A83-84C0-86F4ADDE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410-8081-4350-AF64-AAA63909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563-9376-43DB-8FC6-6623F98A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3DB-8419-4150-8C55-5948E175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154-4B83-4A74-A461-541B5C26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FD4-6361-4B84-83BB-85FEF335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CBB-6C91-4B2C-88A8-B9D3C7F3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EDE-894E-4218-B979-7178336C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9D4F-BBCB-4271-8D89-1D5C8F49A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95280" y="2514600"/>
            <a:ext cx="6496200" cy="2579760"/>
            <a:chOff x="1295280" y="2514600"/>
            <a:chExt cx="6496200" cy="25797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295280" y="2514600"/>
              <a:ext cx="3686400" cy="257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5105520" y="2666880"/>
              <a:ext cx="2685960" cy="23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Daniela"/>
              </a:rPr>
              <a:t>La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524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760" y="1523880"/>
            <a:ext cx="912024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abla de la demanda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indica las cantidades requeridas de un producto por unidad de tiempo a los diversos precios, mientras se mantienen constantes las demás variables de la dema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urva de la demanda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es la representación gráfica de la tabla de la demanda; es decir, describe las cantidades totales de un producto que los consumidores están en disposición y capacidad de comprar a lo largo de un determinado período de tiempo y con diversos precios, mientras se mantienen constantes todas las demás variables de la dema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ey de la demanda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establece que a menor precio de un producto, mayor cantidad de dicho producto va a ser demandado; por otro lado, si el precio del producto aumenta, la cantidad demandada disminuye. La relación entre precio y la cantidad demandada es inversa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295280" y="2514600"/>
            <a:ext cx="6496200" cy="2579760"/>
            <a:chOff x="1295280" y="2514600"/>
            <a:chExt cx="6496200" cy="2579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295280" y="2514600"/>
              <a:ext cx="3686400" cy="257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105520" y="2666880"/>
              <a:ext cx="2685960" cy="23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Daniela"/>
              </a:rPr>
              <a:t>Automóv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2520" y="1413000"/>
            <a:ext cx="31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 de la Demand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6524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33720" y="1828800"/>
          <a:ext cx="7848360" cy="4800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828800"/>
                    <a:ext cx="78483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Daniela"/>
              </a:rPr>
              <a:t>Automóv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3600" y="141300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rva de la Demand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95280" y="1828800"/>
          <a:ext cx="7620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7620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295280" y="2514600"/>
            <a:ext cx="6496200" cy="2579760"/>
            <a:chOff x="1295280" y="2514600"/>
            <a:chExt cx="6496200" cy="2579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295280" y="2514600"/>
              <a:ext cx="3686400" cy="257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5105520" y="2666880"/>
              <a:ext cx="2685960" cy="23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Daniela"/>
              </a:rPr>
              <a:t>La Ofer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6524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760" y="1523880"/>
            <a:ext cx="91202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abla de la oferta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indica las cantidades ofertadas de un producto por unidad de tiempo a los diversos precios, mientras se mantienen constantes las demás variables de la ofer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urva de la oferta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es la representación gráfica de la tabla de la oferta; es decir, describe las cantidades totales de un producto que los productores están en disposición y capacidad de ofrecer a lo largo de un determinado período de tiempo y con diversos precios, mientras se mantienen constantes todas las demás variables de la ofer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ey de la oferta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establece que a menor precio de un producto, menor cantidad de dicho producto va a ser ofrecido; por otro lado, si el precio del producto aumenta, la cantidad ofrecida aumenta, , siempre y cuando las demas variables de la oferta permanescan constantes. La relación entre el precio y la cantidad ofertada es directamente proporcional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295280" y="2514600"/>
            <a:ext cx="6496200" cy="2579760"/>
            <a:chOff x="1295280" y="2514600"/>
            <a:chExt cx="6496200" cy="257976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295280" y="2514600"/>
              <a:ext cx="3686400" cy="257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5105520" y="2666880"/>
              <a:ext cx="2685960" cy="23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Daniela"/>
              </a:rPr>
              <a:t>Automóviles sedan - mecán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6524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868480" y="1397160"/>
          <a:ext cx="3407040" cy="4063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8480" y="1397160"/>
                    <a:ext cx="34070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441440" y="2368440"/>
          <a:ext cx="5997600" cy="4762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1440" y="2368440"/>
                    <a:ext cx="59976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90960" y="1676520"/>
            <a:ext cx="32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bl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fer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nsu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6524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450720"/>
          <a:ext cx="9144000" cy="59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0720"/>
                    <a:ext cx="9144000" cy="59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02:23:44Z</dcterms:created>
  <dc:creator>JOSE JAIME GUTIERREZ</dc:creator>
  <dc:description/>
  <dc:language>en-US</dc:language>
  <cp:lastModifiedBy>JOSE JAIME GUTIERREZ</cp:lastModifiedBy>
  <dcterms:modified xsi:type="dcterms:W3CDTF">2001-07-15T02:35:20Z</dcterms:modified>
  <cp:revision>2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0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DOWS\Escritorio\Univer\sem5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32768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