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0F2A-1F85-4991-8F91-348339C0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AB4-51FD-4CB3-B15C-B0F33501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892-032F-43A4-B12D-5533B27D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9D2-80A6-4D87-9882-CAC3F28A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F431-6050-4B5A-8785-900E6691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244D-BF4E-4367-AD91-9635C57C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D38A-28A1-44C2-8D87-55F6A105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3DC7-9E5A-46C9-A056-B5C7035A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8A2F-5E48-4D02-BBF7-9F0ABA63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7470-42D2-43ED-B9A5-BD711C77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0497-1670-4B8D-B9A6-4C1FD9B4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DF3-93EA-4902-BC69-3AB66E8F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F0F2-AE70-4ADA-AE2D-654ACA5F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69F2-7781-481C-87AB-43855201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9CCD-82CF-4E94-80C8-6AB9A301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D29B-BA34-431F-AC34-DC9ACCDA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0AC2-0F4C-4D4E-8F42-D833C84C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387-3FC2-4519-B031-2A78AEB6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E93-9322-41A0-B461-9A530572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335-0453-421C-B2A7-F17AF06C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0FC-96D2-48AA-93FF-1FBC0810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9DB-9CA9-4365-9429-7D77914D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D81-AB97-4A18-9200-BD99B0CD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BC1-D021-4111-A10E-4CC2B325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F69E-C36E-4D4E-BA4D-9FBE9650A0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27A8-C729-4890-AE90-9B7FAC6656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fe is a Gamble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Introduction to Probabil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1739880" y="5181480"/>
            <a:ext cx="570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erry Comi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sher Lifelong Learning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57200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241-C61A-408C-98C2-5012F66C3E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Hist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1654 the Chevalier de Mere, a gentleman gambler, posed two questions to the celebrated French mathematicians Blaise Pascal and Pierre de Ferma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What is the chance of getting at least one six in four throws of a di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What is the chance of not getting a double-six in twenty-four throws of two di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 result, Pascal and Fermat developed the theory of probabilit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1600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6440" y="1600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13D-230D-4B95-836B-0EF1A9952A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ution of the First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ting a least one six in throws means getting one or two or three or four six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implify let’s first calcula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verse problem of getting no six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(one roll)   = 5/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(four rolls) = 5/6 x 5/6 x 5/6 x 5/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(5/6)  = 0.4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then reversing again g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(four rolls) = 1 – (5/6) = 0.51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558880" y="441972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83320" y="547056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2960" y="6086520"/>
            <a:ext cx="43869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etter than even b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F04-AE63-49CD-A8B0-3CCDDBA564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ution of the Second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getting a six in one roll of two dic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 = 35/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getting a six in 24 rolls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 = (35/36) x (35/36) ...[24 terms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= (35/36)  = 0.5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278160" y="3886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16720" y="4648320"/>
            <a:ext cx="5301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so a better than even b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B4E-3DD4-4407-AF5E-8684A8496C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Birthdays Probl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any people have to be in a room in order for there to be an even chance that two of them have the same birthday (same month and day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umber is only 2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seems awfully low considering there are 365 days in a year (ignoring leap years), how can this b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710-8708-4E6A-9D7C-EEA2AFC892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Birthdays Probl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key is that we are not picking one day of the year, rather we asking if any two have the same birthd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given n people there are n dates to match and there are 1/2 x n x (n - 1) pairs of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gain simpler to calculate the reverse question: What is the chance that no two have the same birthda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2DD-8500-47AC-9FA5-7E680C763B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Birthdays Probl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of no match for 2 peo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ne less day to choose from)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(2) = 364/36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of no match for 3 peo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nother day less to choose from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(3) = (364/365) x (363/36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so for n people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(n) = (364/365) x (363/365) x (362/365)x ... x (365 – n + 1)/36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8BB-F3B2-4BD3-B8F8-60AA317A38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Birthdays Probl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363920" cy="4876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52480" y="5791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E6C-61C0-44C2-9F06-26169F0D40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One-Armed Band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300720" y="3616200"/>
            <a:ext cx="1552320" cy="13136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n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-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D11-9A04-43AA-B6BC-76EA75F6F9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ical Slot Mach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81080" y="1752480"/>
          <a:ext cx="5181840" cy="4114440"/>
        </p:xfrm>
        <a:graphic>
          <a:graphicData uri="http://schemas.openxmlformats.org/drawingml/2006/table">
            <a:tbl>
              <a:tblPr/>
              <a:tblGrid>
                <a:gridCol w="1371600"/>
                <a:gridCol w="1295640"/>
                <a:gridCol w="1295280"/>
                <a:gridCol w="1219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al 1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e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299880" y="6162840"/>
            <a:ext cx="78616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20 x 20 x 20 = 8000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BA0-9F99-4126-937E-340B7EE6A0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76320"/>
          <a:ext cx="8610480" cy="6738840"/>
        </p:xfrm>
        <a:graphic>
          <a:graphicData uri="http://schemas.openxmlformats.org/drawingml/2006/table">
            <a:tbl>
              <a:tblPr/>
              <a:tblGrid>
                <a:gridCol w="1387440"/>
                <a:gridCol w="1387440"/>
                <a:gridCol w="1387440"/>
                <a:gridCol w="1035000"/>
                <a:gridCol w="1863720"/>
                <a:gridCol w="1549440"/>
              </a:tblGrid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y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verage Number of Occurrences per 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verage Total Paid Out per 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er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er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er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er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7`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er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er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ything but a lemon or be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verage number of winning plays in 8000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0" y="8839080"/>
            <a:ext cx="914400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5105520"/>
            <a:ext cx="251460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04800" y="5654520"/>
            <a:ext cx="63986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ou only get back $5888 for e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8000 you put in! YIK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1CE-5A88-4418-AF12-6FDF557C76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cellent referenc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BN 0-486-24342-7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89280" y="1676520"/>
            <a:ext cx="31543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6ED-ADFE-422A-8810-86D157D499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a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ps is a very popular casino dice g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are the ru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roll of the two di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get a 7 or an 11, you win and the game is o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get a 2, 3 or 12, you lose and the game is o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get a 4, 5, 6, 8, 9, or 10, that becomes your “point” and the game contin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ontinue rolling the dice, until you make your point (a win) or get a 7 (you lose: “craps”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E6A-34A1-4BF5-9BC0-744DBD2A0F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a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154080" y="1720800"/>
            <a:ext cx="8562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nce there are six ways to make a 7 and two w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 make an 11, your probability of winning o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 rol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/36 + 2/36 = 8/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nce there is one way to make a 2 or a 12 and tw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ys to make a 3, your probability of losing o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 rol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/36 + 2/36 + 1/36 = 4/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chance of continuing is the probability of get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4, 5, 6, 8, 9 or 10,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/36 + 4/36 + 5/36 + 5/36 + 4/36 + 3/36 = 24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: 8/36 + 4/36 + 24/36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6E8-C839-413D-84B2-ADD1E52FB1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a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490320" y="1863720"/>
            <a:ext cx="8258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chance of winning on the first roll is 8/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chance of getting a 4 or 10 before getting a 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3/36 x 3/(3 + 6) because there are three way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a 4 or 10 and six ways to get a sev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ee the Appendix for the proo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chance of getting a 5 or 9 before getting a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4/36 x 4/(4 + 6) using similar reas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ly the chance of getting a 6 or 8 before g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5/36 x 5/(5 +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4D9-575C-4195-9753-65ECE61541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a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490320" y="1863720"/>
            <a:ext cx="7800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bining the results of the two previous sl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ives the probability of winning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/36 + 2 x (3/36 x 3/9 + 4/36 x 4/10 + 5/36 x 5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0.4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our probability of losing is 1 – 0.4929 = 0.507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refore the casino has an advantag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5071 – 0.4929 = 0.0142 or  1.42 %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 this small advantage can rapidly defeat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4648320"/>
            <a:ext cx="10666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D6B-68FA-4E35-96D9-1AEF9D132C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tting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e is one “winning” strategy (“Martingale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the casino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 advant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ime you win the casino matches your current b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ime you lose you double your b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ollowing play show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will always eventually w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nless you run out of money (or ner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net gain is always just $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exposure grows at a frightening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oor way to get ri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73B-C7F2-4A99-9750-FA5632AB5D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tting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905120"/>
          <a:ext cx="8178840" cy="4565520"/>
        </p:xfrm>
        <a:graphic>
          <a:graphicData uri="http://schemas.openxmlformats.org/drawingml/2006/table">
            <a:tbl>
              <a:tblPr/>
              <a:tblGrid>
                <a:gridCol w="2317680"/>
                <a:gridCol w="1882800"/>
                <a:gridCol w="1325520"/>
                <a:gridCol w="1400400"/>
                <a:gridCol w="1252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 of bets in se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rrent 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tal money put 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ou get 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t 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C0D-22B2-46C2-B18C-AB1193974B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You Can’t Wi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ambler’s Rui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se you have d dollars and the casino has 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he total capital in play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= d +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se you are in a fai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in toss game where you bet a dollar each time and win a dollar with probability 1/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ino has no advantag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your chance of being ruined (losing all your money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AE7-1B96-4095-A9BC-8547C5AE50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mbler’s Ru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970200" y="2048040"/>
            <a:ext cx="767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  = chance of losing d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fter the first to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  = (1/2)R    +  (1/2)R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olution is of th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   = A + B x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ch you can verify by substituting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preceding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0760" y="2209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0312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6508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0760" y="3200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93280" y="3657600"/>
            <a:ext cx="729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96760" y="3657600"/>
            <a:ext cx="9122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20760" y="510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849-7263-4FDF-867A-79B0B2FB7E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mbler’s Ru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1199160" y="1523880"/>
            <a:ext cx="7313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e can determine A and B by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tisfying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n d = 0, R  = 1 (you went bro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+ 0 = 1,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n d = C, R  = 0 (you broke the ba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+ B x C = 0, B = -1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fo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  = 1 – d/C = (C – d)/C = D/(d +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 you wil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alway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e ruined whe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casino has much more capital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ou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even though the game is fai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3040" y="495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97120" y="274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9712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80D-0455-4FB0-A3B6-6F24AD1E79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mbler’s Ru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1123200" y="1600200"/>
            <a:ext cx="6764400" cy="192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reason for this is that a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un of bad luck will wipe out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all stake; whereas a huge ru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d luck is needed to wipe out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03320" y="3581280"/>
            <a:ext cx="7495920" cy="277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you factor in that the casino us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s a significant advantage you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 ruined even f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p = probability that you win  &lt;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 q = probability that you lose &gt;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  = 1 – (p/q)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  when p &lt;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19160" y="5867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53920" y="6095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6280" y="623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7FE-720C-44C7-B98D-1DC45D5D01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ices from the Past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483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ability is the very guide of life.”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ic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bable is what usually happens.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te, Time, Occasion, Chance and Chan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- to these all things are subject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hel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t is not in our power to determine what is true we ought to follow what is most probable.”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escar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B5A-2078-4389-B576-A631E0DAA7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09480" y="914400"/>
            <a:ext cx="8534520" cy="6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419200" cy="26863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737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Probabilistic Model of the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1371600"/>
            <a:ext cx="2057400" cy="914400"/>
          </a:xfrm>
          <a:prstGeom prst="wedgeRoundRectCallout">
            <a:avLst>
              <a:gd name="adj1" fmla="val -66203"/>
              <a:gd name="adj2" fmla="val 99481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d does not play dice with the Universe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0240" y="4419720"/>
            <a:ext cx="9324720" cy="2289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In 1905 Albert Einstein* explained the photoelec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fect in terms of light quanta (phot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In the 1920’s Max Born** and others developed a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probabilistic model of physic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Quantum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 In the 1970’s an extension, the Standard Model,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le to successfully explain much of high-energy phys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 Einstein never accepted such probabilistic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495680" y="1511280"/>
            <a:ext cx="2265480" cy="275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00800" y="1295280"/>
            <a:ext cx="2666880" cy="1143000"/>
          </a:xfrm>
          <a:prstGeom prst="wedgeRoundRectCallout">
            <a:avLst>
              <a:gd name="adj1" fmla="val -60120"/>
              <a:gd name="adj2" fmla="val 72916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d has made the world [so that] w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use dice with fair success.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4D6-45FE-4435-85D2-8CED145E94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endix on Cra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741600" y="1819440"/>
            <a:ext cx="767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To pro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f there are A ways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our point and B ways to get a 7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ways to neither get your point nor 7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 your probability of mak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int is A /(A + 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The outcom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A + B + 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A/N, probability of getting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B/N, probability of getting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C/N, probability of rolling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 a + b + c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008-CF84-4A74-9AD2-59DB1284F7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4038480"/>
            <a:ext cx="9067680" cy="1828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endix on Cra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7560" y="1828800"/>
            <a:ext cx="9141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ou can make your point in one ro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wo rolls, etc, etc. So the total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f making your poi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= a + c x a + c x c x a + c x c x c x a +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a x (1 + c + c^2 + c^3 +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 1 + c + c^2 + c^3 + ... = 1/(1-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        S = 1 + c + c^2 + c^3 +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  c x S =     c + c^2 + c^3 + c^4 +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 S – c x S = 1, or S(1-c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nce, S = 1/(1-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 P = a/(1-c)= a/(a + b + c – c) = A /(A + 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ch was to be pro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E05-3C2B-4B49-840F-5D37389D32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finition of Prob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se the event E occurs n times out of a total of N possible outco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we can define the probability of E a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= 1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lway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= 1/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ccurs half the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= 0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ever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161160" y="38005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(E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5720" y="365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40120" y="40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ECF-3999-4643-B211-8AFFCB342A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lling a D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comes for one d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ability of any one outcome = 1/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2622600" cy="349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71600" y="2971800"/>
            <a:ext cx="1676520" cy="16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B9F-2F73-408D-8BDE-8767939939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Rolling Two Di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36 outcom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09040" cy="4690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33240" y="279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3240" y="340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3240" y="409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5378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5911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17600" y="279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17600" y="340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17600" y="409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264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2640" y="5378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2640" y="5911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79720" y="279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1160" y="340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79720" y="409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4760" y="4800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4760" y="5378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4760" y="5911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1480" y="279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1480" y="340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1480" y="409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6520" y="5378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6520" y="5911920"/>
            <a:ext cx="4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27280" y="279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27280" y="340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27280" y="409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232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2320" y="5378400"/>
            <a:ext cx="4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2320" y="5911920"/>
            <a:ext cx="4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37120" y="279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37120" y="340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37120" y="409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2160" y="480060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2160" y="537840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2160" y="591192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0E6-E1E9-45BC-A816-1D1696DA8D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posite Ev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se E is an event, and let not-E repres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ther possible ev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f you are tossing a fair (unbiased) coi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head) = 1/2,   P(tail) = 1/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head) + P(tail) = 1/2 + 1/2 =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141920" y="37339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(E) + P(not E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962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40120" y="3581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572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962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09520" y="3581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-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5944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9240" y="3733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37339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3581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36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962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412-DD96-4F55-B875-EC1EA50BDF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tually Exclusive Ev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events A and B are mutually exclusive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ither 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occur b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 bot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the same tim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irst rolling a 2 then rolling a 3 with one d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P(A or B) = P(A) + P(B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P(2 or 3) = P(2) + P(3) = 1/6 + 1/6 = 1/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6F6-3CC5-4C89-81C5-C3EB1CE432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dependent Tri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trials A and B d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fluence each other, they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each time you flip an unbiased coin the probability of heads is 1/2 (even if the previous hundred flips came up tail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P(A and B) = P(A) x P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two heads in a row) = 1/2 x 1/2 = 1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rolling a 12 with two dice) = (1/6) x (1/6) = 1/3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0E9-211B-42A7-9EA4-F9EB06AA55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7:34:18Z</dcterms:created>
  <dc:creator>Jerry Comisar</dc:creator>
  <dc:description/>
  <dc:language>en-US</dc:language>
  <cp:lastModifiedBy>Jerry Comisar</cp:lastModifiedBy>
  <dcterms:modified xsi:type="dcterms:W3CDTF">2007-03-30T17:34:19Z</dcterms:modified>
  <cp:revision>461</cp:revision>
  <dc:subject/>
  <dc:title>Java Programming</dc:title>
</cp:coreProperties>
</file>