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BD18-5935-45B1-936F-6D6731D63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53FD-FA88-4B67-96BC-59CEA443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6935-555D-4A5C-A9F2-E48E4BE4F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C1E8-B63B-4980-B5F1-50FDD2555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4F641-0D67-491D-8073-28AF5797C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38F0C-0892-473A-AA86-27DBF07E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5F5A-77A6-4478-BE6B-5B03F2C1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F255-AFE3-438C-BB2F-E380B12A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106A-AD17-42D1-93E4-EE4E134F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5D57-D3EB-4434-9D24-6B017E80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81A3-8A6A-43B0-9F02-1F646C9B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254B-FBAB-4AA7-A103-92353FEF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D748-41A8-4A14-AFA0-1CE4233C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5DAA-D6F9-4A84-A8CC-CCE85AD3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D7B0-2812-4522-AA6D-E6AA5672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9C817-1C40-4397-8EB7-58F56C679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1C16C-2A68-4C4F-A7E2-AAF9E0A1D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8647-8227-4293-83CB-26FE9CE9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71BD-F166-4DEC-9DB0-D37086C4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D347-B676-402A-8D16-F8C0ABD0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7A5B-9932-40B1-A92B-A9C5CF1D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7AEB-76DC-4195-BFAF-E26DD242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F2BE-2449-4451-9C9C-21B0F4D7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CFE5-196C-4946-951F-D36A6F16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8640"/>
            <a:ext cx="8152920" cy="1599840"/>
            <a:chOff x="457200" y="99864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840" y="998640"/>
              <a:ext cx="572328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3760" y="1163520"/>
              <a:ext cx="5723280" cy="126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2360" y="1384200"/>
              <a:ext cx="572040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79E0-7CFB-4942-89A3-7BD87193C498}" type="slidenum">
              <a:rPr b="0" lang="zh-TW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998640"/>
            <a:ext cx="8152920" cy="1599840"/>
            <a:chOff x="457200" y="99864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840" y="998640"/>
              <a:ext cx="572328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3760" y="1163520"/>
              <a:ext cx="5723280" cy="126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2360" y="1384200"/>
              <a:ext cx="572040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733F-25F0-40DE-8610-BFB7A0800545}" type="slidenum">
              <a:rPr b="0" lang="zh-TW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hapter 9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atabases and Information Manage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7B56F-73F1-45E8-A51D-F19A230B593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f5f5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HIERARCHY OF DAT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ta typ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x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umeri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urrenc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em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yperlin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2A57-BF6E-4F38-AE3C-E808E56EC4A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f5f5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HIERARCHY OF DAT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ey field (primary key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ta file (fil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cor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3" name="DC10-03" descr=""/>
          <p:cNvPicPr/>
          <p:nvPr/>
        </p:nvPicPr>
        <p:blipFill>
          <a:blip r:embed="rId1"/>
          <a:stretch/>
        </p:blipFill>
        <p:spPr>
          <a:xfrm>
            <a:off x="0" y="4419720"/>
            <a:ext cx="9144000" cy="190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6F05-B3CD-46BA-A726-B625389E08F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f5f5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INTAINING DAT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ding Recor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6" name="DC10-04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7619760" cy="34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9CDB-A710-4FBB-871F-55954205CCD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f5f5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INTAINING DAT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Adding Recor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anging Recor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9" name="DC10-05" descr=""/>
          <p:cNvPicPr/>
          <p:nvPr/>
        </p:nvPicPr>
        <p:blipFill>
          <a:blip r:embed="rId1"/>
          <a:stretch/>
        </p:blipFill>
        <p:spPr>
          <a:xfrm>
            <a:off x="380880" y="3552840"/>
            <a:ext cx="7620120" cy="3305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9A3B-584A-4FB9-83C5-B905DB0DAC9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f5f5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INTAINING DAT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Adding Recor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Changing Recor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leting Recor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4413-1A97-43C8-A3A8-0F35982B465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DC10-06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210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4AFA-0836-4DB6-90D6-039E8D2462D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f5f5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INTAINING DAT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ta Valid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mparing data to a set of rules to determine if the data is accura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5" name="DC10-07" descr=""/>
          <p:cNvPicPr/>
          <p:nvPr/>
        </p:nvPicPr>
        <p:blipFill>
          <a:blip r:embed="rId1"/>
          <a:stretch/>
        </p:blipFill>
        <p:spPr>
          <a:xfrm>
            <a:off x="0" y="3749760"/>
            <a:ext cx="9144000" cy="310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52E6-A3E6-45FE-B764-8265AEC610B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f5f5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INTAINING DAT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ta Valid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mparing data to a set of rules to determine if the data is accura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phabetic/numeric che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mpleteness che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ange che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sistency che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2052-03B6-40EE-B130-F7E6A32335D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DC10-08" descr=""/>
          <p:cNvPicPr/>
          <p:nvPr/>
        </p:nvPicPr>
        <p:blipFill>
          <a:blip r:embed="rId1"/>
          <a:stretch/>
        </p:blipFill>
        <p:spPr>
          <a:xfrm>
            <a:off x="0" y="154080"/>
            <a:ext cx="9144000" cy="6691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3438-B821-4620-8618-91ACA77468D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f5f5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INTAINING DAT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ta Valid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mparing data to a set of rules to determine if the data is accura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phabetic/numeric che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mpleteness che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ange che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sistency che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eck digi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ADC1-C080-40A0-8BEE-087E21F2410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f5f5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HAPTER 9 PRIMARY OBJECTIV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47560" y="2057040"/>
            <a:ext cx="739116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plain why data and information are important to an organiz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dentify data maintenance techniqu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fferentiate between file processing and databa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cuss the advantages of using a database management system (DBM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76C2-7792-44A2-8AFF-1F6C4F396BE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f5f5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LE PROCESSING VERSUS DATABAS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le Processing Syste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ach department has its own set of fi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advantag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ta redundanc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solated da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3" name="DC10-09" descr=""/>
          <p:cNvPicPr/>
          <p:nvPr/>
        </p:nvPicPr>
        <p:blipFill>
          <a:blip r:embed="rId1"/>
          <a:stretch/>
        </p:blipFill>
        <p:spPr>
          <a:xfrm>
            <a:off x="4114800" y="2754360"/>
            <a:ext cx="5029200" cy="41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441C-4765-410F-80EA-85F35F480B0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f5f5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LE PROCESSING VERSUS DATABAS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Database Approa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ny applications use the data in a single shared databa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6" name="DC10-10" descr=""/>
          <p:cNvPicPr/>
          <p:nvPr/>
        </p:nvPicPr>
        <p:blipFill>
          <a:blip r:embed="rId1"/>
          <a:stretch/>
        </p:blipFill>
        <p:spPr>
          <a:xfrm>
            <a:off x="2133720" y="3276720"/>
            <a:ext cx="7010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9A3F-4273-4D26-B39D-1D2384EEE9C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f5f5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LE PROCESSING VERSUS DATABAS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Database Approa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ny applications use the data in a single shared databa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vantag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duced data redundanc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mproved data integr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9" name="DC10-11" descr=""/>
          <p:cNvPicPr/>
          <p:nvPr/>
        </p:nvPicPr>
        <p:blipFill>
          <a:blip r:embed="rId1"/>
          <a:stretch/>
        </p:blipFill>
        <p:spPr>
          <a:xfrm>
            <a:off x="5429160" y="2438280"/>
            <a:ext cx="3714840" cy="441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023E-D388-44A5-BBDB-F848BAF58BC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f5f5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LE PROCESSING VERSUS DATABAS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Database Approa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ny applications use the data in a single shared databa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vantag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duced data redundanc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mproved data integr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hared da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05FB-0934-44CA-8548-DD3027CCB03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DC10-12" descr=""/>
          <p:cNvPicPr/>
          <p:nvPr/>
        </p:nvPicPr>
        <p:blipFill>
          <a:blip r:embed="rId1"/>
          <a:stretch/>
        </p:blipFill>
        <p:spPr>
          <a:xfrm>
            <a:off x="304920" y="58680"/>
            <a:ext cx="8381880" cy="679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F860-D87C-43FA-9E0B-1BB8E25203C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f5f5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LE PROCESSING VERSUS DATABAS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Database Approa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586800" indent="-22572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ny applications use the data in a single shared databa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586800" indent="-22572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vantag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902880" indent="-1803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duced data redundanc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902880" indent="-1803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mproved data integr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902880" indent="-1803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hared da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902880" indent="-1803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duced development ti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902880" indent="-1803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asier report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7762-7FED-40DD-9D91-B9F43A41856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f5f5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LE PROCESSING VERSUS DATABAS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Database Approa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519840" indent="-19980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ny applications use the data in a single shared databa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519840" indent="-19980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vantag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799920" indent="-1598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duced data redundanc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799920" indent="-1598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mproved data integr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799920" indent="-1598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hared da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799920" indent="-1598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duced development ti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799920" indent="-1598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asier report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519840" indent="-19980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advantages: Cost and vulnerabil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11A6-F3F1-4055-9C61-3BE8AD46473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f5f5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ATABASE MANAGEMENT SYSTE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ftware or a set of programs designed to control access to the database and manage data resources efficient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vailable for various sizes and types of comput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9" name="DC10-13" descr=""/>
          <p:cNvPicPr/>
          <p:nvPr/>
        </p:nvPicPr>
        <p:blipFill>
          <a:blip r:embed="rId1"/>
          <a:stretch/>
        </p:blipFill>
        <p:spPr>
          <a:xfrm>
            <a:off x="304920" y="3763800"/>
            <a:ext cx="8839080" cy="3094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A522-2D6C-4539-B0E9-93482796D92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f5f5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ATABASE MANAGEMENT SYSTE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ta Dictiona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ores data about each file in the database and each field within those fi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fault valu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2" name="DC10-14" descr=""/>
          <p:cNvPicPr/>
          <p:nvPr/>
        </p:nvPicPr>
        <p:blipFill>
          <a:blip r:embed="rId1"/>
          <a:stretch/>
        </p:blipFill>
        <p:spPr>
          <a:xfrm>
            <a:off x="1523880" y="3733920"/>
            <a:ext cx="6019920" cy="312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D2D4-1A66-4418-A400-6503CF3CB8E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f5f5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ATABASE MANAGEMENT SYSTE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ta Maintenance and Retriev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Que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Query langua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5" name="DC10-15" descr=""/>
          <p:cNvPicPr/>
          <p:nvPr/>
        </p:nvPicPr>
        <p:blipFill>
          <a:blip r:embed="rId1"/>
          <a:stretch/>
        </p:blipFill>
        <p:spPr>
          <a:xfrm>
            <a:off x="3581280" y="1981080"/>
            <a:ext cx="5562720" cy="487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524A-B26F-4BA8-9915-8ADC888A945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f5f5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HAPTER 9 PRIMARY OBJECTIVES (cont.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scribe the characteristics of relational and object-oriented databa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plain how to use a query langua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cuss the responsibilities of the data and database administrato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scribe the various types of information syste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504F-8F9B-4F4C-B7B6-E63D2CF3ACE8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f5f5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ATABASE MANAGEMENT SYSTE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ta Maintenance and Retriev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Que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Query langua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Query-by-example (QB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85FD-2640-457A-AA2C-AFA89BAF9B8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DC10-16" descr=""/>
          <p:cNvPicPr/>
          <p:nvPr/>
        </p:nvPicPr>
        <p:blipFill>
          <a:blip r:embed="rId1"/>
          <a:stretch/>
        </p:blipFill>
        <p:spPr>
          <a:xfrm>
            <a:off x="380880" y="108000"/>
            <a:ext cx="8382240" cy="664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A326-C1E4-4DAF-9005-566F6486E51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f5f5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ATABASE MANAGEMENT SYSTE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ta Maintenance and Retriev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Que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Query langua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Query-by-example (QB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ms (data entry form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7350-5049-4C06-89C5-1B7CBBA7A35C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DC10-17" descr=""/>
          <p:cNvPicPr/>
          <p:nvPr/>
        </p:nvPicPr>
        <p:blipFill>
          <a:blip r:embed="rId1"/>
          <a:stretch/>
        </p:blipFill>
        <p:spPr>
          <a:xfrm>
            <a:off x="533520" y="345960"/>
            <a:ext cx="7467480" cy="651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2C43-14F6-490A-85DD-544530B17D1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f5f5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ATABASE MANAGEMENT SYSTE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ta Maintenance and Retriev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Que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Query langua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Query-by-example (QB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ms (data entry form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port generator (report writer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03A7-1A04-47E4-A861-4E85DD80C09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DC10-18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839080" cy="592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C314-BF29-4A3E-9D62-30A5D1C3975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f5f5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ATABASE MANAGEMENT SYSTE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ta Secur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ccess privileg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ad-on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ull-upda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485C-C382-4825-89AB-2AC6FAC47347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f5f5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ATABASE MANAGEMENT SYSTE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ackup and Recove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ke backups (copies) on a regular bas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g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fore ima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fter ima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726D-6ADD-41EB-B9C9-2806E4958803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DC10-19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381880" cy="586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05A6-2598-4A3D-B726-010173186E5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f5f5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ATABASE MANAGEMENT SYSTE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ackup and Recove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46200" indent="-24840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ke backups (copies) on a regular bas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46200" indent="-24840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g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994320" indent="-1987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fore ima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994320" indent="-1987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fter ima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46200" indent="-24840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covery utilit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994320" indent="-1987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llba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994320" indent="-1987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llforwar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956C-83AF-4BC3-8178-CD9CE2B12E87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f5f5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FEREN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ary B. Shelly, Thomas J. Cashman, Misty, Tim,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Discovering Computers 2000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 Shelly Cashman Ser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urtin, Dennis P. et al,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Informatio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Technology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 The Breaking Wave, Irwin/McGraw-Hill 1998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ng, Larry &amp; Long Nancy,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Introduction to Computers &amp; Information System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 5th ed., Prentice hall International Edition, 1997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AFAE-89CA-459C-A73E-6F1E5FB0AB2E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f5f5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LATIONAL AND OBJECT-ORIENTED DATABAS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ve data mode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ierarchic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twor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lation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bject orient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bject relation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4" name="DC10-20" descr=""/>
          <p:cNvPicPr/>
          <p:nvPr/>
        </p:nvPicPr>
        <p:blipFill>
          <a:blip r:embed="rId1"/>
          <a:stretch/>
        </p:blipFill>
        <p:spPr>
          <a:xfrm>
            <a:off x="3657600" y="1905120"/>
            <a:ext cx="5257800" cy="49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E5C2-A66A-4119-A9EC-1DD4C0D64BB0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f5f5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LATIONAL AND OBJECT-ORIENTED DATABAS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ve data mode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ierarchic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twor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lation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bject orient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bject relation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ypes of Databases Anim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7334-C3D0-42C0-A988-644B53A1381D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f5f5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LATIONAL AND OBJECT-ORIENTED DATABAS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lational Databa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lation or table (fil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uple or row (record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tribute or column (field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9" name="DC10-21" descr=""/>
          <p:cNvPicPr/>
          <p:nvPr/>
        </p:nvPicPr>
        <p:blipFill>
          <a:blip r:embed="rId1"/>
          <a:stretch/>
        </p:blipFill>
        <p:spPr>
          <a:xfrm>
            <a:off x="228600" y="4267080"/>
            <a:ext cx="8610480" cy="258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4B41-B12F-4E1A-9FE4-59CA1976DF4D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f5f5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LATIONAL AND OBJECT-ORIENTED DATABAS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lational Databa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lation or table (fil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uple or row (record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tribute or column (field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lationship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7DFA-D3C1-4E9E-9732-A70BE00CAE24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DC10-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10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AC75-6B2E-4F0B-9459-868BFC436AA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f5f5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LATIONAL AND OBJECT-ORIENTED DATABAS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lational Databa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lational algebr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es variable and operations to build a new rel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je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lection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Jo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C795-57F3-4E2F-9828-5F3818BC1FDD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DC10-23" descr=""/>
          <p:cNvPicPr/>
          <p:nvPr/>
        </p:nvPicPr>
        <p:blipFill>
          <a:blip r:embed="rId1"/>
          <a:stretch/>
        </p:blipFill>
        <p:spPr>
          <a:xfrm>
            <a:off x="380880" y="0"/>
            <a:ext cx="8763120" cy="693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7588-8CDC-4731-B76F-9CD506DB33A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f5f5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LATIONAL AND OBJECT-ORIENTED DATABAS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lational Databa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ructured Query Language (SQL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eywords and rules used to implement relational algebra opera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8" name="DC10-24" descr=""/>
          <p:cNvPicPr/>
          <p:nvPr/>
        </p:nvPicPr>
        <p:blipFill>
          <a:blip r:embed="rId1"/>
          <a:stretch/>
        </p:blipFill>
        <p:spPr>
          <a:xfrm>
            <a:off x="0" y="3591000"/>
            <a:ext cx="7696080" cy="326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41A6-ECEF-4135-979F-C28C788E04A4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f5f5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LATIONAL AND OBJECT-ORIENTED DATABAS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bject-Oriented Databa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bjects contain both data and the activities to read or manipulate the da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ultimedia databa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roupware databa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mputer-aided desig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ypertext databa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EB02-1182-4361-ADF1-7FC84F06B075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DC10-25" descr=""/>
          <p:cNvPicPr/>
          <p:nvPr/>
        </p:nvPicPr>
        <p:blipFill>
          <a:blip r:embed="rId1"/>
          <a:stretch/>
        </p:blipFill>
        <p:spPr>
          <a:xfrm>
            <a:off x="304920" y="0"/>
            <a:ext cx="8381880" cy="602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EFBB-5C6B-4FDC-AFBD-E1986A59E15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f5f5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ATA AND INFORM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llection of items such as words, numbers, images, and sounds that are not organized and have little meaning individual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form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ta that is organiz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1" name="DC10-01" descr=""/>
          <p:cNvPicPr/>
          <p:nvPr/>
        </p:nvPicPr>
        <p:blipFill>
          <a:blip r:embed="rId1"/>
          <a:stretch/>
        </p:blipFill>
        <p:spPr>
          <a:xfrm>
            <a:off x="5181480" y="3875040"/>
            <a:ext cx="3962520" cy="298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6296-ED55-480D-AF35-1B727FBFD449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f5f5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LATIONAL AND OBJECT-ORIENTED DATABAS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bject-Oriented Databa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586800" indent="-22572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bjects contain both data and the activities to read or manipulate the da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586800" indent="-22572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902880" indent="-1803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ultimedia databa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902880" indent="-1803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roupware databa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902880" indent="-1803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mputer-aided desig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902880" indent="-1803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ypertext databa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586800" indent="-22572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bject query langua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F5BA-B748-4A3A-B1D1-10149729F278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DC10-26" descr=""/>
          <p:cNvPicPr/>
          <p:nvPr/>
        </p:nvPicPr>
        <p:blipFill>
          <a:blip r:embed="rId1"/>
          <a:stretch/>
        </p:blipFill>
        <p:spPr>
          <a:xfrm>
            <a:off x="228600" y="0"/>
            <a:ext cx="8686800" cy="597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35BC-41F5-4440-A7C0-298A315179D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f5f5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ATABASE ADMINISTR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le of the Data and Database Administrato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signing databa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reating and maintaining data dictiona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ur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rforma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ackup and recove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E698-520E-4C4E-81A7-45BF4EF03C4D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f5f5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ATABASE ADMINISTR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le of the us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come familiar with the da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pecify additions to the databa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D374-1F80-46E0-8449-19F71158D50F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f5f5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ATABASE ADMINISTR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tabase Design Guidelin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reful design to make it easier for users to query and modify the database and create repor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CAF0-70F3-48CC-83C9-6982C9A83CA5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DC10-27" descr=""/>
          <p:cNvPicPr/>
          <p:nvPr/>
        </p:nvPicPr>
        <p:blipFill>
          <a:blip r:embed="rId1"/>
          <a:stretch/>
        </p:blipFill>
        <p:spPr>
          <a:xfrm>
            <a:off x="1219320" y="0"/>
            <a:ext cx="6046560" cy="683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183B-3723-4982-88BB-CE1235DCCE6D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f5f5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ATABASE ADMINISTR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tabase Design Guidelin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reful design to make it easier for users to query and modify the database and create repor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tabase Design Anim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F7CA-50EB-47B6-806B-3A33D6C31386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f5f5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QUALITIES OF VALUABLE INFORM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ccurate inform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erifiab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imely inform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rganized inform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eaningful inform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st-effective inform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B858-ABA6-443E-9498-17AD5DF45FFD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f5f5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QUALITIES OF VALUABLE INFORM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w Managers Use Inform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lann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rganiz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ead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troll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8" name="DC10-28" descr=""/>
          <p:cNvPicPr/>
          <p:nvPr/>
        </p:nvPicPr>
        <p:blipFill>
          <a:blip r:embed="rId1"/>
          <a:stretch/>
        </p:blipFill>
        <p:spPr>
          <a:xfrm>
            <a:off x="3200400" y="1774800"/>
            <a:ext cx="5943600" cy="508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1A9A-2CBE-4D40-8A39-6D6A75A8BF9E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f5f5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QUALITIES OF VALUABLE INFORM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evels of Us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ecutive managem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iddle managem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perational managem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nmanagement employe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0E5E-FF38-4F00-BBCF-E2EB1FA454AB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f5f5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ATA AND INFORM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ta Integr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liable data ent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imely da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ta secur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acku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B4DC-BD43-41E8-99F7-F47DA4CCF6A1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DC10-29" descr=""/>
          <p:cNvPicPr/>
          <p:nvPr/>
        </p:nvPicPr>
        <p:blipFill>
          <a:blip r:embed="rId1"/>
          <a:stretch/>
        </p:blipFill>
        <p:spPr>
          <a:xfrm>
            <a:off x="380880" y="31680"/>
            <a:ext cx="8305920" cy="6732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B101-C4EA-4253-BE54-B3C3ECD2887F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f5f5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YPES OF INFORMATION SYSTE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formation syste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llection of hardware, software, data, people and procedures designed to generate inform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A2B2-F1B0-4CEC-B1EB-2A73D00BAD63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DC10-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5513-36CF-40B7-997E-D9CC2620D411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f5f5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YPES OF INFORMATION SYSTE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ffice Information Syste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nhance workflo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acilitate communica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ffice autom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13AD-ECB3-48F1-A6D4-ACFB5E66326C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f5f5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YPES OF INFORMATION SYSTE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ransaction Processing Syste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83280" indent="-26280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pture information generated during and organization’s day-to-day transac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83280" indent="-26280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cording an activ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83280" indent="-26280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firming an action or triggering a respon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83280" indent="-26280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intaining da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83280" indent="-26280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nline transaction processing (OLTP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C4AF-22B7-4B41-884B-1BC7E51D7F05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DC10-31" descr=""/>
          <p:cNvPicPr/>
          <p:nvPr/>
        </p:nvPicPr>
        <p:blipFill>
          <a:blip r:embed="rId1"/>
          <a:stretch/>
        </p:blipFill>
        <p:spPr>
          <a:xfrm>
            <a:off x="762120" y="876240"/>
            <a:ext cx="7619760" cy="51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7695-D929-4487-93A5-8DCA27689185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f5f5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YPES OF INFORMATION SYSTE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nagement Information Syste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nerates accurate, timely, and organized inform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nagement reporting system (MR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tailed inform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mmary inform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ception inform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182E-8EAF-4861-824D-24838F2BB013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DC10-32" descr=""/>
          <p:cNvPicPr/>
          <p:nvPr/>
        </p:nvPicPr>
        <p:blipFill>
          <a:blip r:embed="rId1"/>
          <a:stretch/>
        </p:blipFill>
        <p:spPr>
          <a:xfrm>
            <a:off x="762120" y="552600"/>
            <a:ext cx="7619760" cy="575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D430-3B6A-4EFC-9340-493865CB6E35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f5f5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YPES OF INFORMATION SYSTE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cision Support Syste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elp users reach a decis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ternal data sourc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ternal data sourc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97F5-F074-46C9-BC7F-164579F6AA6B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Dc10-33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915400" cy="458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CAF1-7B9D-4F10-B740-71F835E439EA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f5f5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ATA AND INFORM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ta Integr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liable data ent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imely da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ta secur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acku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id Scientist vide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10B6-96A0-48C1-95BC-0AFED7937C40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f5f5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YPES OF INFORMATION SYSTE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cision Support Syste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elp users reach a decis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ternal data sourc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ternal data sourc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ecutive information system (EI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1D81-5C77-4721-81CE-4ADFCCC0110A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DC10-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7743-17E0-4ECA-8D5F-B8503FA26C7D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f5f5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YPES OF INFORMATION SYSTE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pert Syste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pture and store knowledge of human exper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mitates human reasoning and decision-making proces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AC62-B14C-4744-BB71-CD120A761B15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DC10-3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71E1-97BE-4983-97D6-897BBA3348CB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f5f5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YPES OF INFORMATION SYSTE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pert Syste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pture and store knowledge of human exper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mitates human reasoning and decision-making proces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nowledge ba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ference ru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tificial intelligence (AI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04004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F811-6195-4E1B-8374-9606F770BADA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DC10-36" descr=""/>
          <p:cNvPicPr/>
          <p:nvPr/>
        </p:nvPicPr>
        <p:blipFill>
          <a:blip r:embed="rId1"/>
          <a:stretch/>
        </p:blipFill>
        <p:spPr>
          <a:xfrm>
            <a:off x="0" y="0"/>
            <a:ext cx="8839080" cy="6802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0E40-7E28-4A25-A050-10D4453EFDFC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686800" cy="129528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f5f5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UMMARY OF DATABASES AND INFORMATION MANAGE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678204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ta and inform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hierarchy of da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intaining da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le processing versus databa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tabase management syste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lational and object-oriented databa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tabase administr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Qualities of valuable inform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A319-A150-42CF-B0F8-03173E3259A8}" type="slidenum">
              <a:t>76</a:t>
            </a:fld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f5f5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hapter 9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64062-EA54-48AA-8EDC-E0AC925A2446}" type="slidenum">
              <a:t>7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f5f5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HIERARCHY OF DAT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arious leve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aract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el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cor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taba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F64C-2F6C-4397-8AFC-FBA084A5E10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DC10-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D1D6-3632-4679-9122-5C19C832E06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30T13:26:22Z</dcterms:created>
  <dc:creator>Jeff Quasney</dc:creator>
  <dc:description/>
  <dc:language>en-US</dc:language>
  <cp:lastModifiedBy>VTC</cp:lastModifiedBy>
  <dcterms:modified xsi:type="dcterms:W3CDTF">2000-03-15T04:46:25Z</dcterms:modified>
  <cp:revision>100</cp:revision>
  <dc:subject/>
  <dc:title>Shelly Cashman Series  Discovering Computers A Link to the Future</dc:title>
</cp:coreProperties>
</file>