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17D-2716-45BA-AA2A-ACC4078D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031-0852-4A3B-A6FC-D6416257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6E7-70A7-4991-AE49-BA46B52B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C85-0BF1-4166-B2EB-C11572C8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DDFE-64E2-4661-AE37-5406AED7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016-A535-4AD1-94F8-06BFFAA7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1797-5BAB-46CE-AF94-35B1BC95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651-2ACF-451C-BC3B-E0EBEF5C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9145-3909-4112-B7A7-E26DF64C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8985-5925-46A7-8B15-690FC38D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CF1B-3BB8-4B7F-8E89-A5D1F6C0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1AD-E40F-4DF0-888D-DF8A92E0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789-4A83-416A-84A6-28C71EB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9C5B-09E7-461A-9B5B-209E6C0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92D2-E3B2-487B-9AF2-0EAA126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049-8385-486C-A20B-F3463355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7631-04F4-4EF4-B1C9-8FBB52FC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9DA-5A70-47DC-8639-C34C35C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1BA-ACA2-457F-8A80-A233641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275-CEC9-4731-9425-176C1FD2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E66-D3DA-4850-BE29-C09D6DD7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D5D-BB10-4391-826E-9034894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3D6-812A-4FE1-ACA3-48117642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82F-F529-4021-81AC-3AA8F3B4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3D59-1845-4310-83F3-B09CD22B6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680-DD51-49C7-A2CA-5100ECD5E7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2286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- Operating System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4062-49FA-4365-A10F-C5E0E7800CCD}" type="slidenum">
              <a:t>1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N OPERATING SYSTEM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types of 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us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u-driven use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user interface (GU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554800" y="6402240"/>
            <a:ext cx="2058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2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96080" y="6427800"/>
          <a:ext cx="102096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6427800"/>
                    <a:ext cx="10209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3740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0" y="564048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54800" y="602136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7400" y="5791320"/>
            <a:ext cx="33804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7400" y="617220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96080" y="5589720"/>
          <a:ext cx="10209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589720"/>
                    <a:ext cx="10209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696080" y="5970600"/>
          <a:ext cx="1020960" cy="30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5970600"/>
                    <a:ext cx="10209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181-0DC6-49AB-BC8B-6C6E2C5E7BE8}" type="slidenum">
              <a:t>10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YPES OF OPERATING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imple Batch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ultiprogrammed Batch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ime-shar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ersonal Computer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allel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Real-tim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747-AA7E-4865-95E9-DA2B716E0A46}" type="slidenum">
              <a:t>11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BATCH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bs with similar needs wer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tch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gether and run through the computer as a gro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mall program,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id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lways in memory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nito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manage the job sequencing in the operating systems.   It would automatically sequence from one program to another and from one job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BD7-8FF9-4B38-AD62-46898CE023B0}" type="slidenum">
              <a:t>12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IDENT MON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computer was turned on, the resident monitor was invoked, and it would transfer control to a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program terminated, it would return control to the resident monitor, which would then go on to the next progr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F21-ABD4-4CDB-93C0-A9992417EB92}" type="slidenum">
              <a:t>13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ROGRAMMED BATCH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gramming increases CPU utilization by organizing jobs so that the CPU always has something to exec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rating system keeps several jobs in memory at a time.   The CPU switches among the jobs in order to keep itself not being id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3F9-A908-42DD-90C7-16D5BAA147AB}" type="slidenum">
              <a:t>14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ULTIPROGRAMMED BATCH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21172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job is waiting for I/O, then it needs to wait.  CPU can serve other jobs 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ly, the first job finishes waiting and gets the CPU 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133720"/>
            <a:ext cx="1981080" cy="2743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743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3276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809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4343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19810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5029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layout for a multiprogramm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BF2-037F-47AD-B7AC-10F1893A6110}" type="slidenum">
              <a:t>1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IME-SHAR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CPU scheduling and multiprogramming to provide each user with a small program in mem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switches rapidly from one user to the next, each user is given the impression that she/he has her own computer, whereas actually one computer is being shared among us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7C9-D32A-4C55-B96C-9312018A6DEF}" type="slidenum">
              <a:t>16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ARALLEL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han one processor in close communication, sharing the computer bus, the clock, and sometimes memory and peripheral devi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have more work done compare to single processor system: Speed-up &gt; 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26F-45B4-4163-A2DD-DE5687857420}" type="slidenum">
              <a:t>17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ARALLEL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peed-up ratio with n processors is not n, however, but rather is less than 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head is incurred for cooperation work among process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ors can save up resources compared to multiple single processor 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80E-DBC2-4A03-B18F-ED9D562B91CB}" type="slidenum">
              <a:t>18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ISTRIBUTED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cessors shares workloads but they do not share memory or a clock.  Instead, each processor has its own local memory.  The processors communicate with one another through various communication lines, such as high-speed buses or telephone lin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cessors in the distributed system may vary from small microprocessors, workstations to large compu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yste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3B0-8C48-4D86-933C-CB8377581293}" type="slidenum">
              <a:t>19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he term operat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 different types of operat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components of an operat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the functions of an operating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6CA-5026-4E5A-A3AB-367B3272186D}" type="slidenum">
              <a:t>2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EAL-TIME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n there are rigid time requirements on the operation of a processor or the flow of data, and thus is often used as a control device in a dedicated applica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nsors bring data to the computer.  The computer must analyze the data and possibly adjust controls to modify the sensor input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.g. medical imaging systems, industrial control systems, home-appliance controller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2A2-CA52-4181-9379-371C3B27FACB}" type="slidenum">
              <a:t>20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 OF AN OPERATING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ocess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put/Output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ystems Administ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402-0703-4419-B77B-419F58F527CF}" type="slidenum">
              <a:t>21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can run one program at a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5DC-D5D5-4DE2-8E20-C8EA9E0A4A4D}" type="slidenum">
              <a:t>22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programs can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16F-33B7-4607-BC3C-4A0FC028906F}" type="slidenum">
              <a:t>23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 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581-C68F-4F05-809B-7391EB6EB7C3}" type="slidenum">
              <a:t>24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 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switches back and forth between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D09-AC50-455D-8DD7-5F9E64153C03}" type="slidenum">
              <a:t>2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 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pera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switch when they reach a logical break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A73-A954-41E6-AF8B-542983CCB035}" type="slidenum">
              <a:t>26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user 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pera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emp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 switches programs based on allocated amount of time and pr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6BC-767C-41FD-8463-376192DF91A2}" type="slidenum">
              <a:t>27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emp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35000" y="3106800"/>
          <a:ext cx="5274000" cy="268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3106800"/>
                    <a:ext cx="52740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462-A0E7-459F-9CB9-E53BB1462F15}" type="slidenum">
              <a:t>28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as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pera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emptive multitas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th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e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C57-F0F8-4AAF-9692-A9370A8C8093}" type="slidenum">
              <a:t>29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the difference between proprietary and portable 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and briefly describe the major operating systems that are being used to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D93-304F-45F1-AB94-00FF629424D8}" type="slidenum">
              <a:t>3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ing operating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A2C-1893-4AD5-8D50-92996648587A}" type="slidenum">
              <a:t>30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ing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 multi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s assigned to specific CPUs; each CPU has its ow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448-1C93-4113-9FA9-579EFFDF2979}" type="slidenum">
              <a:t>31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ing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 multi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s assigned to specific CPUs; each CPU has its ow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multi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s assigned to available CPUs; CPUs share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589880" y="6397560"/>
          <a:ext cx="102060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89880" y="6397560"/>
                    <a:ext cx="10206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2D7-EF80-4B2D-B2E5-1CC90C3DE57E}" type="slidenum">
              <a:t>32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ing 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 multi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s assigned to specific CPUs; each CPU has its ow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multi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ks assigned to available CPUs; CPUs share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-tolerant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0120" y="6429240"/>
          <a:ext cx="102384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6429240"/>
                    <a:ext cx="10238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6201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E7F-EFB0-4170-9C1E-A3E757A21997}" type="slidenum">
              <a:t>33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5257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ff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rtition for one jo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rtitions may have differen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400800" y="2133720"/>
            <a:ext cx="1981080" cy="2743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27432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3276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3434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3429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layout 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artition for a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1981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2971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648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9625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776-70D9-40B0-8BE1-5AFCF0CE8D4E}" type="slidenum">
              <a:t>34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566-6292-429E-9945-627ECAB0D9CE}" type="slidenum">
              <a:t>3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eal memory (e.g. RAM) is limited (usually have several Mbytes or Gbyt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ata and programs must be loaded in real memory for execution (in memory partitio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Need to run many different job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ake use of secondary storage logically to enlarge the memory for jobs exectu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F56-FBCF-4CA7-9F1A-8A116B527A85}" type="slidenum">
              <a:t>36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87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9480" y="6427800"/>
          <a:ext cx="102096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9480" y="6427800"/>
                    <a:ext cx="10209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523880" y="2438280"/>
            <a:ext cx="2743200" cy="3962520"/>
          </a:xfrm>
          <a:prstGeom prst="flowChartMagneticDisk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2971800"/>
            <a:ext cx="1143000" cy="2590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3809880"/>
            <a:ext cx="914400" cy="6858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5105520"/>
            <a:ext cx="1219320" cy="83808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3809880"/>
            <a:ext cx="685800" cy="106704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2286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41911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95480" y="5028840"/>
            <a:ext cx="160020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218960" y="41148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930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2 virtual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768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3 virtual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733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1 virtual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3581280"/>
            <a:ext cx="1143000" cy="2286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4876920"/>
            <a:ext cx="1143000" cy="228600"/>
          </a:xfrm>
          <a:prstGeom prst="rect">
            <a:avLst/>
          </a:prstGeom>
          <a:solidFill>
            <a:srgbClr val="ff66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4191120"/>
            <a:ext cx="1143000" cy="2286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3352680"/>
            <a:ext cx="1143000" cy="22860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5334120"/>
            <a:ext cx="1143000" cy="15228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4648320"/>
            <a:ext cx="1143000" cy="228600"/>
          </a:xfrm>
          <a:prstGeom prst="rect">
            <a:avLst/>
          </a:prstGeom>
          <a:solidFill>
            <a:srgbClr val="c0fef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422440"/>
            <a:ext cx="2438640" cy="1313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’s virtual storage need not be contiguous even on secondary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AE1D-D383-455F-A79E-A5E45BE18810}" type="slidenum">
              <a:t>37</a:t>
            </a:fld>
          </a:p>
        </p:txBody>
      </p:sp>
    </p:spTree>
  </p:cSld>
  <mc:AlternateContent>
    <mc:Choice Requires="p14">
      <p:transition spd="slow" p14:dur="2000">
        <p:zoom dir="in"/>
      </p:transition>
    </mc:Choice>
    <mc:Fallback>
      <p:transition spd="slow">
        <p:zoom dir="in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 - a 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is the transfer memory unit between real memory and secondary stora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ontiguous mem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ge size is fixed by O.S. (e.g. 10K or 20K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8F3-42C1-41FB-801E-008DEE4B74A8}" type="slidenum">
              <a:t>38</a:t>
            </a:fld>
          </a:p>
        </p:txBody>
      </p:sp>
    </p:spTree>
  </p:cSld>
  <mc:AlternateContent>
    <mc:Choice Requires="p14">
      <p:transition spd="slow" p14:dur="2000">
        <p:randomBar dir="vert"/>
      </p:transition>
    </mc:Choice>
    <mc:Fallback>
      <p:transition spd="slow">
        <p:randomBar dir="vert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or program segment is found in the current pages in real memory, it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age h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therwise it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age faul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sired page will be moved from the virtual memory of the job to partition (real memory)of the job.  It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ag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7AC-5661-4B09-892F-C2A3D9A855B6}" type="slidenum">
              <a:t>39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ONENTS OF A COMPUTER SYST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uter system can be divided roughly into four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6DE-C10D-499E-9095-18B74DBAF4D8}" type="slidenum">
              <a:t>4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MORY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ap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no space in partition for the incoming page, then a page in real memory need to be swapped out.  It is call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wapp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ome methods to select the page to be swapped out and minimize the swapping frequen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r methods used: First-In-First-Out (FIFO), Last-Recently-Used(LRU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6144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7612200" y="6427800"/>
          <a:ext cx="102060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12200" y="6427800"/>
                    <a:ext cx="10206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884-8962-4F23-8CB3-7661A6C40813}" type="slidenum">
              <a:t>40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PUT AND OUTPUT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 depen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o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maximize CPU uti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jobs are placed in a buffer instead of being sent immediately to pri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s with print out can be treated logically completed to release the CP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exible to handle print out (e.g. set priority to print jobs; delete print jobs if requir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620120" y="6397560"/>
          <a:ext cx="102060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6397560"/>
                    <a:ext cx="10206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B0F-4E27-43DF-8C63-4901A662CCA4}" type="slidenum">
              <a:t>41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PUT AND OUTPUT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vice depen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poo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vice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 small program that accepts comands from another program and then converts these commands into commands that the device understan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lug and Play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3F4-DAE5-4386-8E74-2B2EA5DACD10}" type="slidenum">
              <a:t>42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ADMINIS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performance - Monitored by a program called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erformance Moni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S spends much of its time paging, instead of executing application software, it is said to be thrashing.  Then performance will be po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563148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787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629480" y="6427800"/>
          <a:ext cx="102096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9480" y="6427800"/>
                    <a:ext cx="10209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EE9-3332-4B64-8EA7-FAE2C367799A}" type="slidenum">
              <a:t>43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STEM ADMINIST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PU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ecu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and fil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631120" y="640224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137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99320" y="6351480"/>
          <a:ext cx="102096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9320" y="6351480"/>
                    <a:ext cx="102096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5B32-2E3C-463B-AC4B-F144AB953F95}" type="slidenum">
              <a:t>44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 (Disk Operating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1F7-0A54-4C31-9C46-C03F09E3508E}" type="slidenum">
              <a:t>4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DOS (Disk Operating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PC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3.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F6F-2BE7-4F5B-91EA-183E8D0458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DOS (Disk Operating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PC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3.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Operat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5631120" y="640224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137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686720" y="6353280"/>
          <a:ext cx="1025640" cy="30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6720" y="6353280"/>
                    <a:ext cx="102564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B0B4-A58E-4BA5-8BE7-27C9157041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DOS (Disk Operating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PC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3.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Operat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640224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740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686720" y="6429240"/>
          <a:ext cx="102564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6720" y="6429240"/>
                    <a:ext cx="10256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5554800" y="609768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37400" y="6248520"/>
            <a:ext cx="33804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686720" y="6046920"/>
          <a:ext cx="102564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86720" y="6046920"/>
                    <a:ext cx="10256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BA3-70A6-4BA2-B35D-D9F9E124B5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DOS (Disk Operating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PC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MS-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3.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Operat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6D2-7603-4C0F-BE94-053F501363B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2895480"/>
            <a:ext cx="6553080" cy="1828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         Assembler         text edi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1143000"/>
            <a:ext cx="914400" cy="1015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143000"/>
            <a:ext cx="914400" cy="1015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143000"/>
            <a:ext cx="914400" cy="1015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1219320"/>
            <a:ext cx="914400" cy="1015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57913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bstract view of the components of a computer syste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3962520"/>
            <a:ext cx="4267080" cy="1295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4572000"/>
            <a:ext cx="213372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2096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286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151-1AD8-476D-90B7-F017801459D8}" type="slidenum">
              <a:t>5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731-3112-4063-A3CA-CD8C4EF4A99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into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B0A-97D2-457F-BFB9-1785BBEC47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into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51E-8A16-49CC-9D4C-D2E70C93D2B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Macinto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5631120" y="6402240"/>
            <a:ext cx="206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4120" y="6553080"/>
            <a:ext cx="3380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659720" y="6351480"/>
          <a:ext cx="102060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9720" y="6351480"/>
                    <a:ext cx="10206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D1C-5B1A-4E59-9F5B-CA6128DD749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Macinto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OS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04F-EE4C-4545-B7C0-4CC731AC7EF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ULAR OPERATING SYS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Windows 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Macinto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OS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781-A4AA-4F07-8E0D-957830A6B71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ERATING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(Main Frame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Machine  (V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Virtual Storage (MV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E6B-191B-4DFB-ACAB-DFEF655CEB7F}" type="slidenum">
              <a:t>56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End of Lecture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3CDE-8D9D-4D4D-909E-20D28D2647F9}" type="slidenum">
              <a:t>57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N OPERATING SYSTEM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et of programs that manages the operations of a computer and functions between the user, the application programs and the computer hard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s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783760" y="6402240"/>
            <a:ext cx="196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ee Figure 3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38920" y="6553080"/>
            <a:ext cx="33840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742160" y="6397560"/>
          <a:ext cx="102096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2160" y="6397560"/>
                    <a:ext cx="102096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7CE-B385-42A0-A1D7-7FAA6C2D4BED}" type="slidenum">
              <a:t>6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ID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kernel, supervisor, monitor, executive, master program or control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ndividual instructions, or commands, contained in the resident portion of the operating system are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al Comman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2E9-CC9D-4AED-8E7D-C9CA5CAA3985}" type="slidenum">
              <a:t>7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NRESID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s of the less frequently used instructions, call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ternal Command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onresident portion of the operating system remains on the disk while you operate the computer, ready to be loaded into memory whenever an external command is need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7A4-1649-4B62-8DE1-27AD9EFDF794}" type="slidenum">
              <a:t>8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5e574e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N OPERATING SYSTEM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7960" y="1885680"/>
            <a:ext cx="785808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eature of the operating system that determines how you interact with the c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user interface controls how you enter data and commands (input) and how information is presented on the screen (output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95F-CEDB-4E6D-BAC1-3FB1647708F9}" type="slidenum">
              <a:t>9</a:t>
            </a:fld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30T13:26:22Z</dcterms:created>
  <dc:creator>Jeff Quasney</dc:creator>
  <dc:description/>
  <dc:language>en-US</dc:language>
  <cp:lastModifiedBy>Jamson Chan</cp:lastModifiedBy>
  <cp:lastPrinted>2000-02-18T10:01:38Z</cp:lastPrinted>
  <dcterms:modified xsi:type="dcterms:W3CDTF">2000-02-25T09:12:13Z</dcterms:modified>
  <cp:revision>97</cp:revision>
  <dc:subject/>
  <dc:title>Shelly Cashman Series  Discovering Computers A Link to the Future</dc:title>
</cp:coreProperties>
</file>