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BBB0-C71D-4A0B-8F96-12856C8D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5D51-F16C-44A6-ACE0-844C6CB0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39C-78F7-417E-906F-7C47CB98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6D06-168E-4404-8F79-C40F4EFA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79AF-EB92-485A-9F68-48295B4E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5674-192C-4624-A734-A8D41910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785A-0C88-43C0-B5B8-EEA983B3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A288-7159-4857-826F-577B721C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4707-D627-4CC4-B80E-9705065E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8C98-BB91-42CA-9840-9D72AD8C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2494-D718-43EE-A57E-04B2F18B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C9D-4973-4CDD-8FCF-321F2F93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F2FC-06C2-43AE-9BCF-89850D06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3329-AE86-4472-BCB7-9E7EDD3F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AF8E-A21E-4CB4-98F9-462B2F82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8C60-9B2A-4D35-96B2-D1C74C12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F711-45D8-462D-A89F-224966AF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5FEE-9DBA-406A-8EB3-8EE67719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9A3-003B-4B5B-A275-BABA144E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0675-5218-414F-B749-FE1897B8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C70F-74B7-4C03-889A-D953B65C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5B7D-59FD-41A8-9784-B278E334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901-C71E-4272-AE12-BA663C61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7B0F-C5B0-44B7-A940-7D99231E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7C6E-92A8-4CE6-B62A-6475FF306ED7}" type="slidenum"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78D9-DBBD-4E02-B713-721593C138DC}" type="slidenum"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hapter 10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 Interne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F697-1D2E-43A9-BB9B-712C5DA553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DC07-03" descr=""/>
          <p:cNvPicPr/>
          <p:nvPr/>
        </p:nvPicPr>
        <p:blipFill>
          <a:blip r:embed="rId2"/>
          <a:stretch/>
        </p:blipFill>
        <p:spPr>
          <a:xfrm>
            <a:off x="762120" y="581040"/>
            <a:ext cx="7619760" cy="569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A405-10A8-4536-8239-6DAAE0C66A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HISTORY OF THE INTERNE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ackbone now provided by variety of corpor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arious organizations help define standa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4725-7C7D-43ED-A051-3F49168A1DC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DC07-04" descr=""/>
          <p:cNvPicPr/>
          <p:nvPr/>
        </p:nvPicPr>
        <p:blipFill>
          <a:blip r:embed="rId2"/>
          <a:stretch/>
        </p:blipFill>
        <p:spPr>
          <a:xfrm>
            <a:off x="304920" y="9360"/>
            <a:ext cx="8534160" cy="683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090-170D-49C3-BA6C-DE8D235B15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HOW THE INTERNET WORK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nternet Service Providers and Online Servi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ave permanent connections to the Interne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ovide temporary connections to individuals and companies for a fe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Local and national ISP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nline services offer members only are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AD47-A566-40CC-ADAA-CA148CFA846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DC07-05" descr=""/>
          <p:cNvPicPr/>
          <p:nvPr/>
        </p:nvPicPr>
        <p:blipFill>
          <a:blip r:embed="rId2"/>
          <a:stretch/>
        </p:blipFill>
        <p:spPr>
          <a:xfrm>
            <a:off x="685800" y="563400"/>
            <a:ext cx="7696080" cy="567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D0EF-92E8-42E1-88CD-EC703B64ED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HOW THE INTERNET WORK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nnecting to the Intern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usiness or school network connected to the Interne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ial-up acces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SD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able mode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AE6-21A2-4679-842B-2F75C2F0D22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HOW THE INTERNET WORK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ow Data Travels the Intern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rv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li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acke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ut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acket switch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CP-IP (transmission control protocol/Internet protocol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31D-EAEE-48B6-8B6C-0BC7458867E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HOW THE INTERNET WORK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ow Data Travels the Intern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ackbo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twork Access Points (NAP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tropolitan Area Exchanges (NA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233-E210-4DF5-B2B2-8DB3343E178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DC07-06" descr=""/>
          <p:cNvPicPr/>
          <p:nvPr/>
        </p:nvPicPr>
        <p:blipFill>
          <a:blip r:embed="rId2"/>
          <a:stretch/>
        </p:blipFill>
        <p:spPr>
          <a:xfrm>
            <a:off x="0" y="720720"/>
            <a:ext cx="9144000" cy="467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515-92EF-4574-BE2D-FA932DDF4E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HOW THE INTERNET WORK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ow Data Travels the Intern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ackbo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twork Access Points (NAP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tropolitan Area Exchanges (NA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tional ISPs (backbone provider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C0F-85B9-484C-9163-1637E87E211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HAPTER 10 PRIMARY OBJECTIV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escribe how the Internet work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ecognize how graphics, animation, audio, video, and virtual reality are used on the World Wide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dentify the tools required for Web publish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escribe the uses of electronic commerce (e-commerc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88EF-B4A0-4423-822E-9914A00432E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DC07-07" descr=""/>
          <p:cNvPicPr/>
          <p:nvPr/>
        </p:nvPicPr>
        <p:blipFill>
          <a:blip r:embed="rId2"/>
          <a:stretch/>
        </p:blipFill>
        <p:spPr>
          <a:xfrm>
            <a:off x="1143000" y="0"/>
            <a:ext cx="64785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BC88-E14E-462C-A641-D995DD2209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HOW THE INTERNET WORK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nternet Address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P (Internet protocol) addres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Geographic reg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mpany or organiz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mputer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pecific comput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omain na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op-level domain (TL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DC07-08" descr=""/>
          <p:cNvPicPr/>
          <p:nvPr/>
        </p:nvPicPr>
        <p:blipFill>
          <a:blip r:embed="rId2"/>
          <a:stretch/>
        </p:blipFill>
        <p:spPr>
          <a:xfrm>
            <a:off x="0" y="4705200"/>
            <a:ext cx="9144000" cy="215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C42C-9873-4C0D-8C19-6C5277B17BF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HOW THE INTERNET WORK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nternet Address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P (Internet protocol) addres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Geographic reg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mpany or organiz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mputer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pecific comput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omain na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op-level domain (TL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op-level domain abbrevia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7DB-5871-4579-BD95-B2E19104920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DC07-09" descr=""/>
          <p:cNvPicPr/>
          <p:nvPr/>
        </p:nvPicPr>
        <p:blipFill>
          <a:blip r:embed="rId2"/>
          <a:stretch/>
        </p:blipFill>
        <p:spPr>
          <a:xfrm>
            <a:off x="0" y="531720"/>
            <a:ext cx="9144000" cy="531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A90-204F-4A5A-AB11-F2C34DAA6C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HOW THE INTERNET WORK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nternet Address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P (Internet protocol) addres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Geographic reg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mpany or organiz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mputer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pecific comput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omain na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op-level domain (TL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op-level domain abbrevia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untry cod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6D7-2922-4885-A976-78D22DB6684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DC07-10" descr=""/>
          <p:cNvPicPr/>
          <p:nvPr/>
        </p:nvPicPr>
        <p:blipFill>
          <a:blip r:embed="rId2"/>
          <a:stretch/>
        </p:blipFill>
        <p:spPr>
          <a:xfrm>
            <a:off x="457200" y="55440"/>
            <a:ext cx="7620120" cy="680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4B8-DA7B-43E0-8E54-F00E2AE28F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HOW THE INTERNET WORK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nternet Address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omain name system (DN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omain name serv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4A2-C2AC-4376-AECD-3015260ACF4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 WORLD WIDE WEB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WW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arted in 199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yperlinks (link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Uniform Resource Locator (URL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D8A4-E403-4DE3-B051-702C4858264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DC07-11" descr=""/>
          <p:cNvPicPr/>
          <p:nvPr/>
        </p:nvPicPr>
        <p:blipFill>
          <a:blip r:embed="rId2"/>
          <a:stretch/>
        </p:blipFill>
        <p:spPr>
          <a:xfrm>
            <a:off x="762120" y="185760"/>
            <a:ext cx="76197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D87-28A8-4A1C-A6F0-6DF09EE9A59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 WORLD WIDE WEB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WW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arted in 199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yperlinks (link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Uniform Resource Locator (URL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ypertext transfer protocol (http://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eb serv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ebmast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E8A7-FB72-455B-B83F-A8AF50B43F5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HAPTER 10 PRIMARY OBJECTIVES (cont.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xplain how e-mail, FTP, Telnet, newsgroups, mailing lists, and chat rooms wor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dentify the rules of netiquet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Understand security precautions for the Intern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xplain how network computers are use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46C-8814-404F-B821-1F337E9FE62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 WORLD WIDE WEB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arch Engi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irectory maintained by a search engine compan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elps find information on the Web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4C96-399B-4CDA-857E-EC0267297D7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DC07-12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9263-D073-44D4-B17C-4E8BC5D2FAE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 WORLD WIDE WEB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ultimedia on the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eb pages incorporate color, sound, motion, and graphics with tex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lug-i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elper applic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0934-F16B-4A83-BFBD-7B4B411AD29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DC07-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AB83-48C3-4C35-BE8C-99482C36BCE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 WORLD WIDE WEB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ultimedia on the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eb pages incorporate color, sound, motion, and graphics with tex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lug-i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elper applic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av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pple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ctiveX control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013-B22D-4B0F-8B50-1108254B620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 WORLD WIDE WEB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ultimedia on the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raphic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Used to enhance the text-based Intern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4" name="DC07-14" descr=""/>
          <p:cNvPicPr/>
          <p:nvPr/>
        </p:nvPicPr>
        <p:blipFill>
          <a:blip r:embed="rId2"/>
          <a:stretch/>
        </p:blipFill>
        <p:spPr>
          <a:xfrm>
            <a:off x="3200400" y="240048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3964-CAE7-4B9E-A353-B29C5B586F5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 WORLD WIDE WEB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ultimedia on the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raphic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Used to enhance the text-based Intern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Graphics forma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DC07-15" descr=""/>
          <p:cNvPicPr/>
          <p:nvPr/>
        </p:nvPicPr>
        <p:blipFill>
          <a:blip r:embed="rId2"/>
          <a:stretch/>
        </p:blipFill>
        <p:spPr>
          <a:xfrm>
            <a:off x="0" y="3075120"/>
            <a:ext cx="9144000" cy="378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0710-47DD-4FE0-B405-33197AEC407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 WORLD WIDE WEB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ultimedia on the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raphic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Used to enhance the text-based Intern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Graphics forma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umbnail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DC1-C46B-469E-A823-0F395DEA483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DC07-16" descr=""/>
          <p:cNvPicPr/>
          <p:nvPr/>
        </p:nvPicPr>
        <p:blipFill>
          <a:blip r:embed="rId2"/>
          <a:stretch/>
        </p:blipFill>
        <p:spPr>
          <a:xfrm>
            <a:off x="762120" y="519120"/>
            <a:ext cx="7619760" cy="581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DF2C-7ECB-4F8E-8CF7-BF23A63B4BC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 WORLD WIDE WEB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ultimedia on the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nim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rque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8F3-95EC-4FD7-A387-74AB88413A2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REFERENC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ary B. Shelly, Thomas J. Cashman, Misty, Tim,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Discovering Computers 2000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, Shelly Cashman Seri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urtin, Dennis P. et al,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Information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Technology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The Breaking Wave, Irwin/McGraw-Hill 1998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Long, Larry &amp; Long Nancy,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Introduction to Computers &amp; Information Systems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, 5th ed., Prentice hall International Edition, 1997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5748-415F-4C17-96B2-997376F7BBB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904760" y="5638320"/>
            <a:ext cx="6172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ext that is animated to scroll across the screen is called a marquee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4" name="DC07-17" descr=""/>
          <p:cNvPicPr/>
          <p:nvPr/>
        </p:nvPicPr>
        <p:blipFill>
          <a:blip r:embed="rId2"/>
          <a:stretch/>
        </p:blipFill>
        <p:spPr>
          <a:xfrm>
            <a:off x="0" y="0"/>
            <a:ext cx="6934320" cy="557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8504-427C-4567-B798-0466641C2E5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 WORLD WIDE WEB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ultimedia on the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nim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rque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imated GI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824D-886B-4B2E-BE49-CE8B67BDFBF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 WORLD WIDE WEB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ultimedia on the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udi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WAV and AU forma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eaming aud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ealAud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1058-E9FB-499D-B59B-A55F54F61DE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DC07-18" descr=""/>
          <p:cNvPicPr/>
          <p:nvPr/>
        </p:nvPicPr>
        <p:blipFill>
          <a:blip r:embed="rId2"/>
          <a:stretch/>
        </p:blipFill>
        <p:spPr>
          <a:xfrm>
            <a:off x="762120" y="757080"/>
            <a:ext cx="7619760" cy="534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F8F-5ADB-44F0-B942-4662EE52227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 WORLD WIDE WEB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ultimedia on the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udi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WAV and AU forma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eaming aud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ealAud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nternet telephon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1B4-6EF7-425E-AB90-15E05F358A5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DC07-19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3071-FEC0-4B6F-BF7C-489A521D115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 WORLD WIDE WEB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ultimedia on the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udi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WAV and AU forma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eaming aud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ealAud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nternet telephon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nternet telephony vide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33E-4676-4DDE-9D7B-57BF865A0B4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 WORLD WIDE WEB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ultimedia on the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ide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eaming vide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ealVide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otion Picture Experts Group (MPEG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AB9-2D16-485C-8250-8117DDCD110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 WORLD WIDE WEB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ultimedia on the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irtual Real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mulation of real or imagined environment that appears as a three-dimensional (3-D) spa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Virtual reality modeling language (VRM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VR worl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08BE-718B-4A61-9A3F-B6AAE9C1888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DC07-20" descr=""/>
          <p:cNvPicPr/>
          <p:nvPr/>
        </p:nvPicPr>
        <p:blipFill>
          <a:blip r:embed="rId2"/>
          <a:stretch/>
        </p:blipFill>
        <p:spPr>
          <a:xfrm>
            <a:off x="762120" y="709560"/>
            <a:ext cx="7619760" cy="543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8011-7BBF-4254-B8C6-D01AA072D47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 INTERNE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orldwide group of connected networks that allow public access to information and servi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2" name="DC07-01" descr=""/>
          <p:cNvPicPr/>
          <p:nvPr/>
        </p:nvPicPr>
        <p:blipFill>
          <a:blip r:embed="rId2"/>
          <a:stretch/>
        </p:blipFill>
        <p:spPr>
          <a:xfrm>
            <a:off x="2743200" y="2521080"/>
            <a:ext cx="6400800" cy="43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25D-29D6-4663-A655-1DE5C0E6EF2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WEBCAS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ush technolog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ontent downloaded automatical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annel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21B-84B4-4F1C-A551-641E7B2DD09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-360" y="5790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n this screen, the weather map and news headlines are pushed onto the desktop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3" name="DC07-21" descr=""/>
          <p:cNvPicPr/>
          <p:nvPr/>
        </p:nvPicPr>
        <p:blipFill>
          <a:blip r:embed="rId2"/>
          <a:stretch/>
        </p:blipFill>
        <p:spPr>
          <a:xfrm>
            <a:off x="60948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C055-DBEE-4300-947A-93D8130A00B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LECTRONIC COMMERC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nducting business activities onli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lectronic money (e-money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lectronic data interchange (EDI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liminates middlem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lectronic walle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A186-3117-443B-A16E-3E54626DB050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DC07-22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7A4-3CF1-4E09-AEFE-6C0AD4F6CBE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WEB PUBLISH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ersonal Web pag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ypertext markup language (HTML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g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C04-EFA8-4F15-972F-79989EF45609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DC07-23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CA7F-32B1-4561-8999-78C854CCDF6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WEB PUBLISH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ersonal Web pag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ypertext markup language (HTML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g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eb page created with HTM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2E8A-0613-42CA-B794-13F89F87DF1A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DC07-24" descr=""/>
          <p:cNvPicPr/>
          <p:nvPr/>
        </p:nvPicPr>
        <p:blipFill>
          <a:blip r:embed="rId2"/>
          <a:stretch/>
        </p:blipFill>
        <p:spPr>
          <a:xfrm>
            <a:off x="60948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85800" y="59436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e Web page generated from the HTML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46C3-E67F-4A4F-AD3E-49BF9D49596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WEB PUBLISH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ersonal Web pag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ypertext markup language (HTML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g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eb page created with HTM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orld Wide Web Hypertext Anim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6145-730D-457A-AC69-D4ABF078AEBF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WEB PUBLISH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ersonal Web pag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ypertext markup language (HTML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g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eb page created with HTM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orld Wide Web Hypertext Anim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eb authoring softwa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ord processing packag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463-F669-43FE-9543-F1E918BC6336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 INTERNE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orldwide group of connected networks that allow public access to information and servi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o single organization owns or control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stimated 100 million us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7A9E-6DF2-4E14-979D-223C58513C0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DC07-25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610480" cy="588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A721-64BD-42EB-A5CC-B69F2FEE13F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WEB PUBLISH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ersonal Web pag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ypertext markup language (HTML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g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eb page created with HTM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orld Wide Web Hypertext Anim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eb authoring softwa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ord processing packag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ophisticated authoring packag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9448-94E8-46D9-8321-8244B8FE24C4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DC07-2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0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DB7-7806-403C-8FA7-2A7BB1003D2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WEB PUBLISH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eb hosting servi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Upload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ubmissions servi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9119-831F-4BE2-8C8D-DB9A861ABBAE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DC07-27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286-93BD-4226-8D51-AFFE618711E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OTHER INTERNET SERVIC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-mai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imary communication method for both personal and business us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96E-E0F2-47EB-AE04-959E4C68AA1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DC07-28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229600" cy="635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5E6-D7DF-43CE-A33A-424D821F0F7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OTHER INTERNET SERVIC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-mai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imary communication method for both personal and business us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-mail progra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2DB2-3F64-41DB-9902-7EFB6EB28541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DC07-29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017-EB3D-416F-A238-51040C657E8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OTHER INTERNET SERVIC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-mai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imary communication method for both personal and business us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-mail progra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-mail addres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3" name="DC07-30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767736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5DE-62CF-4FEB-81B0-8AF38353058D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 INTERNE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orldwide group of connected networks that allow public access to information and servi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o single organization owns or control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stimated 100 million us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nternet Games vide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9F6-FA83-423F-8DF2-8E62CB936503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OTHER INTERNET SERVIC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-mai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imary communication method for both personal and business us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-mail progra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-mail addres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MTP (simple mail transfer protocol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OP and POP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ncod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0286-EC21-4AB9-B780-DA3B80FE8664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DC07-31" descr=""/>
          <p:cNvPicPr/>
          <p:nvPr/>
        </p:nvPicPr>
        <p:blipFill>
          <a:blip r:embed="rId2"/>
          <a:stretch/>
        </p:blipFill>
        <p:spPr>
          <a:xfrm>
            <a:off x="457200" y="0"/>
            <a:ext cx="67150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F30C-83FF-4EFA-876E-EC184C2788A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OTHER INTERNET SERVIC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T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TP (file transfer protocol) sites and serv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llows file downloads and upload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nonymous FTP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79B5-EADA-4353-911E-FA998333C1D8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DC07-32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0512-B935-4F45-A2EF-5696779023B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OTHER INTERNET SERVIC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T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TP (file transfer protocol) sites and serv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llows file downloads and upload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nonymous FTP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TP progra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E30-5DE2-4FEC-B14D-A77AFB64AFCF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DC07-33" descr=""/>
          <p:cNvPicPr/>
          <p:nvPr/>
        </p:nvPicPr>
        <p:blipFill>
          <a:blip r:embed="rId2"/>
          <a:stretch/>
        </p:blipFill>
        <p:spPr>
          <a:xfrm>
            <a:off x="533520" y="0"/>
            <a:ext cx="7562880" cy="665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535-DCFB-4AF4-9164-27B398293A9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OTHER INTERNET SERVIC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eln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Log into remote comput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ccess remote databases, directories, and library catalog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ADD5-3888-406B-8D62-E8641AEA20B6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OTHER INTERNET SERVIC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ewsgroup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ollection of newsgroups is called Usene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wsrea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t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hreads of discuss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3DC-105F-4810-81EB-094E18C2C9AA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Dc07-34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844-B2DF-44A7-BF1A-BE6DAC19420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OTHER INTERNET SERVIC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ewsgroup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ollection of newsgroups is called Usene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wsrea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t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hreads of discuss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wsgroup categor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E99-4D2D-4BB0-8CCE-1D5F528C5838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HISTORY OF THE INTERNE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arted as a network of four computers at the University of California at Los Angeles in 196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dvanced Research Projects Agency (ARPA) - ARPAN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35 million computers toda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9229-0F0E-41AD-B261-C12354681D19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Dc07-35" descr=""/>
          <p:cNvPicPr/>
          <p:nvPr/>
        </p:nvPicPr>
        <p:blipFill>
          <a:blip r:embed="rId2"/>
          <a:stretch/>
        </p:blipFill>
        <p:spPr>
          <a:xfrm>
            <a:off x="762120" y="757080"/>
            <a:ext cx="7619760" cy="534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A86-214F-4B09-9055-3DC64E50070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OTHER INTERNET SERVIC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ailing Lis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roup of e-mail names and addresses given a single na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ubscribing and unsubscrib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LISTSERV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E9BE-4748-4EFC-8F61-21483AC2ED31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OTHER INTERNET SERVIC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hat Room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al-time convers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annel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at clien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RC (Internet relay cha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icrosoft Ch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8BD1-AF1A-4000-96FC-A9ECF50575FF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OTHER INTERNET SERVIC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rtal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Web site designed to offer a variety of Internet services from a single convenient loc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ree servic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arch engi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Weath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por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-mail, shopping, and chat room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9B31-F9FE-448A-9EB8-A109803A32C7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NETIQUETT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nternet etiquet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he code of acceptable behaviors users should follow while on the Interne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29E-1861-4D9C-822C-A0E75EE23830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DC07-36" descr=""/>
          <p:cNvPicPr/>
          <p:nvPr/>
        </p:nvPicPr>
        <p:blipFill>
          <a:blip r:embed="rId2"/>
          <a:stretch/>
        </p:blipFill>
        <p:spPr>
          <a:xfrm>
            <a:off x="1600200" y="76320"/>
            <a:ext cx="5587920" cy="678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5578-0C1A-4038-93B2-83D8C961A7C3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USING THE INTERNET: COOKIES AND SECURITY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oki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small file that a Web server stores on your comput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ften contains data about the us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eeps track of user visi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ersonaliz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Online shopp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Usage statistic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arget advertis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A185-406A-42BE-91F2-ED3A704FA3FD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DC07-37" descr=""/>
          <p:cNvPicPr/>
          <p:nvPr/>
        </p:nvPicPr>
        <p:blipFill>
          <a:blip r:embed="rId2"/>
          <a:stretch/>
        </p:blipFill>
        <p:spPr>
          <a:xfrm>
            <a:off x="228600" y="15840"/>
            <a:ext cx="8915400" cy="676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6CFD-18FE-4B36-9EED-4945238D919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USING THE INTERNET: COOKIES AND SECURITY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oki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small file that a Web server stores on your comput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ften contains data about the us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eeps track of user visi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ersonaliz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Online shopp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Usage statistic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arget advertis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isabling cook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1A1-B3C3-458E-929F-EEBA3CE44618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DC07-38" descr=""/>
          <p:cNvPicPr/>
          <p:nvPr/>
        </p:nvPicPr>
        <p:blipFill>
          <a:blip r:embed="rId2"/>
          <a:stretch/>
        </p:blipFill>
        <p:spPr>
          <a:xfrm>
            <a:off x="0" y="49320"/>
            <a:ext cx="9144000" cy="675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160-DADB-4B04-80C6-EFE5B5447AE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HISTORY OF THE INTERNE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arted as a network of four computers at the University of California at Los Angeles in 196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dvanced Research Projects Agency (ARPA) - ARPAN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35 million computers toda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ackbone first provided by National Science Foundation (NSF) - NSFn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EDBC-CFC0-4086-A2D8-A92CD41041A9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USING THE INTERNET: COOKIES AND SECURITY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nternet Secur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iltering softwa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onfidential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ure Web pag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E93-4561-4CC6-96DE-98B3ED4149CE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14400" y="533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Many secure Web pages begin their Web address with http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39" name="DC07-39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295280" y="838080"/>
            <a:ext cx="381240" cy="121932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1170-4673-49A1-9B2D-1D38F399A64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NETWORK COMPUTER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etwork computers for busines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Less memory than PC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o floppy or hard driv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o CD-R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ll storage on serv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B372-5C50-41F6-9636-E4183962645D}" type="slidenum">
              <a:t>92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NETWORK COMPUTER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etwork computers for the ho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formation applia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t-top box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5CA-6F86-4AE1-BD3C-312122C24561}" type="slidenum">
              <a:t>93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5333760" y="1218960"/>
            <a:ext cx="3276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 network computer that uses a TV set as the display is called a set-top box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46" name="DC07-41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4964040" cy="592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02CC-469C-427A-AF46-CEEE787D646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SUMMARY OF THE INTERNE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istory of the Intern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ow the Internet work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e World Wide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ebcasting and electronic commer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eb publish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ther Internet servi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etiquette, Cookies, and secur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etwork comput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3D8-E37F-4580-AEAD-8204F7E0BF9A}" type="slidenum">
              <a:t>95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7896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hapter 10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1FFC-E116-46E6-AA62-336F54035520}" type="slidenum">
              <a:t>9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30T13:26:22Z</dcterms:created>
  <dc:creator>Jeff Quasney</dc:creator>
  <dc:description/>
  <dc:language>en-US</dc:language>
  <cp:lastModifiedBy>VTC</cp:lastModifiedBy>
  <dcterms:modified xsi:type="dcterms:W3CDTF">2000-04-05T09:45:21Z</dcterms:modified>
  <cp:revision>100</cp:revision>
  <dc:subject/>
  <dc:title>Shelly Cashman Series  Discovering Computers A Link to the Future</dc:title>
</cp:coreProperties>
</file>