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5.jpeg" ContentType="image/jpeg"/>
  <Override PartName="/ppt/media/image13.jpeg" ContentType="image/jpeg"/>
  <Override PartName="/ppt/media/image18.gif" ContentType="image/gif"/>
  <Override PartName="/ppt/media/image4.png" ContentType="image/png"/>
  <Override PartName="/ppt/media/image1.gif" ContentType="image/gif"/>
  <Override PartName="/ppt/media/image3.gif" ContentType="image/gif"/>
  <Override PartName="/ppt/media/image12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0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6B74-CE31-4F3A-A15A-1F7A594C7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B026-1990-46E4-B114-4C7C0BA1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CBA6-9C4E-4F5B-B13A-70F0E775D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C481-29D8-4CD0-AC94-EF735A93F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EB11-ED71-4453-8632-C2110097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8388-07B8-4FC9-9BDB-D29B31B9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10B7-161B-4E5C-A3A7-3969B034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8313-B4AA-4CEE-BBD2-A6973528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EA3F-8794-45AA-8192-95B7BAC9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ED2C-231D-4ED9-A32D-A6788775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7366-F04D-484C-AA28-46B62BAF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8889-6867-41C1-8D8A-CF2963DD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C5E1-E1A4-4488-9E7C-F0FB64947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181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God so loved the world that He gave his only begotten son that whoever believes in him should not perish but have everlasting life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48120" y="2819520"/>
            <a:ext cx="3152520" cy="1952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80880" y="609480"/>
            <a:ext cx="2381400" cy="1781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019920" y="609480"/>
            <a:ext cx="2381040" cy="1781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0" y="681984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7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5181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ople who walked in great darkness gathered from near and fa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33720" y="1114560"/>
            <a:ext cx="4946400" cy="375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5181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hepard’s with flocks in their keeping 3 kings who followed a s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943360" y="471600"/>
            <a:ext cx="3533760" cy="49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5181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ogether the poor and the richest witnessed that Bethlehem n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81080" y="1219320"/>
            <a:ext cx="5334120" cy="38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5181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d the sky full of angels and dancing the breath of the glorious l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751120" y="457200"/>
            <a:ext cx="387828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5181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t there be light let it shine b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523880" y="6858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181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iercing the darkness with dazzling wh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866960" y="1700280"/>
            <a:ext cx="5143320" cy="34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5181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ope for the hopeless was born on that n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971800" y="685800"/>
            <a:ext cx="345600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181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en god sent his son he said let there be l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828800" y="1066680"/>
            <a:ext cx="5276880" cy="39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5181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e who are his have this calling to praise him and make his name kn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152800" y="1676520"/>
            <a:ext cx="4781520" cy="31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5181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 one day the presence of Jesus shines in every heart and every home Shines in our h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487656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5181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rom the beginning the father had a magnificent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371600" y="547560"/>
            <a:ext cx="6324480" cy="426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5181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ar of wonder star of beauty brigh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919240" y="647640"/>
            <a:ext cx="340524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5181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 Let there be light let it shine b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600200" y="685800"/>
            <a:ext cx="6172200" cy="462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5181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iercing the darkness with dazzling wh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352680" y="914400"/>
            <a:ext cx="242892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5181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ope for the hopeless was born on that n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971800" y="928800"/>
            <a:ext cx="3179880" cy="38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181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en god sent his son he said let there be l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90920" y="156204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unto us a child is bo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to us a son is gi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the government shall be upon his shou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his name shall be c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nder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ns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mighty G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everlasting Fa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rince of Pe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3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3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80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10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40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 THERE BE LIGHT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ic By Point of Grac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ter Wonderland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www.pointofgrace.net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ation By Faith Anderson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wheaton@hot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5181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vealed through the law and the prophets to fulfill the redemption of ma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4560" y="547560"/>
            <a:ext cx="4572000" cy="455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5181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 spoke it to centuries of silence in the mist of a still starry n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70160" y="547560"/>
            <a:ext cx="6629400" cy="497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181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Emmanuel came down among us and the father said let there be ligh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76520" y="547560"/>
            <a:ext cx="5790960" cy="40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181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t there be light let it shine b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6800" y="1876320"/>
            <a:ext cx="7610400" cy="31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181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iercing the darkness with dazzling wh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676520" y="762120"/>
            <a:ext cx="5867280" cy="42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5181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ope for the hopeless was born on that n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666880" y="547560"/>
            <a:ext cx="3880080" cy="460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5181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en god sent his son he said let there be l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62000" y="990720"/>
            <a:ext cx="5276880" cy="4020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9:27:38Z</dcterms:created>
  <dc:creator> </dc:creator>
  <dc:description/>
  <dc:language>en-US</dc:language>
  <cp:lastModifiedBy> </cp:lastModifiedBy>
  <dcterms:modified xsi:type="dcterms:W3CDTF">2005-11-23T23:11:29Z</dcterms:modified>
  <cp:revision>19</cp:revision>
  <dc:subject/>
  <dc:title>From the beginning the father had a magnificent plan</dc:title>
</cp:coreProperties>
</file>