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D597-DCE4-4B00-B68C-F6D7C34D5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ADD1-AD17-4424-9D55-B34C3922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0DB3-6963-4C0F-8DCC-1BB2AAED0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1DB8-8F97-4BAD-A666-DA277E691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5649-A3B7-486D-8412-FFAF952E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CD3F-75F5-4B45-9FEE-41F5CE33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AB13-17DB-4140-A652-E78B166E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57DE-5B18-43FC-99C2-E2386C43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5EAA-DBEA-4ACF-A293-622C4EE3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4B77-9D01-4BC3-AC73-F86879DA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477E-269F-4CCE-B66C-8A96AC29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7766-2AD1-4791-92FE-7B2F4229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CC62-D8F6-4491-8390-C9EE1B7CB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olmen" descr=""/>
          <p:cNvPicPr/>
          <p:nvPr/>
        </p:nvPicPr>
        <p:blipFill>
          <a:blip r:embed="rId1"/>
          <a:stretch/>
        </p:blipFill>
        <p:spPr>
          <a:xfrm>
            <a:off x="0" y="0"/>
            <a:ext cx="6934320" cy="3935520"/>
          </a:xfrm>
          <a:prstGeom prst="rect">
            <a:avLst/>
          </a:prstGeom>
          <a:ln w="0">
            <a:noFill/>
          </a:ln>
        </p:spPr>
      </p:pic>
      <p:pic>
        <p:nvPicPr>
          <p:cNvPr id="42" name="scud" descr=""/>
          <p:cNvPicPr/>
          <p:nvPr/>
        </p:nvPicPr>
        <p:blipFill>
          <a:blip r:embed="rId2"/>
          <a:stretch/>
        </p:blipFill>
        <p:spPr>
          <a:xfrm>
            <a:off x="4343400" y="3863880"/>
            <a:ext cx="480060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7T14:30:27Z</dcterms:created>
  <dc:creator>Compaq DCE - IM Infrastructur</dc:creator>
  <dc:description/>
  <dc:language>en-US</dc:language>
  <cp:lastModifiedBy>Compaq DCE - IM Infrastructur</cp:lastModifiedBy>
  <dcterms:modified xsi:type="dcterms:W3CDTF">2002-01-07T14:35:39Z</dcterms:modified>
  <cp:revision>1</cp:revision>
  <dc:subject/>
  <dc:title>PowerPoint Presentation</dc:title>
</cp:coreProperties>
</file>