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2494A-5A0F-45FC-A9BC-9B10313E8B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Times New Roman"/>
              </a:rPr>
              <a:t>“</a:t>
            </a:r>
            <a:r>
              <a:rPr b="0" lang="en-US" sz="1000" spc="-1" strike="noStrike">
                <a:solidFill>
                  <a:srgbClr val="000000"/>
                </a:solidFill>
                <a:latin typeface="Trebuchet MS"/>
                <a:ea typeface="Times New Roman"/>
              </a:rPr>
              <a:t>Wonder”: The Great Pyramid of Giza</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Times New Roman"/>
              </a:rPr>
              <a:t>Date built:From approximately 2560 – 2540 BC, over a period of twenty years</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Times New Roman"/>
              </a:rPr>
              <a:t>Made of: Large, two ton blocks of stone native to the region </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Times New Roman"/>
              </a:rPr>
              <a:t>Built by: Pharaoh Khufu from the Fourth Dynasty</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Times New Roman"/>
              </a:rPr>
              <a:t>What is the size of this “Wonder”? It stood 481 feet tall when it was built, but has deteriorated 30 feet in height. It’s sides are 751 feet long.</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Times New Roman"/>
              </a:rPr>
              <a:t>Describe what this “Wonder” looks like: This structure has a square base with four sloping sides that meet in a point at the top. It is made out of large stone blocks that are tan in color.</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Times New Roman"/>
              </a:rPr>
              <a:t>Why was this built? It was built to be a tomb for Pharaoh Khufu upon his death</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Times New Roman"/>
              </a:rPr>
              <a:t>What happened to this “Wonder”? It is the only one of the known Seven Wonders to be in existence today. It is in Cairo, Egypt.</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Times New Roman"/>
              </a:rPr>
              <a:t>What is the most important fact to know about this “Wonder”? The most important thing to know about this Wonder is that it was built with incredible mathematical precision. All four of it’s sides are aligned with the four directions on a compass. The stones inside fit so well that you cannot slip a playing card between the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21356-59B0-45F3-B009-7EC80A4E3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E7B1C-59E9-473D-BD3C-32388A892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6516F2-E06E-4390-BF3C-2EBBD83AA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7EFC0A-6353-47C9-9B40-371BE7D7E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CF28D-BB80-4B0C-9152-E423D5F05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53AF8-FB68-4C2C-8A2B-78F6BACB4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F567E-9901-4E72-B46E-591253BBB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E8D20-06C8-43B7-98FB-5CC9DDB71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B7FAF-9C96-4AB4-A488-CD2896209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23437-348F-4A25-B14A-C05ED6FC6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C006C-BD10-4EC8-AADD-223602A0C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5D7EB-ACB1-47A5-A2B4-98D4FBC494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F94FF-ABD2-4E68-B57A-C75414D0B6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image003" descr=""/>
          <p:cNvPicPr/>
          <p:nvPr/>
        </p:nvPicPr>
        <p:blipFill>
          <a:blip r:embed="rId2"/>
          <a:stretch/>
        </p:blipFill>
        <p:spPr>
          <a:xfrm>
            <a:off x="6553080" y="228600"/>
            <a:ext cx="2210040" cy="1657440"/>
          </a:xfrm>
          <a:prstGeom prst="rect">
            <a:avLst/>
          </a:prstGeom>
          <a:ln w="76320">
            <a:solidFill>
              <a:srgbClr val="800000"/>
            </a:solidFill>
            <a:miter/>
          </a:ln>
        </p:spPr>
      </p:pic>
      <p:sp>
        <p:nvSpPr>
          <p:cNvPr id="49" name=""/>
          <p:cNvSpPr txBox="1"/>
          <p:nvPr/>
        </p:nvSpPr>
        <p:spPr>
          <a:xfrm>
            <a:off x="533520" y="228600"/>
            <a:ext cx="41907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Impact"/>
              </a:rPr>
              <a:t>The Great Pyramid</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
        <p:nvSpPr>
          <p:cNvPr id="50" name=""/>
          <p:cNvSpPr/>
          <p:nvPr/>
        </p:nvSpPr>
        <p:spPr>
          <a:xfrm>
            <a:off x="609480" y="297180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04920" y="1523880"/>
            <a:ext cx="8305560" cy="633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The Great Pyramid of Giz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It was built in approximately 2560 – 2540 BC, over a period of twenty year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The pyramid is made of large, two ton blocks of stone native to the region. It was built by Pharaoh Khufu in the Fourth Dynasty. It stood 481 feet tall when it was built, but has deteriorated 30 feet in height. It’s sides are 751 feet long.</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This structure has a square base with four sloping sides that meet in a point at the top. It is made out of large stone blocks that are tan in colo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It was built to be a tomb for Pharaoh Khufu upon his death</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It is the only one of the known Seven Wonders to be in existence today. It is in Cairo, Egyp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The most important thing to know about this Wonder is that it was built with incredible mathematical precision. All four of it’s sides are aligned with the four directions on a compass. The stones inside fit so well that you cannot slip a playing card between them.</a:t>
            </a:r>
            <a:endParaRPr b="0" lang="en-US" sz="1800" spc="-1" strike="noStrike">
              <a:solidFill>
                <a:srgbClr val="000000"/>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7T00:11:47Z</dcterms:created>
  <dc:creator>Ian Massey</dc:creator>
  <dc:description/>
  <dc:language>en-US</dc:language>
  <cp:lastModifiedBy>Ian Massey</cp:lastModifiedBy>
  <dcterms:modified xsi:type="dcterms:W3CDTF">2003-10-28T03:32:28Z</dcterms:modified>
  <cp:revision>2</cp:revision>
  <dc:subject/>
  <dc:title>PowerPoint Presentation</dc:title>
</cp:coreProperties>
</file>