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AEA6-9B8A-4877-9695-9FA50A4A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9CB8-C260-4F5A-A8F6-EFB4650F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8959-C61C-429B-970D-FA2357E4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F85E-533A-4267-B107-CC237AB4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3A93-1825-49D2-90DE-72FCD33D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8CF1-ED02-48D4-BBBE-B07FC892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3E1A-6547-4F14-87A6-2EE9815A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B8C5-BBD6-4746-9E8D-12AEC260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AF58-5891-4D9B-9A92-1315CE2C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E505-BFA9-49DA-9DB1-43E32CDF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CA6D-E1C5-426E-87A6-C11470E6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F1A1-F0A7-4A64-810A-DC3FD372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ECC7-2766-4181-9690-F0AEF656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EE1A-093E-41C2-905C-A48538CF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F43A-248B-44DA-A814-564E4079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DF11-6214-4365-8D9A-6E9B0532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2335-817E-4DE1-81EB-D32088BE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1086-00C8-4F31-86FB-6B63313B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09CC-1B52-4052-ADF1-D7DD6F3D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4D12-A3AC-492F-AC7D-660D2A4F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288-847B-432C-9949-C2D4C2E8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8DDB-E7ED-429A-A864-02538E3F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27E3-7E54-4FC8-B6FE-A8FC112D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2FD5-3D9F-47B7-B9AF-EA8840A1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79D6-3F0F-4B8C-9713-FD8BAA2331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C8DA-BF2C-40C6-8CA1-B852520120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ahoma"/>
              </a:rPr>
              <a:t>Java Problem Creator, Solver and Teacher (Educational Tools)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A Software Project Presented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By: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Mouline Mohamed Imad Eddin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Business Interfac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Question panel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nswer panel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nswer list panel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Graph panel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pproach (4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sign Diagrams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80880" y="1066680"/>
            <a:ext cx="8460000" cy="5487840"/>
            <a:chOff x="380880" y="1066680"/>
            <a:chExt cx="8460000" cy="5487840"/>
          </a:xfrm>
        </p:grpSpPr>
        <p:sp>
          <p:nvSpPr>
            <p:cNvPr id="106" name=""/>
            <p:cNvSpPr/>
            <p:nvPr/>
          </p:nvSpPr>
          <p:spPr>
            <a:xfrm>
              <a:off x="3278160" y="3355200"/>
              <a:ext cx="2665440" cy="86112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89240" y="3601440"/>
              <a:ext cx="115884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Solver Interface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880" y="2420280"/>
              <a:ext cx="2665440" cy="86112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07880" y="2666520"/>
              <a:ext cx="115884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Business Interface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43600" y="5693400"/>
              <a:ext cx="2665440" cy="86112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94080" y="2062800"/>
              <a:ext cx="2665440" cy="86112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8280" y="4770360"/>
              <a:ext cx="2665440" cy="86112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43600" y="2124360"/>
              <a:ext cx="2665440" cy="86112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39720" y="5016600"/>
              <a:ext cx="115884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Mode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Interface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54680" y="2370600"/>
              <a:ext cx="115884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Instructor Interface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05160" y="2309040"/>
              <a:ext cx="115884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Student Interface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94080" y="4708800"/>
              <a:ext cx="2665440" cy="86112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05160" y="4955040"/>
              <a:ext cx="115884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Login Interface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98560" y="2985840"/>
              <a:ext cx="1042920" cy="60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84760" y="2801520"/>
              <a:ext cx="0" cy="61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4668840" y="1558800"/>
              <a:ext cx="208584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1771200" y="4032000"/>
              <a:ext cx="2431080" cy="73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11760" y="3908880"/>
              <a:ext cx="2085840" cy="184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4552560" y="3970440"/>
              <a:ext cx="231480" cy="78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59520" y="5201280"/>
              <a:ext cx="811080" cy="67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54680" y="6001200"/>
              <a:ext cx="115884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Database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class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03040" y="1066680"/>
              <a:ext cx="2665440" cy="86112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14480" y="1312560"/>
              <a:ext cx="1158840" cy="23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Help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887120" y="1681920"/>
              <a:ext cx="347400" cy="86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73320" y="1866600"/>
              <a:ext cx="23148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66640" y="2215080"/>
              <a:ext cx="154080" cy="81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71560" y="2481840"/>
              <a:ext cx="154440" cy="81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638760" y="2235600"/>
              <a:ext cx="154440" cy="81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68840" y="3404880"/>
              <a:ext cx="154440" cy="81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57400" y="3507840"/>
              <a:ext cx="154440" cy="81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89240" y="4020120"/>
              <a:ext cx="154440" cy="81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11760" y="3897000"/>
              <a:ext cx="154440" cy="81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46240" y="3958560"/>
              <a:ext cx="154080" cy="81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30400" y="1743480"/>
              <a:ext cx="1042920" cy="17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25560" y="3528360"/>
              <a:ext cx="154440" cy="81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21000" y="5189400"/>
              <a:ext cx="154080" cy="81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75440" y="3220200"/>
              <a:ext cx="2665440" cy="86112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86520" y="3466800"/>
              <a:ext cx="115884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Probelm Manager class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50200" y="2728080"/>
              <a:ext cx="154440" cy="81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79920" y="2666520"/>
              <a:ext cx="154440" cy="81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6320" y="2850840"/>
              <a:ext cx="154440" cy="81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62240" y="2912400"/>
              <a:ext cx="3128760" cy="61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66120" y="2789280"/>
              <a:ext cx="115560" cy="55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95840" y="2728080"/>
              <a:ext cx="927000" cy="73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64000" y="3507840"/>
              <a:ext cx="154440" cy="81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479560" y="2728080"/>
              <a:ext cx="69516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90720" y="1600200"/>
            <a:ext cx="7270560" cy="5257800"/>
            <a:chOff x="990720" y="1600200"/>
            <a:chExt cx="7270560" cy="5257800"/>
          </a:xfrm>
        </p:grpSpPr>
        <p:sp>
          <p:nvSpPr>
            <p:cNvPr id="153" name=""/>
            <p:cNvSpPr/>
            <p:nvPr/>
          </p:nvSpPr>
          <p:spPr>
            <a:xfrm>
              <a:off x="4540320" y="1600200"/>
              <a:ext cx="2377080" cy="128016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84200" y="3611160"/>
              <a:ext cx="2377080" cy="128016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40320" y="5532120"/>
              <a:ext cx="2377080" cy="128016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00120" y="3519720"/>
              <a:ext cx="2377080" cy="128016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53960" y="4678200"/>
              <a:ext cx="137520" cy="12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50640" y="3397680"/>
              <a:ext cx="137520" cy="12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11120" y="3580560"/>
              <a:ext cx="137520" cy="12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14440" y="4861080"/>
              <a:ext cx="137520" cy="12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97480" y="2788200"/>
              <a:ext cx="516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953960" y="2605320"/>
              <a:ext cx="413280" cy="82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57280" y="4708440"/>
              <a:ext cx="480960" cy="83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711120" y="4891320"/>
              <a:ext cx="206640" cy="10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07440" y="4068360"/>
              <a:ext cx="1033560" cy="36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Student Interface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63920" y="2056680"/>
              <a:ext cx="1033560" cy="36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Case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23720" y="3976920"/>
              <a:ext cx="1033560" cy="36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Instructor Interface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63920" y="5897880"/>
              <a:ext cx="1033560" cy="54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Varaible Description Interface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90720" y="2894760"/>
              <a:ext cx="2377080" cy="128016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17280" y="3261240"/>
              <a:ext cx="1033560" cy="36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Database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3960" y="2239560"/>
              <a:ext cx="137520" cy="12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160800" y="2331000"/>
              <a:ext cx="1896120" cy="92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04680" y="5943600"/>
              <a:ext cx="137520" cy="12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34240" y="3840480"/>
              <a:ext cx="2273760" cy="216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04000" y="5577840"/>
              <a:ext cx="2377080" cy="128016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30920" y="5943600"/>
              <a:ext cx="1033560" cy="54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Varaibles Panel class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30920" y="5486400"/>
              <a:ext cx="137520" cy="12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54840" y="4480560"/>
              <a:ext cx="137520" cy="12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71120" y="4480560"/>
              <a:ext cx="137520" cy="12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850840" y="4480560"/>
              <a:ext cx="723240" cy="11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27600" y="4114800"/>
              <a:ext cx="20664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471120" y="4572000"/>
              <a:ext cx="2687040" cy="146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Design Diagrams (2)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914400" y="2133720"/>
            <a:ext cx="7315200" cy="4190400"/>
            <a:chOff x="914400" y="2133720"/>
            <a:chExt cx="7315200" cy="4190400"/>
          </a:xfrm>
        </p:grpSpPr>
        <p:sp>
          <p:nvSpPr>
            <p:cNvPr id="185" name=""/>
            <p:cNvSpPr/>
            <p:nvPr/>
          </p:nvSpPr>
          <p:spPr>
            <a:xfrm>
              <a:off x="3223800" y="2133720"/>
              <a:ext cx="2656080" cy="103644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87880" y="2473920"/>
              <a:ext cx="1154520" cy="29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Instructor interface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73520" y="4251240"/>
              <a:ext cx="2656080" cy="103644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14400" y="3244320"/>
              <a:ext cx="2656080" cy="103644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22600" y="3540600"/>
              <a:ext cx="115452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Instructor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Question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Panel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71120" y="5287680"/>
              <a:ext cx="2656080" cy="103644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94880" y="5583960"/>
              <a:ext cx="1154520" cy="37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Database class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81720" y="4547520"/>
              <a:ext cx="1154520" cy="40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Instructor link Panel class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4880160" y="2918160"/>
              <a:ext cx="1731960" cy="133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18640" y="4843080"/>
              <a:ext cx="1616400" cy="51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3108240" y="3910320"/>
              <a:ext cx="1194480" cy="137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2646000" y="2948400"/>
              <a:ext cx="808200" cy="29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54920" y="2873880"/>
              <a:ext cx="115200" cy="73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80520" y="2918160"/>
              <a:ext cx="115200" cy="73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08240" y="3910680"/>
              <a:ext cx="115200" cy="73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19840" y="4843440"/>
              <a:ext cx="115200" cy="73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Design Diagrams (3)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1066680" y="1143000"/>
            <a:ext cx="7421760" cy="5213520"/>
            <a:chOff x="1066680" y="1143000"/>
            <a:chExt cx="7421760" cy="5213520"/>
          </a:xfrm>
        </p:grpSpPr>
        <p:sp>
          <p:nvSpPr>
            <p:cNvPr id="203" name=""/>
            <p:cNvSpPr/>
            <p:nvPr/>
          </p:nvSpPr>
          <p:spPr>
            <a:xfrm>
              <a:off x="1288080" y="1371600"/>
              <a:ext cx="2547720" cy="128052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08440" y="1143000"/>
              <a:ext cx="2547720" cy="128052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0720" y="2926440"/>
              <a:ext cx="2547720" cy="128052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71240" y="2469240"/>
              <a:ext cx="2547720" cy="128052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46680" y="2835000"/>
              <a:ext cx="1107720" cy="50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Error or warning class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63520" y="1737360"/>
              <a:ext cx="1107720" cy="54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Solver interface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94400" y="1463040"/>
              <a:ext cx="1107720" cy="54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Instructor interface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26680" y="3291840"/>
              <a:ext cx="1107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Student Interface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18960" y="2011680"/>
              <a:ext cx="147600" cy="12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25280" y="2103480"/>
              <a:ext cx="147600" cy="12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29840" y="3291840"/>
              <a:ext cx="147600" cy="12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4833000" y="2103480"/>
              <a:ext cx="885960" cy="36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5718600" y="3200400"/>
              <a:ext cx="22140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3835440" y="2194920"/>
              <a:ext cx="33228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66680" y="2926440"/>
              <a:ext cx="2547720" cy="128052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38960" y="2926440"/>
              <a:ext cx="147600" cy="12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838960" y="2926440"/>
              <a:ext cx="442800" cy="9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41760" y="3291840"/>
              <a:ext cx="1107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Business interface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82120" y="3794760"/>
              <a:ext cx="2547720" cy="128052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057560" y="4161240"/>
              <a:ext cx="1107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Graph Panel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22120" y="4710240"/>
              <a:ext cx="147600" cy="12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94400" y="2240280"/>
              <a:ext cx="147600" cy="12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60360" y="3886920"/>
              <a:ext cx="147600" cy="12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3060360" y="3886920"/>
              <a:ext cx="44280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054040" y="2332080"/>
              <a:ext cx="1550520" cy="155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62120" y="3826080"/>
              <a:ext cx="147600" cy="12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608440" y="3917520"/>
              <a:ext cx="55368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833000" y="4801680"/>
              <a:ext cx="0" cy="73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92640" y="5076000"/>
              <a:ext cx="2547720" cy="128052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78960" y="5441760"/>
              <a:ext cx="1107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Database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Design Diagrams (4)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2209680" y="2133720"/>
            <a:ext cx="4938840" cy="3428640"/>
            <a:chOff x="2209680" y="2133720"/>
            <a:chExt cx="4938840" cy="3428640"/>
          </a:xfrm>
        </p:grpSpPr>
        <p:sp>
          <p:nvSpPr>
            <p:cNvPr id="235" name=""/>
            <p:cNvSpPr/>
            <p:nvPr/>
          </p:nvSpPr>
          <p:spPr>
            <a:xfrm>
              <a:off x="3581280" y="2133720"/>
              <a:ext cx="2103480" cy="165528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2209680" y="2606400"/>
              <a:ext cx="4938840" cy="2955960"/>
              <a:chOff x="2209680" y="2606400"/>
              <a:chExt cx="4938840" cy="2955960"/>
            </a:xfrm>
          </p:grpSpPr>
          <p:sp>
            <p:nvSpPr>
              <p:cNvPr id="237" name=""/>
              <p:cNvSpPr/>
              <p:nvPr/>
            </p:nvSpPr>
            <p:spPr>
              <a:xfrm>
                <a:off x="2209680" y="3788640"/>
                <a:ext cx="2103480" cy="1655280"/>
              </a:xfrm>
              <a:custGeom>
                <a:avLst/>
                <a:gdLst/>
                <a:ahLst/>
                <a:rect l="l" t="t" r="r" b="b"/>
                <a:pathLst>
                  <a:path w="3792" h="2640">
                    <a:moveTo>
                      <a:pt x="1200" y="600"/>
                    </a:moveTo>
                    <a:cubicBezTo>
                      <a:pt x="1440" y="456"/>
                      <a:pt x="1344" y="48"/>
                      <a:pt x="1488" y="24"/>
                    </a:cubicBezTo>
                    <a:cubicBezTo>
                      <a:pt x="1632" y="0"/>
                      <a:pt x="1896" y="456"/>
                      <a:pt x="2064" y="456"/>
                    </a:cubicBezTo>
                    <a:cubicBezTo>
                      <a:pt x="2232" y="456"/>
                      <a:pt x="2352" y="0"/>
                      <a:pt x="2496" y="24"/>
                    </a:cubicBezTo>
                    <a:cubicBezTo>
                      <a:pt x="2640" y="48"/>
                      <a:pt x="2760" y="480"/>
                      <a:pt x="2928" y="600"/>
                    </a:cubicBezTo>
                    <a:cubicBezTo>
                      <a:pt x="3096" y="720"/>
                      <a:pt x="3480" y="648"/>
                      <a:pt x="3504" y="744"/>
                    </a:cubicBezTo>
                    <a:cubicBezTo>
                      <a:pt x="3528" y="840"/>
                      <a:pt x="3024" y="1056"/>
                      <a:pt x="3072" y="1176"/>
                    </a:cubicBezTo>
                    <a:cubicBezTo>
                      <a:pt x="3120" y="1296"/>
                      <a:pt x="3792" y="1344"/>
                      <a:pt x="3792" y="1464"/>
                    </a:cubicBezTo>
                    <a:cubicBezTo>
                      <a:pt x="3792" y="1584"/>
                      <a:pt x="3240" y="1728"/>
                      <a:pt x="3072" y="1896"/>
                    </a:cubicBezTo>
                    <a:cubicBezTo>
                      <a:pt x="2904" y="2064"/>
                      <a:pt x="2928" y="2472"/>
                      <a:pt x="2784" y="2472"/>
                    </a:cubicBezTo>
                    <a:cubicBezTo>
                      <a:pt x="2640" y="2472"/>
                      <a:pt x="2376" y="1872"/>
                      <a:pt x="2208" y="1896"/>
                    </a:cubicBezTo>
                    <a:cubicBezTo>
                      <a:pt x="2040" y="1920"/>
                      <a:pt x="1944" y="2592"/>
                      <a:pt x="1776" y="2616"/>
                    </a:cubicBezTo>
                    <a:cubicBezTo>
                      <a:pt x="1608" y="2640"/>
                      <a:pt x="1440" y="2160"/>
                      <a:pt x="1200" y="2040"/>
                    </a:cubicBezTo>
                    <a:cubicBezTo>
                      <a:pt x="960" y="1920"/>
                      <a:pt x="384" y="2016"/>
                      <a:pt x="336" y="1896"/>
                    </a:cubicBezTo>
                    <a:cubicBezTo>
                      <a:pt x="288" y="1776"/>
                      <a:pt x="960" y="1488"/>
                      <a:pt x="912" y="1320"/>
                    </a:cubicBezTo>
                    <a:cubicBezTo>
                      <a:pt x="864" y="1152"/>
                      <a:pt x="0" y="1008"/>
                      <a:pt x="48" y="888"/>
                    </a:cubicBezTo>
                    <a:cubicBezTo>
                      <a:pt x="96" y="768"/>
                      <a:pt x="960" y="744"/>
                      <a:pt x="1200" y="6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045040" y="3907080"/>
                <a:ext cx="2103480" cy="1655280"/>
              </a:xfrm>
              <a:custGeom>
                <a:avLst/>
                <a:gdLst/>
                <a:ahLst/>
                <a:rect l="l" t="t" r="r" b="b"/>
                <a:pathLst>
                  <a:path w="3792" h="2640">
                    <a:moveTo>
                      <a:pt x="1200" y="600"/>
                    </a:moveTo>
                    <a:cubicBezTo>
                      <a:pt x="1440" y="456"/>
                      <a:pt x="1344" y="48"/>
                      <a:pt x="1488" y="24"/>
                    </a:cubicBezTo>
                    <a:cubicBezTo>
                      <a:pt x="1632" y="0"/>
                      <a:pt x="1896" y="456"/>
                      <a:pt x="2064" y="456"/>
                    </a:cubicBezTo>
                    <a:cubicBezTo>
                      <a:pt x="2232" y="456"/>
                      <a:pt x="2352" y="0"/>
                      <a:pt x="2496" y="24"/>
                    </a:cubicBezTo>
                    <a:cubicBezTo>
                      <a:pt x="2640" y="48"/>
                      <a:pt x="2760" y="480"/>
                      <a:pt x="2928" y="600"/>
                    </a:cubicBezTo>
                    <a:cubicBezTo>
                      <a:pt x="3096" y="720"/>
                      <a:pt x="3480" y="648"/>
                      <a:pt x="3504" y="744"/>
                    </a:cubicBezTo>
                    <a:cubicBezTo>
                      <a:pt x="3528" y="840"/>
                      <a:pt x="3024" y="1056"/>
                      <a:pt x="3072" y="1176"/>
                    </a:cubicBezTo>
                    <a:cubicBezTo>
                      <a:pt x="3120" y="1296"/>
                      <a:pt x="3792" y="1344"/>
                      <a:pt x="3792" y="1464"/>
                    </a:cubicBezTo>
                    <a:cubicBezTo>
                      <a:pt x="3792" y="1584"/>
                      <a:pt x="3240" y="1728"/>
                      <a:pt x="3072" y="1896"/>
                    </a:cubicBezTo>
                    <a:cubicBezTo>
                      <a:pt x="2904" y="2064"/>
                      <a:pt x="2928" y="2472"/>
                      <a:pt x="2784" y="2472"/>
                    </a:cubicBezTo>
                    <a:cubicBezTo>
                      <a:pt x="2640" y="2472"/>
                      <a:pt x="2376" y="1872"/>
                      <a:pt x="2208" y="1896"/>
                    </a:cubicBezTo>
                    <a:cubicBezTo>
                      <a:pt x="2040" y="1920"/>
                      <a:pt x="1944" y="2592"/>
                      <a:pt x="1776" y="2616"/>
                    </a:cubicBezTo>
                    <a:cubicBezTo>
                      <a:pt x="1608" y="2640"/>
                      <a:pt x="1440" y="2160"/>
                      <a:pt x="1200" y="2040"/>
                    </a:cubicBezTo>
                    <a:cubicBezTo>
                      <a:pt x="960" y="1920"/>
                      <a:pt x="384" y="2016"/>
                      <a:pt x="336" y="1896"/>
                    </a:cubicBezTo>
                    <a:cubicBezTo>
                      <a:pt x="288" y="1776"/>
                      <a:pt x="960" y="1488"/>
                      <a:pt x="912" y="1320"/>
                    </a:cubicBezTo>
                    <a:cubicBezTo>
                      <a:pt x="864" y="1152"/>
                      <a:pt x="0" y="1008"/>
                      <a:pt x="48" y="888"/>
                    </a:cubicBezTo>
                    <a:cubicBezTo>
                      <a:pt x="96" y="768"/>
                      <a:pt x="960" y="744"/>
                      <a:pt x="1200" y="6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685120" y="4261680"/>
                <a:ext cx="1005840" cy="70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66"/>
                    </a:solidFill>
                    <a:latin typeface="Times New Roman"/>
                  </a:rPr>
                  <a:t>Istructor Question Panel Class</a:t>
                </a:r>
                <a:endParaRPr b="0" lang="en-US" sz="10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221720" y="2606400"/>
                <a:ext cx="914400" cy="59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66"/>
                    </a:solidFill>
                    <a:latin typeface="Times New Roman"/>
                  </a:rPr>
                  <a:t>Question</a:t>
                </a:r>
                <a:endParaRPr b="0" lang="en-US" sz="10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849760" y="4261680"/>
                <a:ext cx="1005840" cy="709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66"/>
                    </a:solidFill>
                    <a:latin typeface="Times New Roman"/>
                  </a:rPr>
                  <a:t>Student Question Panel Class</a:t>
                </a:r>
                <a:endParaRPr b="0" lang="en-US" sz="10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3673080" y="3315600"/>
                <a:ext cx="182880" cy="59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5227920" y="3433680"/>
                <a:ext cx="488880" cy="61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581280" y="3788640"/>
                <a:ext cx="121680" cy="15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685120" y="4025160"/>
                <a:ext cx="121680" cy="15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Design Diagrams (5)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1523880" y="2011320"/>
            <a:ext cx="6491520" cy="4846680"/>
            <a:chOff x="1523880" y="2011320"/>
            <a:chExt cx="6491520" cy="4846680"/>
          </a:xfrm>
        </p:grpSpPr>
        <p:sp>
          <p:nvSpPr>
            <p:cNvPr id="248" name=""/>
            <p:cNvSpPr/>
            <p:nvPr/>
          </p:nvSpPr>
          <p:spPr>
            <a:xfrm>
              <a:off x="1523880" y="3657240"/>
              <a:ext cx="2102760" cy="128016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18080" y="2011320"/>
              <a:ext cx="2102760" cy="128016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12640" y="3748680"/>
              <a:ext cx="2102760" cy="128016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80720" y="5577840"/>
              <a:ext cx="2102760" cy="128016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49600" y="2468520"/>
              <a:ext cx="9140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Problem Manager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20800" y="6035040"/>
              <a:ext cx="914040" cy="36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(LP) Simplex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63600" y="4023000"/>
              <a:ext cx="914040" cy="54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(Microeconomics)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Production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52360" y="4205880"/>
              <a:ext cx="914040" cy="36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(finance)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Replacement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2986200" y="2925720"/>
              <a:ext cx="9140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38320" y="2834280"/>
              <a:ext cx="914040" cy="120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46880" y="5303520"/>
              <a:ext cx="2102760" cy="128016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95520" y="5669280"/>
              <a:ext cx="1096920" cy="54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(Statistics)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Linear Regression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351960" y="3307320"/>
              <a:ext cx="127980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98240" y="2940840"/>
              <a:ext cx="1371240" cy="237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540320" y="3215880"/>
              <a:ext cx="91080" cy="91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3900240" y="2849400"/>
              <a:ext cx="91080" cy="91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4997520" y="2940840"/>
              <a:ext cx="91080" cy="91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637600" y="2849400"/>
              <a:ext cx="91080" cy="91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Design Diagrams (6)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295280" y="1447920"/>
            <a:ext cx="6616800" cy="5135040"/>
            <a:chOff x="1295280" y="1447920"/>
            <a:chExt cx="6616800" cy="5135040"/>
          </a:xfrm>
        </p:grpSpPr>
        <p:sp>
          <p:nvSpPr>
            <p:cNvPr id="269" name=""/>
            <p:cNvSpPr/>
            <p:nvPr/>
          </p:nvSpPr>
          <p:spPr>
            <a:xfrm flipV="1">
              <a:off x="2882880" y="2391840"/>
              <a:ext cx="730080" cy="9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 flipV="1">
              <a:off x="4984200" y="2620800"/>
              <a:ext cx="243000" cy="111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5168880" y="2346120"/>
              <a:ext cx="1279440" cy="12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30440" y="1447920"/>
              <a:ext cx="2103480" cy="127944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70160" y="1812960"/>
              <a:ext cx="9144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Problem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16440" y="1888920"/>
              <a:ext cx="2103480" cy="128088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65600" y="3641760"/>
              <a:ext cx="2101680" cy="128052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01640" y="3260520"/>
              <a:ext cx="2103480" cy="127944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08600" y="3352680"/>
              <a:ext cx="2103480" cy="127908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56160" y="2254320"/>
              <a:ext cx="9144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Replacement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48320" y="3900240"/>
              <a:ext cx="914400" cy="42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Linear regression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05320" y="4008240"/>
              <a:ext cx="9144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Sipmlex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41360" y="3625920"/>
              <a:ext cx="9144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Production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5533920" y="2163240"/>
              <a:ext cx="54936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781680" y="4632120"/>
              <a:ext cx="3168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5045040" y="5486400"/>
              <a:ext cx="82224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484360" y="4540320"/>
              <a:ext cx="123840" cy="56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95280" y="4846680"/>
              <a:ext cx="2103480" cy="127908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27160" y="5288040"/>
              <a:ext cx="9144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Parser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16240" y="5303880"/>
              <a:ext cx="2103480" cy="127908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594400" y="4952880"/>
              <a:ext cx="2101680" cy="1279080"/>
            </a:xfrm>
            <a:custGeom>
              <a:avLst/>
              <a:gdLst/>
              <a:ahLst/>
              <a:rect l="l" t="t" r="r" b="b"/>
              <a:pathLst>
                <a:path w="3792" h="2640">
                  <a:moveTo>
                    <a:pt x="1200" y="600"/>
                  </a:moveTo>
                  <a:cubicBezTo>
                    <a:pt x="1440" y="456"/>
                    <a:pt x="1344" y="48"/>
                    <a:pt x="1488" y="24"/>
                  </a:cubicBezTo>
                  <a:cubicBezTo>
                    <a:pt x="1632" y="0"/>
                    <a:pt x="1896" y="456"/>
                    <a:pt x="2064" y="456"/>
                  </a:cubicBezTo>
                  <a:cubicBezTo>
                    <a:pt x="2232" y="456"/>
                    <a:pt x="2352" y="0"/>
                    <a:pt x="2496" y="24"/>
                  </a:cubicBezTo>
                  <a:cubicBezTo>
                    <a:pt x="2640" y="48"/>
                    <a:pt x="2760" y="480"/>
                    <a:pt x="2928" y="600"/>
                  </a:cubicBezTo>
                  <a:cubicBezTo>
                    <a:pt x="3096" y="720"/>
                    <a:pt x="3480" y="648"/>
                    <a:pt x="3504" y="744"/>
                  </a:cubicBezTo>
                  <a:cubicBezTo>
                    <a:pt x="3528" y="840"/>
                    <a:pt x="3024" y="1056"/>
                    <a:pt x="3072" y="1176"/>
                  </a:cubicBezTo>
                  <a:cubicBezTo>
                    <a:pt x="3120" y="1296"/>
                    <a:pt x="3792" y="1344"/>
                    <a:pt x="3792" y="1464"/>
                  </a:cubicBezTo>
                  <a:cubicBezTo>
                    <a:pt x="3792" y="1584"/>
                    <a:pt x="3240" y="1728"/>
                    <a:pt x="3072" y="1896"/>
                  </a:cubicBezTo>
                  <a:cubicBezTo>
                    <a:pt x="2904" y="2064"/>
                    <a:pt x="2928" y="2472"/>
                    <a:pt x="2784" y="2472"/>
                  </a:cubicBezTo>
                  <a:cubicBezTo>
                    <a:pt x="2640" y="2472"/>
                    <a:pt x="2376" y="1872"/>
                    <a:pt x="2208" y="1896"/>
                  </a:cubicBezTo>
                  <a:cubicBezTo>
                    <a:pt x="2040" y="1920"/>
                    <a:pt x="1944" y="2592"/>
                    <a:pt x="1776" y="2616"/>
                  </a:cubicBezTo>
                  <a:cubicBezTo>
                    <a:pt x="1608" y="2640"/>
                    <a:pt x="1440" y="2160"/>
                    <a:pt x="1200" y="2040"/>
                  </a:cubicBezTo>
                  <a:cubicBezTo>
                    <a:pt x="960" y="1920"/>
                    <a:pt x="384" y="2016"/>
                    <a:pt x="336" y="1896"/>
                  </a:cubicBezTo>
                  <a:cubicBezTo>
                    <a:pt x="288" y="1776"/>
                    <a:pt x="960" y="1488"/>
                    <a:pt x="912" y="1320"/>
                  </a:cubicBezTo>
                  <a:cubicBezTo>
                    <a:pt x="864" y="1152"/>
                    <a:pt x="0" y="1008"/>
                    <a:pt x="48" y="888"/>
                  </a:cubicBezTo>
                  <a:cubicBezTo>
                    <a:pt x="96" y="768"/>
                    <a:pt x="960" y="744"/>
                    <a:pt x="1200" y="6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24480" y="5317920"/>
              <a:ext cx="9144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Matrix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4313160" y="4830840"/>
              <a:ext cx="274680" cy="65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55960" y="5668920"/>
              <a:ext cx="9144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66"/>
                  </a:solidFill>
                  <a:latin typeface="Times New Roman"/>
                </a:rPr>
                <a:t>Revised simplex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95680" y="4740120"/>
              <a:ext cx="122400" cy="120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52880" y="5775120"/>
              <a:ext cx="12240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16040" y="4540320"/>
              <a:ext cx="122400" cy="12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23000" y="4632120"/>
              <a:ext cx="12240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sign Diagrams (7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ture Wor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7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Put on the web using applets and remote interfac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17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ore reusable class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17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Enlarge the question types to handle string answers using artificial intelligence programs and concept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17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mprove the tool by taking in consideration users feedback and need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ec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quire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ec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hosen Approac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ec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sig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ec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uture 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ec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t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omputer aided learning improves the understanding of student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vailability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ost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istant learning for: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Employees in different plant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isabled person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elp businessmen make decisions while dealing with an economical problem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quirements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Electronic teacher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llow teachers to add new case studies.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elp businessmen make decision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ynamically builds the interfac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ynamically stores the needed data for a case study and allow several operations on it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ynamic help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lass reus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Object oriented programming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97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Monotype Sorts"/>
                <a:ea typeface="Monotype Sorts"/>
              </a:rPr>
              <a:t>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Easily extendibl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quirements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 large set of question typ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2D graphs (only drawn area is shown, moving referential)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ail application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wo session modes for the student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ecur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twork usag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mplementation of four problems belonging to different fields of science </a:t>
            </a:r>
            <a:r>
              <a:rPr b="0" lang="en-US" sz="2400" spc="-1" strike="noStrike">
                <a:solidFill>
                  <a:srgbClr val="ccecff"/>
                </a:solidFill>
                <a:latin typeface="Monotype Sorts"/>
                <a:ea typeface="Monotype Sorts"/>
              </a:rPr>
              <a:t>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prove that the ideas behind are working.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Requirements (3)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Needed Software and Suppor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Java Programming Languag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icrosoft Access Databas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Java DataBase Connectivity (JDBC)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Components of a case study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ase description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 set of question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Web link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Values of variabl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Graph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hosen approach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Solver Interface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(general interface) is where the user identifies himself (instructor, student or businessman)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Instructor Interface: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escription Panel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Question Panel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Web Link Panel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Graph Panel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Variables Panel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e necessary inputs for building the Variables Panel as well as the database tables and help for each problem are read from values filled in the database tables.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Those inputs are: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Variable nam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Variable panel typ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f the type is choice: provide the choic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Variable row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Variable column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Variable seri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s the variable value stored in the databas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Variable description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pproach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Student Interfac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tudent description panel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tudent questions and answers panel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tudent Web links panel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Variables panel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Graph Panel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pproach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1T14:32:57Z</dcterms:created>
  <dc:creator>Imad Mouline</dc:creator>
  <dc:description/>
  <dc:language>en-US</dc:language>
  <cp:lastModifiedBy>Imad Mouline</cp:lastModifiedBy>
  <dcterms:modified xsi:type="dcterms:W3CDTF">2000-09-26T13:16:46Z</dcterms:modified>
  <cp:revision>53</cp:revision>
  <dc:subject/>
  <dc:title>No Slide Title</dc:title>
</cp:coreProperties>
</file>