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907588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E12-A85C-48FD-A97D-02D43754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937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85840"/>
            <a:ext cx="937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CDE-F241-4EE9-8D63-F60F76A6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57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3280" y="1218960"/>
            <a:ext cx="457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85840"/>
            <a:ext cx="457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3280" y="3885840"/>
            <a:ext cx="457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C86-B56B-4B97-916C-B644F760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01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9600" y="1218960"/>
            <a:ext cx="301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8680" y="1218960"/>
            <a:ext cx="301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85840"/>
            <a:ext cx="301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9600" y="3885840"/>
            <a:ext cx="301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8680" y="3885840"/>
            <a:ext cx="3017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13C-243A-459E-8254-7E92EC54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8960"/>
            <a:ext cx="9372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95B-3D14-478F-BF71-6B7E5085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937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B03-5FB6-4A66-BD71-577B2D1F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57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3280" y="1218960"/>
            <a:ext cx="457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3FB-B185-484F-B42B-6B253E7F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9C7-6241-4863-8CC1-62682709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9372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23F-DED8-4F6D-AA2A-736AF7C5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57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3280" y="1218960"/>
            <a:ext cx="457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85840"/>
            <a:ext cx="457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881-01FE-4090-8C29-7B7C5BEF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57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3280" y="1218960"/>
            <a:ext cx="457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3280" y="3885840"/>
            <a:ext cx="457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865-4F7B-4413-A848-B04DE7CD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57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3280" y="1218960"/>
            <a:ext cx="457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85840"/>
            <a:ext cx="937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CE5-F173-46D2-A5E0-B2380B1C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8960"/>
            <a:ext cx="937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476760"/>
            <a:ext cx="206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476760"/>
            <a:ext cx="3714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7676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C8A3-8BD4-4116-B44B-7A0EC09D9573}" type="slidenum">
              <a:rPr b="0" lang="ar-SA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2880" y="44280"/>
            <a:ext cx="7704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S465 Compiler Desig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rse webpag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2200" y="4844520"/>
            <a:ext cx="6933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Term 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39800" y="3141720"/>
            <a:ext cx="70581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b20e0e"/>
                  </a:solidFill>
                  <a:miter/>
                </a:ln>
                <a:solidFill>
                  <a:srgbClr val="969696"/>
                </a:solidFill>
                <a:latin typeface="Tahoma"/>
              </a:rPr>
              <a:t>http://www.jeeran.compiler.com</a:t>
            </a:r>
            <a:endParaRPr b="0" lang="en-US" sz="3200" spc="1" strike="noStrike">
              <a:ln w="9360">
                <a:solidFill>
                  <a:srgbClr val="b20e0e"/>
                </a:solidFill>
                <a:miter/>
              </a:ln>
              <a:solidFill>
                <a:srgbClr val="969696"/>
              </a:solidFill>
              <a:latin typeface="Tahoma"/>
              <a:ea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C451-E2B1-4456-81A4-9626D2AC33E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538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3720" y="1130040"/>
            <a:ext cx="921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Lexical Analyzer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 reads the source program character by character and returns the </a:t>
            </a:r>
            <a:r>
              <a:rPr b="0" i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tokens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 of the source pro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A </a:t>
            </a:r>
            <a:r>
              <a:rPr b="0" i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token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 describes a pattern of characters having same meaning in the source program. (such as identifiers, operators, keywords, numbers, delimeters and so 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Ex:      newval := oldval + 12         =&gt;   tokens:  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newval 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:= 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assignment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oldval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+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add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12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1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a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Puts information about identifiers into the symbol 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Regular expressions are used to describe tokens (lexical construct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A (Deterministic) Finite State Automaton can be used in the implementation of a lexical analyz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>
            <a:hlinkClick r:id="" action="ppaction://hlinkshowjump?jump=previousslide"/>
          </p:cNvPr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185400" y="6416640"/>
            <a:ext cx="718920" cy="40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4880" y="6381720"/>
            <a:ext cx="71928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FD8-3C13-4539-8D80-C1F1AEA86C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cover dir="d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5920" y="3538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3360" y="1218960"/>
            <a:ext cx="937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0e0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ntax Analyzer</a:t>
            </a: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 creates the syntactic structure (generally a parse tree) of the given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0e0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A syntax analyzer is also called as 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ser</a:t>
            </a: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0e0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 describes a syntactic 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assgst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identifier            :=          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newval         expression            +        expre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identifier                 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                      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oldval                         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752120" y="32767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327672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047760" y="38862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886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3633840"/>
            <a:ext cx="41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n a parse tree, all terminals are at leav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ll inner nodes are non-terminal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 context free gramm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>
            <a:hlinkClick r:id="" action="ppaction://hlinkshowjump?jump=previousslide"/>
          </p:cNvPr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185400" y="6416640"/>
            <a:ext cx="718920" cy="405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4880" y="6381720"/>
            <a:ext cx="71928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476-6659-493A-904F-70E4AFE2A0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cover dir="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42696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ntax Analyzer (CFG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7800" y="1218960"/>
            <a:ext cx="9109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The syntax of a language is specified by a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context free</a:t>
            </a:r>
            <a:r>
              <a:rPr b="1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grammar</a:t>
            </a: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 (CF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The rules in a CFG are mostly recur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A syntax analyzer checks whether a given program satisfies the rules implied by a CFG or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If it satisfies, the syntax analyzer creates a parse tree for the given pro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Ex: </a:t>
            </a:r>
            <a:r>
              <a:rPr b="0" lang="en-US" sz="1600" spc="-1" strike="noStrike">
                <a:solidFill>
                  <a:srgbClr val="b20e0e"/>
                </a:solidFill>
                <a:latin typeface="Tahoma"/>
                <a:ea typeface="Tahoma"/>
              </a:rPr>
              <a:t>We use BNF (Backus Naur Form) to specify a C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ahoma"/>
                <a:ea typeface="Tahoma"/>
              </a:rPr>
              <a:t>assgstmt    -&gt;  identifier  :=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ahoma"/>
                <a:ea typeface="Tahoma"/>
              </a:rPr>
              <a:t>expression  -&gt;  iden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ahoma"/>
                <a:ea typeface="Tahoma"/>
              </a:rPr>
              <a:t>expression  -&gt; 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b20e0e"/>
                </a:solidFill>
                <a:latin typeface="Tahoma"/>
                <a:ea typeface="Tahoma"/>
              </a:rPr>
              <a:t>expression  -&gt;  expression  + 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" action="ppaction://hlinkshowjump?jump=previousslide"/>
          </p:cNvPr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185400" y="6416640"/>
            <a:ext cx="718920" cy="405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4880" y="6381720"/>
            <a:ext cx="71928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9BA-C5BF-431A-AA95-FBF74DE023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cover dir="d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93360" y="353880"/>
            <a:ext cx="8867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ntax Analyzer versus Lexical Analyz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91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ich constructs of a program should be recognized by the lexical analyzer, and which ones by the syntax analyz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e0e"/>
                </a:solidFill>
                <a:latin typeface="Tahoma"/>
                <a:ea typeface="Tahoma"/>
              </a:rPr>
              <a:t>Both of them do similar things; But the lexical analyzer deals with simple non-recursive constructs of the langu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e0e"/>
                </a:solidFill>
                <a:latin typeface="Tahoma"/>
                <a:ea typeface="Tahoma"/>
              </a:rPr>
              <a:t>The syntax analyzer deals with recursive constructs of the langu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e0e"/>
                </a:solidFill>
                <a:latin typeface="Tahoma"/>
                <a:ea typeface="Tahoma"/>
              </a:rPr>
              <a:t>The lexical analyzer simplifies the job of the syntax analyz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e0e"/>
                </a:solidFill>
                <a:latin typeface="Tahoma"/>
                <a:ea typeface="Tahoma"/>
              </a:rPr>
              <a:t>The lexical analyzer recognizes the smallest meaningful units (tokens) in a source pr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0e0e"/>
                </a:solidFill>
                <a:latin typeface="Tahoma"/>
                <a:ea typeface="Tahoma"/>
              </a:rPr>
              <a:t>The syntax analyzer works on the smallest meaningful units (tokens) in a source program to recognize meaningful structures in our programming langu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hlinkshowjump?jump=previousslide"/>
          </p:cNvPr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185400" y="6416640"/>
            <a:ext cx="718920" cy="405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4880" y="6381720"/>
            <a:ext cx="71928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EDA-8ACA-40B0-A3DB-ADD3869186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cover dir="d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33336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ing Techniqu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0280" y="1060200"/>
            <a:ext cx="9285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Depending on how the parse tree is created, there are different parsing techn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These parsing techniques are categorized into two group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p-Down Par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Construction of the parse tree starts at the root, and proceeds towards the leav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Efficient top-down parsers can be easily constructed by h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Recursive Predictive Parsing, Non-Recursive Predictive Parsing (LL Pars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Construction of the parse tree starts at the leaves, and proceeds towards the ro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25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20e0e"/>
                </a:solidFill>
                <a:latin typeface="Tahoma"/>
                <a:ea typeface="Tahoma"/>
              </a:rPr>
              <a:t>Normally efficient bottom-up parsers are created with the help of some software tool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Bottom-up parsing is also known as shift-reduce pars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Operator-Precedence Parsing – simple, restrictive, easy to impl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LR Parsing – much general form of shift-reduce parsing, LR, SLR, LA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>
            <a:hlinkClick r:id="" action="ppaction://hlinkshowjump?jump=previousslide"/>
          </p:cNvPr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185400" y="6416640"/>
            <a:ext cx="718920" cy="405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4880" y="6381720"/>
            <a:ext cx="71928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62A-659D-4AC4-8FC5-CA53176C39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cover dir="d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3538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93360" y="1218960"/>
            <a:ext cx="8939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A semantic analyzer checks the source program for semantic errors and collects the type information for the code gen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Type-checking is an important part of semantic analyz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Normally semantic information cannot be represented by a context-free language used in syntax analyz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Context-free grammars used in the syntax analysis are integrated with attributes (semantic rule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the result is a syntax-directed transl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Attribute gram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Ex:               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newval  :=  oldval  + 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ahoma"/>
                <a:ea typeface="Tahoma"/>
              </a:rPr>
              <a:t>The type of the identifier </a:t>
            </a:r>
            <a:r>
              <a:rPr b="0" i="1" lang="en-US" sz="1600" spc="-1" strike="noStrike">
                <a:solidFill>
                  <a:srgbClr val="b20e0e"/>
                </a:solidFill>
                <a:latin typeface="Tahoma"/>
                <a:ea typeface="Tahoma"/>
              </a:rPr>
              <a:t>newval</a:t>
            </a:r>
            <a:r>
              <a:rPr b="0" lang="en-US" sz="1600" spc="-1" strike="noStrike">
                <a:solidFill>
                  <a:srgbClr val="b20e0e"/>
                </a:solidFill>
                <a:latin typeface="Tahoma"/>
                <a:ea typeface="Tahoma"/>
              </a:rPr>
              <a:t>  must match with type of the expression </a:t>
            </a:r>
            <a:r>
              <a:rPr b="0" i="1" lang="en-US" sz="1600" spc="-1" strike="noStrike">
                <a:solidFill>
                  <a:srgbClr val="b20e0e"/>
                </a:solidFill>
                <a:latin typeface="Tahoma"/>
                <a:ea typeface="Tahoma"/>
              </a:rPr>
              <a:t>(oldval+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" action="ppaction://hlinkshowjump?jump=previousslide"/>
          </p:cNvPr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185400" y="6416640"/>
            <a:ext cx="718920" cy="405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4880" y="6381720"/>
            <a:ext cx="71928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067-3947-4015-8BC7-29F537415E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cover dir="d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5920" y="3538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mediate Code Gene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8160" y="1218960"/>
            <a:ext cx="8964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A compiler may produce an explicit intermediate codes representing  the sourc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These intermediate codes are generally machine (architecture independent). But the level of intermediate codes is close to the level of machine c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newval  :=  oldval * fact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id1  :=  id2 * id3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MULT  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id2,id3,temp1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Intermediates Codes (Quadrap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ADD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temp1,#1,tem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MOV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temp2,,i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>
            <a:hlinkClick r:id="" action="ppaction://hlinkshowjump?jump=previousslide"/>
          </p:cNvPr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185400" y="6416640"/>
            <a:ext cx="718920" cy="405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4880" y="6381720"/>
            <a:ext cx="71928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132-AA09-4C4B-9521-C3B02095EF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cover dir="d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42696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 Optimizer (for Intermediate Code Generator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1240" y="1995480"/>
            <a:ext cx="896472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The code optimizer optimizes the code produced by the intermediate code generator in the terms of time and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MULT  </a:t>
            </a: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id2,id3,temp1</a:t>
            </a: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ADD</a:t>
            </a: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          temp1,#1,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" action="ppaction://hlinkshowjump?jump=previousslide"/>
          </p:cNvPr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185400" y="6416640"/>
            <a:ext cx="718920" cy="405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4880" y="6381720"/>
            <a:ext cx="71928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49C-1205-49EF-93C4-4B4B5D4FAD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cover dir="d"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9000" y="40464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68160" y="1218960"/>
            <a:ext cx="8964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Produces the target language in a specific archit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The target program is normally is a relocatable object file containing  the machine c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E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  <a:ea typeface="Tahoma"/>
              </a:rPr>
              <a:t>( assume that we have an architecture with instructions whose at least one of its operands is a machine r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  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    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MOVE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id2,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MULT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id3,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ADD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#1,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MOVE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R1,i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7984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>
            <a:hlinkClick r:id="" action="ppaction://hlinkshowjump?jump=previousslide"/>
          </p:cNvPr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185400" y="6416640"/>
            <a:ext cx="718920" cy="4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439-DFD9-430D-9F30-8B6683B464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cover dir="d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42696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rse Inform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03080" y="1412640"/>
            <a:ext cx="806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e0e"/>
                </a:solidFill>
                <a:latin typeface="Tahoma"/>
                <a:ea typeface="Tahoma"/>
              </a:rPr>
              <a:t>Instructor  :   Dr. Mohammad AL-Khrisat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e0e"/>
                </a:solidFill>
                <a:latin typeface="Tahoma"/>
                <a:ea typeface="Tahoma"/>
              </a:rPr>
              <a:t>Office: science building(1) 2</a:t>
            </a:r>
            <a:r>
              <a:rPr b="1" lang="en-US" sz="2000" spc="-1" strike="noStrike" baseline="30000">
                <a:solidFill>
                  <a:srgbClr val="b20e0e"/>
                </a:solidFill>
                <a:latin typeface="Tahoma"/>
                <a:ea typeface="Tahoma"/>
              </a:rPr>
              <a:t>nd</a:t>
            </a:r>
            <a:r>
              <a:rPr b="1" lang="en-US" sz="2000" spc="-1" strike="noStrike">
                <a:solidFill>
                  <a:srgbClr val="b20e0e"/>
                </a:solidFill>
                <a:latin typeface="Tahoma"/>
                <a:ea typeface="Tahoma"/>
              </a:rPr>
              <a:t>  floor, room 22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e0e"/>
                </a:solidFill>
                <a:latin typeface="Tahoma"/>
                <a:ea typeface="Tahoma"/>
              </a:rPr>
              <a:t>Phone: ex 4410,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e0e"/>
                </a:solidFill>
                <a:latin typeface="Tahoma"/>
                <a:ea typeface="Tahoma"/>
              </a:rPr>
              <a:t>Email:  khrisat@mutah.edu.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e0e"/>
                </a:solidFill>
                <a:latin typeface="Tahoma"/>
                <a:ea typeface="Tahoma"/>
              </a:rPr>
              <a:t>Course # </a:t>
            </a:r>
            <a:r>
              <a:rPr b="1" lang="en-US" sz="2000" spc="-1" strike="noStrike" u="sng">
                <a:solidFill>
                  <a:srgbClr val="b20e0e"/>
                </a:solidFill>
                <a:uFillTx/>
                <a:latin typeface="Tahoma"/>
                <a:ea typeface="Tahoma"/>
              </a:rPr>
              <a:t>CS 3044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e0e"/>
                </a:solidFill>
                <a:latin typeface="Tahoma"/>
                <a:ea typeface="Tahoma"/>
              </a:rPr>
              <a:t>Office Hours :  To be annou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0e0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0e0e"/>
                </a:solidFill>
                <a:latin typeface="Times New Roman"/>
              </a:rPr>
              <a:t>Class Hours   :  Sunday , Tuesday ,  Thursday, 11-1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04880" y="6381720"/>
            <a:ext cx="719280" cy="476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9129600" y="6427800"/>
            <a:ext cx="754200" cy="43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06320" y="6381720"/>
            <a:ext cx="71928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849-5BB7-4D80-824E-C3AC4E12F6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538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liminaries Requir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360" y="1218960"/>
            <a:ext cx="886788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Basic knowledge of programming languag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Knowledge of a high programming language for the programming assignments</a:t>
            </a:r>
            <a:r>
              <a:rPr b="0" lang="en-US" sz="2200" spc="-1" strike="noStrike">
                <a:solidFill>
                  <a:srgbClr val="b20e0e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Textboo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0e0e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Kenneth C. L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“</a:t>
            </a:r>
            <a:r>
              <a:rPr b="0" i="1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Compilers Construction Principles and practice</a:t>
            </a: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PWS Publishing Company, 1997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Alfred V. Aho, Ravi Sethi, and Jeffrey D. Ullma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“</a:t>
            </a:r>
            <a:r>
              <a:rPr b="0" i="1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Compilers: Principles, Techniques, and Tools</a:t>
            </a: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	</a:t>
            </a: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Addison-Wesley, 1986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" action="ppaction://hlinkshowjump?jump=previousslide"/>
          </p:cNvPr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185400" y="6416640"/>
            <a:ext cx="718920" cy="4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4880" y="6381720"/>
            <a:ext cx="71928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92C-4D95-4FE1-8D8B-29B9057C87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cover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538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2880" y="1708200"/>
            <a:ext cx="8532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First Exam                             : 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Second Exam                         : 15%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Pop-quizzes &amp; Att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             </a:t>
            </a: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&amp; Homeworks               :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Final                                      : 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" action="ppaction://hlinkshowjump?jump=previousslide"/>
          </p:cNvPr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185400" y="6416640"/>
            <a:ext cx="718920" cy="40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4880" y="6381720"/>
            <a:ext cx="71928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DC1-E2A5-43AF-9E49-A64E67F184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42696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2880" y="1218960"/>
            <a:ext cx="8532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Introduction to 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Lex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Syntax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Context Free Gramm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Top-Down Parsing, LL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Bottom-Up Parsing, LR Pa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Syntax-Directed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Attribute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Evaluation of Attribute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Semantic Analysis, Type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Run-Tim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Intermediate Cod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" action="ppaction://hlinkshowjump?jump=previousslide"/>
          </p:cNvPr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186840" y="6453360"/>
            <a:ext cx="719280" cy="40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4880" y="6381720"/>
            <a:ext cx="71928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1AB-BA44-452E-A8F1-706E3A63C3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cover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4280" y="40464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9360" y="1218960"/>
            <a:ext cx="8723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0e0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iler</a:t>
            </a: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 is a program takes a program written in a source language and translates it into an equivalent program in a target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source program            COMPILER          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error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60880" y="3086280"/>
            <a:ext cx="243828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55960" y="3544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81880" y="3551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6440" y="3639960"/>
            <a:ext cx="31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 Normally a program written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 high-level programming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72160" y="3711600"/>
            <a:ext cx="333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 Normally the equivalent progra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chine code – relocatable object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4880" y="4065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" action="ppaction://hlinkshowjump?jump=previousslide"/>
          </p:cNvPr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185400" y="6416640"/>
            <a:ext cx="718920" cy="40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4880" y="6381720"/>
            <a:ext cx="71928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BC9-FCFC-4062-AC66-961AE3C2FF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randomBar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75920" y="35388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 Ap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3360" y="1436400"/>
            <a:ext cx="88678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0e0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imes New Roman"/>
              </a:rPr>
              <a:t>In addition to the development of a compiler, the techniques used in compiler design can be applicable to many problems in computer sci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0e0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imes New Roman"/>
              </a:rPr>
              <a:t>Techniques used in a lexical analyzer can be used in text editors, information retrieval system, and pattern recognition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0e0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imes New Roman"/>
              </a:rPr>
              <a:t>Techniques used in a parser can be used in a query processing system such as SQ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0e0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imes New Roman"/>
              </a:rPr>
              <a:t>Many software having a complex front-end may need techniques used  in compiler desig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b20e0e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imes New Roman"/>
              </a:rPr>
              <a:t>A symbolic equation solver which takes an equation as input. That program should parse           the given input equ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0e0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imes New Roman"/>
              </a:rPr>
              <a:t>Most of the techniques used in compiler design  can be used in Natural Language Processing (NLP) syst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" action="ppaction://hlinkshowjump?jump=previousslide"/>
          </p:cNvPr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185400" y="6416640"/>
            <a:ext cx="718920" cy="405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4880" y="6381720"/>
            <a:ext cx="71928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514-1414-4520-A835-216B850D6F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cover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42696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jor Parts of Compil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8160" y="1276200"/>
            <a:ext cx="9180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There are two major parts of a compiler: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Analysis</a:t>
            </a: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In analysis phase, an intermediate representation is created from the given source progr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Lexical Analyzer, Syntax Analyzer and Semantic Analyzer are the parts of this ph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0e0e"/>
                </a:solidFill>
                <a:latin typeface="Tahoma"/>
                <a:ea typeface="Tahoma"/>
              </a:rPr>
              <a:t>In synthesis phase, the equivalent target program is created from this intermediate repres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b20e0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0e0e"/>
                </a:solidFill>
                <a:latin typeface="Tahoma"/>
                <a:ea typeface="Tahoma"/>
              </a:rPr>
              <a:t>Intermediate Code Generator, Code Generator, and Code Optimizer are the parts of this ph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" action="ppaction://hlinkshowjump?jump=previousslide"/>
          </p:cNvPr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185400" y="6416640"/>
            <a:ext cx="718920" cy="405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4880" y="6381720"/>
            <a:ext cx="71928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7DC8-8229-429C-9B98-FC50416E36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cover dir="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42696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ases of A Compil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31760" y="190512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Lexi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79360" y="1905120"/>
            <a:ext cx="98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Semant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63520" y="190512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Synta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44960" y="1905120"/>
            <a:ext cx="14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Code 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0280" y="1905120"/>
            <a:ext cx="100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Optim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45240" y="1905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0e0e"/>
                </a:solidFill>
                <a:latin typeface="Times New Roman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9560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3204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98720" y="2209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8944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1332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8036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37600" y="220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6280" y="3205080"/>
            <a:ext cx="91598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 </a:t>
            </a: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Each phase transforms the source program from one represent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  </a:t>
            </a: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into another represent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 </a:t>
            </a: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They communicate with error handl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0e0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 </a:t>
            </a:r>
            <a:r>
              <a:rPr b="0" lang="en-US" sz="2200" spc="-1" strike="noStrike">
                <a:solidFill>
                  <a:srgbClr val="b20e0e"/>
                </a:solidFill>
                <a:latin typeface="Tahoma"/>
                <a:ea typeface="Tahoma"/>
              </a:rPr>
              <a:t>They communicate with the symbol t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960" y="190008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Sou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977680" y="19162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>
            <a:hlinkClick r:id="" action="ppaction://hlinkshowjump?jump=previousslide"/>
          </p:cNvPr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9185400" y="6416640"/>
            <a:ext cx="718920" cy="405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4880" y="6381720"/>
            <a:ext cx="719280" cy="47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465   Compiler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3E3-881D-4EEB-8609-90C3FCDF66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hrisat  2003</a:t>
            </a:r>
          </a:p>
        </p:txBody>
      </p:sp>
    </p:spTree>
  </p:cSld>
  <p:transition spd="slow">
    <p:cover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9:57:44Z</dcterms:created>
  <dc:creator>Ilyas Cicekli</dc:creator>
  <dc:description/>
  <dc:language>en-US</dc:language>
  <cp:lastModifiedBy>FaYeZ Al-Nahdi</cp:lastModifiedBy>
  <cp:lastPrinted>1999-09-09T03:15:50Z</cp:lastPrinted>
  <dcterms:modified xsi:type="dcterms:W3CDTF">2004-09-24T20:56:22Z</dcterms:modified>
  <cp:revision>192</cp:revision>
  <dc:subject/>
  <dc:title>CS416:lec00-out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olumbia.edu/~radev/cs4705/</vt:lpwstr>
  </property>
  <property fmtid="{D5CDD505-2E9C-101B-9397-08002B2CF9AE}" pid="9" name="LinkColor">
    <vt:r8>16711782</vt:r8>
  </property>
  <property fmtid="{D5CDD505-2E9C-101B-9397-08002B2CF9AE}" pid="10" name="MailAddress">
    <vt:lpwstr>radev@cs.columbi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html\cs4705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