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wmf" ContentType="image/x-wmf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C48-6A1B-47B8-BDCB-1618CA80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320-B7B2-4C38-9E80-0EA2A82A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F601-BA12-4C45-BE0D-03E38C13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CC0-96F0-4158-A723-A833B19B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8AF-087E-40C7-BC85-04645F4A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FC1-6128-4167-B8B1-11C4818A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3FD-0D1D-4477-A953-D1E691D1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B83-E8B3-4961-9A99-B926CAF5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8B7-FBBC-4386-911C-784655BE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F05-D934-4DB8-A1A8-D8AFD28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364-1D87-4523-AD0F-F040F6D7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B53-6FF7-41D1-A1DC-35B9783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ED28-CBC8-424D-96BE-CDDC5A40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7400" y="228600"/>
            <a:ext cx="5410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s Loisi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886200" cy="394488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7772400" y="2286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7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380880" y="6095880"/>
            <a:ext cx="1676520" cy="381240"/>
          </a:xfrm>
          <a:custGeom>
            <a:avLst/>
            <a:gdLst>
              <a:gd name="textAreaLeft" fmla="*/ 24480 w 1676520"/>
              <a:gd name="textAreaRight" fmla="*/ 1652040 w 1676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94918" h="21600">
                <a:moveTo>
                  <a:pt x="0" y="0"/>
                </a:moveTo>
                <a:lnTo>
                  <a:pt x="94918" y="0"/>
                </a:lnTo>
                <a:lnTo>
                  <a:pt x="94918" y="21600"/>
                </a:lnTo>
                <a:lnTo>
                  <a:pt x="0" y="21600"/>
                </a:lnTo>
                <a:close/>
              </a:path>
              <a:path fill="lightenLess" w="94918" h="21600">
                <a:moveTo>
                  <a:pt x="0" y="0"/>
                </a:moveTo>
                <a:lnTo>
                  <a:pt x="94918" y="0"/>
                </a:lnTo>
                <a:lnTo>
                  <a:pt x="93518" y="1400"/>
                </a:lnTo>
                <a:lnTo>
                  <a:pt x="1400" y="1400"/>
                </a:lnTo>
                <a:close/>
              </a:path>
              <a:path fill="darken" w="94918" h="21600">
                <a:moveTo>
                  <a:pt x="94918" y="0"/>
                </a:moveTo>
                <a:lnTo>
                  <a:pt x="94918" y="21600"/>
                </a:lnTo>
                <a:lnTo>
                  <a:pt x="93518" y="20200"/>
                </a:lnTo>
                <a:lnTo>
                  <a:pt x="93518" y="1400"/>
                </a:lnTo>
                <a:close/>
              </a:path>
              <a:path fill="darkenLess" w="94918" h="21600">
                <a:moveTo>
                  <a:pt x="94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518" y="20200"/>
                </a:lnTo>
                <a:close/>
              </a:path>
              <a:path fill="lighten" w="94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918" h="21600">
                <a:moveTo>
                  <a:pt x="40452" y="10800"/>
                </a:moveTo>
                <a:lnTo>
                  <a:pt x="54465" y="3794"/>
                </a:lnTo>
                <a:lnTo>
                  <a:pt x="5446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200400" y="609480"/>
            <a:ext cx="3124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dinateu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7040" y="1676520"/>
            <a:ext cx="53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de mes passe-temps favor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 de passer du temps a parler sur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c des am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3486240" cy="25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9256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772400" y="152280"/>
            <a:ext cx="1119240" cy="685800"/>
          </a:xfrm>
          <a:custGeom>
            <a:avLst/>
            <a:gdLst>
              <a:gd name="textAreaLeft" fmla="*/ 44280 w 1119240"/>
              <a:gd name="textAreaRight" fmla="*/ 1074960 w 11192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244" h="21600">
                <a:moveTo>
                  <a:pt x="0" y="0"/>
                </a:moveTo>
                <a:lnTo>
                  <a:pt x="35244" y="0"/>
                </a:lnTo>
                <a:lnTo>
                  <a:pt x="35244" y="21600"/>
                </a:lnTo>
                <a:lnTo>
                  <a:pt x="0" y="21600"/>
                </a:lnTo>
                <a:close/>
              </a:path>
              <a:path fill="lightenLess" w="35244" h="21600">
                <a:moveTo>
                  <a:pt x="0" y="0"/>
                </a:moveTo>
                <a:lnTo>
                  <a:pt x="35244" y="0"/>
                </a:lnTo>
                <a:lnTo>
                  <a:pt x="33844" y="1400"/>
                </a:lnTo>
                <a:lnTo>
                  <a:pt x="1400" y="1400"/>
                </a:lnTo>
                <a:close/>
              </a:path>
              <a:path fill="darken" w="35244" h="21600">
                <a:moveTo>
                  <a:pt x="35244" y="0"/>
                </a:moveTo>
                <a:lnTo>
                  <a:pt x="35244" y="21600"/>
                </a:lnTo>
                <a:lnTo>
                  <a:pt x="33844" y="20200"/>
                </a:lnTo>
                <a:lnTo>
                  <a:pt x="33844" y="1400"/>
                </a:lnTo>
                <a:close/>
              </a:path>
              <a:path fill="darkenLess" w="35244" h="21600">
                <a:moveTo>
                  <a:pt x="35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44" y="20200"/>
                </a:lnTo>
                <a:close/>
              </a:path>
              <a:path fill="lighten" w="35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44" h="21600">
                <a:moveTo>
                  <a:pt x="10616" y="3794"/>
                </a:moveTo>
                <a:lnTo>
                  <a:pt x="24629" y="10800"/>
                </a:lnTo>
                <a:lnTo>
                  <a:pt x="1061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304920" y="6095880"/>
            <a:ext cx="1042920" cy="53352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10" h="21600">
                <a:moveTo>
                  <a:pt x="0" y="0"/>
                </a:moveTo>
                <a:lnTo>
                  <a:pt x="42210" y="0"/>
                </a:lnTo>
                <a:lnTo>
                  <a:pt x="42210" y="21600"/>
                </a:lnTo>
                <a:lnTo>
                  <a:pt x="0" y="21600"/>
                </a:lnTo>
                <a:close/>
              </a:path>
              <a:path fill="lightenLess" w="42210" h="21600">
                <a:moveTo>
                  <a:pt x="0" y="0"/>
                </a:moveTo>
                <a:lnTo>
                  <a:pt x="42210" y="0"/>
                </a:lnTo>
                <a:lnTo>
                  <a:pt x="40810" y="1400"/>
                </a:lnTo>
                <a:lnTo>
                  <a:pt x="1400" y="1400"/>
                </a:lnTo>
                <a:close/>
              </a:path>
              <a:path fill="darken" w="42210" h="21600">
                <a:moveTo>
                  <a:pt x="42210" y="0"/>
                </a:moveTo>
                <a:lnTo>
                  <a:pt x="42210" y="21600"/>
                </a:lnTo>
                <a:lnTo>
                  <a:pt x="40810" y="20200"/>
                </a:lnTo>
                <a:lnTo>
                  <a:pt x="40810" y="1400"/>
                </a:lnTo>
                <a:close/>
              </a:path>
              <a:path fill="darkenLess" w="42210" h="21600">
                <a:moveTo>
                  <a:pt x="42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10" y="20200"/>
                </a:lnTo>
                <a:close/>
              </a:path>
              <a:path fill="lighten" w="42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10" h="21600">
                <a:moveTo>
                  <a:pt x="14098" y="10800"/>
                </a:moveTo>
                <a:lnTo>
                  <a:pt x="28111" y="3794"/>
                </a:lnTo>
                <a:lnTo>
                  <a:pt x="2811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8120" y="304920"/>
            <a:ext cx="2819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Li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0"/>
            <a:ext cx="416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mes temps libre, la l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e mes mo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7391520" y="152280"/>
            <a:ext cx="1195200" cy="609840"/>
          </a:xfrm>
          <a:custGeom>
            <a:avLst/>
            <a:gdLst>
              <a:gd name="textAreaLeft" fmla="*/ 39240 w 1195200"/>
              <a:gd name="textAreaRight" fmla="*/ 1155960 w 11952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2321" h="21600">
                <a:moveTo>
                  <a:pt x="0" y="0"/>
                </a:moveTo>
                <a:lnTo>
                  <a:pt x="42321" y="0"/>
                </a:lnTo>
                <a:lnTo>
                  <a:pt x="42321" y="21600"/>
                </a:lnTo>
                <a:lnTo>
                  <a:pt x="0" y="21600"/>
                </a:lnTo>
                <a:close/>
              </a:path>
              <a:path fill="lightenLess" w="42321" h="21600">
                <a:moveTo>
                  <a:pt x="0" y="0"/>
                </a:moveTo>
                <a:lnTo>
                  <a:pt x="42321" y="0"/>
                </a:lnTo>
                <a:lnTo>
                  <a:pt x="40921" y="1400"/>
                </a:lnTo>
                <a:lnTo>
                  <a:pt x="1400" y="1400"/>
                </a:lnTo>
                <a:close/>
              </a:path>
              <a:path fill="darken" w="42321" h="21600">
                <a:moveTo>
                  <a:pt x="42321" y="0"/>
                </a:moveTo>
                <a:lnTo>
                  <a:pt x="42321" y="21600"/>
                </a:lnTo>
                <a:lnTo>
                  <a:pt x="40921" y="20200"/>
                </a:lnTo>
                <a:lnTo>
                  <a:pt x="40921" y="1400"/>
                </a:lnTo>
                <a:close/>
              </a:path>
              <a:path fill="darkenLess" w="42321" h="21600">
                <a:moveTo>
                  <a:pt x="42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21" y="20200"/>
                </a:lnTo>
                <a:close/>
              </a:path>
              <a:path fill="lighten" w="42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321" h="21600">
                <a:moveTo>
                  <a:pt x="14154" y="3794"/>
                </a:moveTo>
                <a:lnTo>
                  <a:pt x="28167" y="10800"/>
                </a:lnTo>
                <a:lnTo>
                  <a:pt x="1415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304920" y="594360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0" h="21600">
                <a:moveTo>
                  <a:pt x="10004" y="10800"/>
                </a:moveTo>
                <a:lnTo>
                  <a:pt x="24016" y="3794"/>
                </a:lnTo>
                <a:lnTo>
                  <a:pt x="2401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4572000"/>
            <a:ext cx="170496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1771560" cy="142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16956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895480" y="609480"/>
            <a:ext cx="3124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élévisio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219600" y="2133720"/>
            <a:ext cx="56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 ’écoute la T.V. quand j ’ai des émiss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s j ’aime bien de temps en temps éco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bon fil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3600" y="2743200"/>
            <a:ext cx="2533680" cy="3467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3429000"/>
            <a:ext cx="2220840" cy="2438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467480" y="380880"/>
            <a:ext cx="1271880" cy="762120"/>
          </a:xfrm>
          <a:custGeom>
            <a:avLst/>
            <a:gdLst>
              <a:gd name="textAreaLeft" fmla="*/ 49320 w 1271880"/>
              <a:gd name="textAreaRight" fmla="*/ 1222560 w 1271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041" h="21600">
                <a:moveTo>
                  <a:pt x="0" y="0"/>
                </a:moveTo>
                <a:lnTo>
                  <a:pt x="36041" y="0"/>
                </a:lnTo>
                <a:lnTo>
                  <a:pt x="36041" y="21600"/>
                </a:lnTo>
                <a:lnTo>
                  <a:pt x="0" y="21600"/>
                </a:lnTo>
                <a:close/>
              </a:path>
              <a:path fill="lightenLess" w="36041" h="21600">
                <a:moveTo>
                  <a:pt x="0" y="0"/>
                </a:moveTo>
                <a:lnTo>
                  <a:pt x="36041" y="0"/>
                </a:lnTo>
                <a:lnTo>
                  <a:pt x="34641" y="1400"/>
                </a:lnTo>
                <a:lnTo>
                  <a:pt x="1400" y="1400"/>
                </a:lnTo>
                <a:close/>
              </a:path>
              <a:path fill="darken" w="36041" h="21600">
                <a:moveTo>
                  <a:pt x="36041" y="0"/>
                </a:moveTo>
                <a:lnTo>
                  <a:pt x="36041" y="21600"/>
                </a:lnTo>
                <a:lnTo>
                  <a:pt x="34641" y="20200"/>
                </a:lnTo>
                <a:lnTo>
                  <a:pt x="34641" y="1400"/>
                </a:lnTo>
                <a:close/>
              </a:path>
              <a:path fill="darkenLess" w="36041" h="21600">
                <a:moveTo>
                  <a:pt x="36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41" y="20200"/>
                </a:lnTo>
                <a:close/>
              </a:path>
              <a:path fill="lighten" w="36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41" h="21600">
                <a:moveTo>
                  <a:pt x="11014" y="3794"/>
                </a:moveTo>
                <a:lnTo>
                  <a:pt x="25027" y="10800"/>
                </a:lnTo>
                <a:lnTo>
                  <a:pt x="1101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571500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1345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971800" y="380880"/>
            <a:ext cx="3352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agasin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880" y="2057400"/>
            <a:ext cx="433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 la majorité des fil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passerais mes journée complè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les magasins.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6782040" cy="23623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315200" y="304920"/>
            <a:ext cx="1424160" cy="609480"/>
          </a:xfrm>
          <a:custGeom>
            <a:avLst/>
            <a:gdLst>
              <a:gd name="textAreaLeft" fmla="*/ 39240 w 1424160"/>
              <a:gd name="textAreaRight" fmla="*/ 1384920 w 1424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0455" h="21600">
                <a:moveTo>
                  <a:pt x="0" y="0"/>
                </a:moveTo>
                <a:lnTo>
                  <a:pt x="50455" y="0"/>
                </a:lnTo>
                <a:lnTo>
                  <a:pt x="50455" y="21600"/>
                </a:lnTo>
                <a:lnTo>
                  <a:pt x="0" y="21600"/>
                </a:lnTo>
                <a:close/>
              </a:path>
              <a:path fill="lightenLess" w="50455" h="21600">
                <a:moveTo>
                  <a:pt x="0" y="0"/>
                </a:moveTo>
                <a:lnTo>
                  <a:pt x="50455" y="0"/>
                </a:lnTo>
                <a:lnTo>
                  <a:pt x="49055" y="1400"/>
                </a:lnTo>
                <a:lnTo>
                  <a:pt x="1400" y="1400"/>
                </a:lnTo>
                <a:close/>
              </a:path>
              <a:path fill="darken" w="50455" h="21600">
                <a:moveTo>
                  <a:pt x="50455" y="0"/>
                </a:moveTo>
                <a:lnTo>
                  <a:pt x="50455" y="21600"/>
                </a:lnTo>
                <a:lnTo>
                  <a:pt x="49055" y="20200"/>
                </a:lnTo>
                <a:lnTo>
                  <a:pt x="49055" y="1400"/>
                </a:lnTo>
                <a:close/>
              </a:path>
              <a:path fill="darkenLess" w="50455" h="21600">
                <a:moveTo>
                  <a:pt x="50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55" y="20200"/>
                </a:lnTo>
                <a:close/>
              </a:path>
              <a:path fill="lighten" w="50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55" h="21600">
                <a:moveTo>
                  <a:pt x="18221" y="3794"/>
                </a:moveTo>
                <a:lnTo>
                  <a:pt x="32234" y="10800"/>
                </a:lnTo>
                <a:lnTo>
                  <a:pt x="18221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228600" y="601992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0" h="21600">
                <a:moveTo>
                  <a:pt x="10004" y="10800"/>
                </a:moveTo>
                <a:lnTo>
                  <a:pt x="24016" y="3794"/>
                </a:lnTo>
                <a:lnTo>
                  <a:pt x="24016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971800" y="609480"/>
            <a:ext cx="3505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Entrainement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5720" y="2057400"/>
            <a:ext cx="358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garder la forme je v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 entraîner dans une sa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x fois par sema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543800" y="304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304920" y="601992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17619" y="10800"/>
                </a:moveTo>
                <a:lnTo>
                  <a:pt x="31632" y="3794"/>
                </a:lnTo>
                <a:lnTo>
                  <a:pt x="31632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381040" cy="2343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52480" y="3581280"/>
            <a:ext cx="39625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315200" y="380880"/>
            <a:ext cx="1347840" cy="533520"/>
          </a:xfrm>
          <a:custGeom>
            <a:avLst/>
            <a:gdLst>
              <a:gd name="textAreaLeft" fmla="*/ 34560 w 1347840"/>
              <a:gd name="textAreaRight" fmla="*/ 1313280 w 1347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4546" h="21600">
                <a:moveTo>
                  <a:pt x="0" y="0"/>
                </a:moveTo>
                <a:lnTo>
                  <a:pt x="54546" y="0"/>
                </a:lnTo>
                <a:lnTo>
                  <a:pt x="54546" y="21600"/>
                </a:lnTo>
                <a:lnTo>
                  <a:pt x="0" y="21600"/>
                </a:lnTo>
                <a:close/>
              </a:path>
              <a:path fill="lightenLess" w="54546" h="21600">
                <a:moveTo>
                  <a:pt x="0" y="0"/>
                </a:moveTo>
                <a:lnTo>
                  <a:pt x="54546" y="0"/>
                </a:lnTo>
                <a:lnTo>
                  <a:pt x="53146" y="1400"/>
                </a:lnTo>
                <a:lnTo>
                  <a:pt x="1400" y="1400"/>
                </a:lnTo>
                <a:close/>
              </a:path>
              <a:path fill="darken" w="54546" h="21600">
                <a:moveTo>
                  <a:pt x="54546" y="0"/>
                </a:moveTo>
                <a:lnTo>
                  <a:pt x="54546" y="21600"/>
                </a:lnTo>
                <a:lnTo>
                  <a:pt x="53146" y="20200"/>
                </a:lnTo>
                <a:lnTo>
                  <a:pt x="53146" y="1400"/>
                </a:lnTo>
                <a:close/>
              </a:path>
              <a:path fill="darkenLess" w="54546" h="21600">
                <a:moveTo>
                  <a:pt x="54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146" y="20200"/>
                </a:lnTo>
                <a:close/>
              </a:path>
              <a:path fill="lighten" w="54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546" h="21600">
                <a:moveTo>
                  <a:pt x="20267" y="3794"/>
                </a:moveTo>
                <a:lnTo>
                  <a:pt x="34280" y="10800"/>
                </a:lnTo>
                <a:lnTo>
                  <a:pt x="20267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457200" y="57913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10800"/>
                </a:moveTo>
                <a:lnTo>
                  <a:pt x="27255" y="3794"/>
                </a:lnTo>
                <a:lnTo>
                  <a:pt x="27255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14600" y="457200"/>
            <a:ext cx="3429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isc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3360" y="1828800"/>
            <a:ext cx="501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été j ’aime bien passer de 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s dans une piscine a m ’am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s l ’eau, j ’aime bien aussi les b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billons qui sont plus cha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2790720" cy="180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3619440"/>
            <a:ext cx="48574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743200" y="685800"/>
            <a:ext cx="3171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nnequi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837360" y="1752480"/>
            <a:ext cx="249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lundi, je suis mes cours de mannequ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 ’agence Jet-7 de chicouti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66880" y="3733920"/>
            <a:ext cx="1743120" cy="29527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315200" y="380880"/>
            <a:ext cx="1523880" cy="433440"/>
          </a:xfrm>
          <a:custGeom>
            <a:avLst/>
            <a:gdLst>
              <a:gd name="textAreaLeft" fmla="*/ 28080 w 1523880"/>
              <a:gd name="textAreaRight" fmla="*/ 1495800 w 15238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5896" h="21600">
                <a:moveTo>
                  <a:pt x="0" y="0"/>
                </a:moveTo>
                <a:lnTo>
                  <a:pt x="75896" y="0"/>
                </a:lnTo>
                <a:lnTo>
                  <a:pt x="75896" y="21600"/>
                </a:lnTo>
                <a:lnTo>
                  <a:pt x="0" y="21600"/>
                </a:lnTo>
                <a:close/>
              </a:path>
              <a:path fill="lightenLess" w="75896" h="21600">
                <a:moveTo>
                  <a:pt x="0" y="0"/>
                </a:moveTo>
                <a:lnTo>
                  <a:pt x="75896" y="0"/>
                </a:lnTo>
                <a:lnTo>
                  <a:pt x="74496" y="1400"/>
                </a:lnTo>
                <a:lnTo>
                  <a:pt x="1400" y="1400"/>
                </a:lnTo>
                <a:close/>
              </a:path>
              <a:path fill="darken" w="75896" h="21600">
                <a:moveTo>
                  <a:pt x="75896" y="0"/>
                </a:moveTo>
                <a:lnTo>
                  <a:pt x="75896" y="21600"/>
                </a:lnTo>
                <a:lnTo>
                  <a:pt x="74496" y="20200"/>
                </a:lnTo>
                <a:lnTo>
                  <a:pt x="74496" y="1400"/>
                </a:lnTo>
                <a:close/>
              </a:path>
              <a:path fill="darkenLess" w="75896" h="21600">
                <a:moveTo>
                  <a:pt x="75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496" y="20200"/>
                </a:lnTo>
                <a:close/>
              </a:path>
              <a:path fill="lighten" w="75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896" h="21600">
                <a:moveTo>
                  <a:pt x="30941" y="3794"/>
                </a:moveTo>
                <a:lnTo>
                  <a:pt x="44954" y="10800"/>
                </a:lnTo>
                <a:lnTo>
                  <a:pt x="3094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019920"/>
            <a:ext cx="1447920" cy="585720"/>
          </a:xfrm>
          <a:custGeom>
            <a:avLst/>
            <a:gdLst>
              <a:gd name="textAreaLeft" fmla="*/ 37800 w 1447920"/>
              <a:gd name="textAreaRight" fmla="*/ 1410120 w 1447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53376" h="21600">
                <a:moveTo>
                  <a:pt x="0" y="0"/>
                </a:moveTo>
                <a:lnTo>
                  <a:pt x="53376" y="0"/>
                </a:lnTo>
                <a:lnTo>
                  <a:pt x="53376" y="21600"/>
                </a:lnTo>
                <a:lnTo>
                  <a:pt x="0" y="21600"/>
                </a:lnTo>
                <a:close/>
              </a:path>
              <a:path fill="lightenLess" w="53376" h="21600">
                <a:moveTo>
                  <a:pt x="0" y="0"/>
                </a:moveTo>
                <a:lnTo>
                  <a:pt x="53376" y="0"/>
                </a:lnTo>
                <a:lnTo>
                  <a:pt x="51976" y="1400"/>
                </a:lnTo>
                <a:lnTo>
                  <a:pt x="1400" y="1400"/>
                </a:lnTo>
                <a:close/>
              </a:path>
              <a:path fill="darken" w="53376" h="21600">
                <a:moveTo>
                  <a:pt x="53376" y="0"/>
                </a:moveTo>
                <a:lnTo>
                  <a:pt x="53376" y="21600"/>
                </a:lnTo>
                <a:lnTo>
                  <a:pt x="51976" y="20200"/>
                </a:lnTo>
                <a:lnTo>
                  <a:pt x="51976" y="1400"/>
                </a:lnTo>
                <a:close/>
              </a:path>
              <a:path fill="darkenLess" w="53376" h="21600">
                <a:moveTo>
                  <a:pt x="53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976" y="20200"/>
                </a:lnTo>
                <a:close/>
              </a:path>
              <a:path fill="lighten" w="53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376" h="21600">
                <a:moveTo>
                  <a:pt x="19682" y="10800"/>
                </a:moveTo>
                <a:lnTo>
                  <a:pt x="33695" y="3794"/>
                </a:lnTo>
                <a:lnTo>
                  <a:pt x="3369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438280" y="685800"/>
            <a:ext cx="381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L'écol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133720"/>
            <a:ext cx="526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s les jours, nous somme obl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 ’aller a l ’école c ’est donc ici que n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ons la majorité de notre te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3192480" cy="3749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371600" y="4038480"/>
            <a:ext cx="3314880" cy="16956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467480" y="304920"/>
            <a:ext cx="1424160" cy="738000"/>
          </a:xfrm>
          <a:custGeom>
            <a:avLst/>
            <a:gdLst>
              <a:gd name="textAreaLeft" fmla="*/ 47520 w 1424160"/>
              <a:gd name="textAreaRight" fmla="*/ 1376640 w 142416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41673" h="21600">
                <a:moveTo>
                  <a:pt x="0" y="0"/>
                </a:moveTo>
                <a:lnTo>
                  <a:pt x="41673" y="0"/>
                </a:lnTo>
                <a:lnTo>
                  <a:pt x="41673" y="21600"/>
                </a:lnTo>
                <a:lnTo>
                  <a:pt x="0" y="21600"/>
                </a:lnTo>
                <a:close/>
              </a:path>
              <a:path fill="lightenLess" w="41673" h="21600">
                <a:moveTo>
                  <a:pt x="0" y="0"/>
                </a:moveTo>
                <a:lnTo>
                  <a:pt x="41673" y="0"/>
                </a:lnTo>
                <a:lnTo>
                  <a:pt x="40273" y="1400"/>
                </a:lnTo>
                <a:lnTo>
                  <a:pt x="1400" y="1400"/>
                </a:lnTo>
                <a:close/>
              </a:path>
              <a:path fill="darken" w="41673" h="21600">
                <a:moveTo>
                  <a:pt x="41673" y="0"/>
                </a:moveTo>
                <a:lnTo>
                  <a:pt x="41673" y="21600"/>
                </a:lnTo>
                <a:lnTo>
                  <a:pt x="40273" y="20200"/>
                </a:lnTo>
                <a:lnTo>
                  <a:pt x="40273" y="1400"/>
                </a:lnTo>
                <a:close/>
              </a:path>
              <a:path fill="darkenLess" w="41673" h="21600">
                <a:moveTo>
                  <a:pt x="41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73" y="20200"/>
                </a:lnTo>
                <a:close/>
              </a:path>
              <a:path fill="lighten" w="41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73" h="21600">
                <a:moveTo>
                  <a:pt x="13830" y="3794"/>
                </a:moveTo>
                <a:lnTo>
                  <a:pt x="27843" y="10800"/>
                </a:lnTo>
                <a:lnTo>
                  <a:pt x="13830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228600" y="5943600"/>
            <a:ext cx="1295280" cy="738360"/>
          </a:xfrm>
          <a:custGeom>
            <a:avLst/>
            <a:gdLst>
              <a:gd name="textAreaLeft" fmla="*/ 47520 w 1295280"/>
              <a:gd name="textAreaRight" fmla="*/ 1247760 w 129528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37884" h="21600">
                <a:moveTo>
                  <a:pt x="0" y="0"/>
                </a:moveTo>
                <a:lnTo>
                  <a:pt x="37884" y="0"/>
                </a:lnTo>
                <a:lnTo>
                  <a:pt x="37884" y="21600"/>
                </a:lnTo>
                <a:lnTo>
                  <a:pt x="0" y="21600"/>
                </a:lnTo>
                <a:close/>
              </a:path>
              <a:path fill="lightenLess" w="37884" h="21600">
                <a:moveTo>
                  <a:pt x="0" y="0"/>
                </a:moveTo>
                <a:lnTo>
                  <a:pt x="37884" y="0"/>
                </a:lnTo>
                <a:lnTo>
                  <a:pt x="36484" y="1400"/>
                </a:lnTo>
                <a:lnTo>
                  <a:pt x="1400" y="1400"/>
                </a:lnTo>
                <a:close/>
              </a:path>
              <a:path fill="darken" w="37884" h="21600">
                <a:moveTo>
                  <a:pt x="37884" y="0"/>
                </a:moveTo>
                <a:lnTo>
                  <a:pt x="37884" y="21600"/>
                </a:lnTo>
                <a:lnTo>
                  <a:pt x="36484" y="20200"/>
                </a:lnTo>
                <a:lnTo>
                  <a:pt x="36484" y="1400"/>
                </a:lnTo>
                <a:close/>
              </a:path>
              <a:path fill="darkenLess" w="37884" h="21600">
                <a:moveTo>
                  <a:pt x="37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4" y="20200"/>
                </a:lnTo>
                <a:close/>
              </a:path>
              <a:path fill="lighten" w="37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4" h="21600">
                <a:moveTo>
                  <a:pt x="11936" y="10800"/>
                </a:moveTo>
                <a:lnTo>
                  <a:pt x="25949" y="3794"/>
                </a:lnTo>
                <a:lnTo>
                  <a:pt x="25949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48120" y="762120"/>
            <a:ext cx="2305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 tenni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220968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été, j ’aime beaucoup pratiquer le tennis. Je pratique au moins deux heures par sema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7080" y="1946160"/>
            <a:ext cx="3657600" cy="323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17760" y="4191120"/>
            <a:ext cx="277164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467480" y="304920"/>
            <a:ext cx="1347840" cy="457200"/>
          </a:xfrm>
          <a:custGeom>
            <a:avLst/>
            <a:gdLst>
              <a:gd name="textAreaLeft" fmla="*/ 29520 w 1347840"/>
              <a:gd name="textAreaRight" fmla="*/ 1318320 w 1347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3644" h="21600">
                <a:moveTo>
                  <a:pt x="0" y="0"/>
                </a:moveTo>
                <a:lnTo>
                  <a:pt x="63644" y="0"/>
                </a:lnTo>
                <a:lnTo>
                  <a:pt x="63644" y="21600"/>
                </a:lnTo>
                <a:lnTo>
                  <a:pt x="0" y="21600"/>
                </a:lnTo>
                <a:close/>
              </a:path>
              <a:path fill="lightenLess" w="63644" h="21600">
                <a:moveTo>
                  <a:pt x="0" y="0"/>
                </a:moveTo>
                <a:lnTo>
                  <a:pt x="63644" y="0"/>
                </a:lnTo>
                <a:lnTo>
                  <a:pt x="62244" y="1400"/>
                </a:lnTo>
                <a:lnTo>
                  <a:pt x="1400" y="1400"/>
                </a:lnTo>
                <a:close/>
              </a:path>
              <a:path fill="darken" w="63644" h="21600">
                <a:moveTo>
                  <a:pt x="63644" y="0"/>
                </a:moveTo>
                <a:lnTo>
                  <a:pt x="63644" y="21600"/>
                </a:lnTo>
                <a:lnTo>
                  <a:pt x="62244" y="20200"/>
                </a:lnTo>
                <a:lnTo>
                  <a:pt x="62244" y="1400"/>
                </a:lnTo>
                <a:close/>
              </a:path>
              <a:path fill="darkenLess" w="63644" h="21600">
                <a:moveTo>
                  <a:pt x="63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244" y="20200"/>
                </a:lnTo>
                <a:close/>
              </a:path>
              <a:path fill="lighten" w="63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3644" h="21600">
                <a:moveTo>
                  <a:pt x="24816" y="3794"/>
                </a:moveTo>
                <a:lnTo>
                  <a:pt x="38829" y="10800"/>
                </a:lnTo>
                <a:lnTo>
                  <a:pt x="2481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228600" y="594360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0" h="21600">
                <a:moveTo>
                  <a:pt x="10004" y="10800"/>
                </a:moveTo>
                <a:lnTo>
                  <a:pt x="24016" y="3794"/>
                </a:lnTo>
                <a:lnTo>
                  <a:pt x="24016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27400" y="1793880"/>
            <a:ext cx="537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 loisir, jaime bien 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der afin de me ramasser un peu de s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57680" y="2724120"/>
            <a:ext cx="1628640" cy="1409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172200" y="3657600"/>
            <a:ext cx="2247840" cy="247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743200" y="762120"/>
            <a:ext cx="28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ard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010280" y="457200"/>
            <a:ext cx="1729080" cy="609480"/>
          </a:xfrm>
          <a:custGeom>
            <a:avLst/>
            <a:gdLst>
              <a:gd name="textAreaLeft" fmla="*/ 39240 w 1729080"/>
              <a:gd name="textAreaRight" fmla="*/ 1689840 w 1729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1255" h="21600">
                <a:moveTo>
                  <a:pt x="0" y="0"/>
                </a:moveTo>
                <a:lnTo>
                  <a:pt x="61255" y="0"/>
                </a:lnTo>
                <a:lnTo>
                  <a:pt x="61255" y="21600"/>
                </a:lnTo>
                <a:lnTo>
                  <a:pt x="0" y="21600"/>
                </a:lnTo>
                <a:close/>
              </a:path>
              <a:path fill="lightenLess" w="61255" h="21600">
                <a:moveTo>
                  <a:pt x="0" y="0"/>
                </a:moveTo>
                <a:lnTo>
                  <a:pt x="61255" y="0"/>
                </a:lnTo>
                <a:lnTo>
                  <a:pt x="59855" y="1400"/>
                </a:lnTo>
                <a:lnTo>
                  <a:pt x="1400" y="1400"/>
                </a:lnTo>
                <a:close/>
              </a:path>
              <a:path fill="darken" w="61255" h="21600">
                <a:moveTo>
                  <a:pt x="61255" y="0"/>
                </a:moveTo>
                <a:lnTo>
                  <a:pt x="61255" y="21600"/>
                </a:lnTo>
                <a:lnTo>
                  <a:pt x="59855" y="20200"/>
                </a:lnTo>
                <a:lnTo>
                  <a:pt x="59855" y="1400"/>
                </a:lnTo>
                <a:close/>
              </a:path>
              <a:path fill="darkenLess" w="61255" h="21600">
                <a:moveTo>
                  <a:pt x="612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55" y="20200"/>
                </a:lnTo>
                <a:close/>
              </a:path>
              <a:path fill="lighten" w="612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55" h="21600">
                <a:moveTo>
                  <a:pt x="23621" y="3794"/>
                </a:moveTo>
                <a:lnTo>
                  <a:pt x="37634" y="10800"/>
                </a:lnTo>
                <a:lnTo>
                  <a:pt x="2362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380880" y="5867280"/>
            <a:ext cx="1524240" cy="738360"/>
          </a:xfrm>
          <a:custGeom>
            <a:avLst/>
            <a:gdLst>
              <a:gd name="textAreaLeft" fmla="*/ 47520 w 1524240"/>
              <a:gd name="textAreaRight" fmla="*/ 1476360 w 152424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44579" h="21600">
                <a:moveTo>
                  <a:pt x="0" y="0"/>
                </a:moveTo>
                <a:lnTo>
                  <a:pt x="44579" y="0"/>
                </a:lnTo>
                <a:lnTo>
                  <a:pt x="44579" y="21600"/>
                </a:lnTo>
                <a:lnTo>
                  <a:pt x="0" y="21600"/>
                </a:lnTo>
                <a:close/>
              </a:path>
              <a:path fill="lightenLess" w="44579" h="21600">
                <a:moveTo>
                  <a:pt x="0" y="0"/>
                </a:moveTo>
                <a:lnTo>
                  <a:pt x="44579" y="0"/>
                </a:lnTo>
                <a:lnTo>
                  <a:pt x="43179" y="1400"/>
                </a:lnTo>
                <a:lnTo>
                  <a:pt x="1400" y="1400"/>
                </a:lnTo>
                <a:close/>
              </a:path>
              <a:path fill="darken" w="44579" h="21600">
                <a:moveTo>
                  <a:pt x="44579" y="0"/>
                </a:moveTo>
                <a:lnTo>
                  <a:pt x="44579" y="21600"/>
                </a:lnTo>
                <a:lnTo>
                  <a:pt x="43179" y="20200"/>
                </a:lnTo>
                <a:lnTo>
                  <a:pt x="43179" y="1400"/>
                </a:lnTo>
                <a:close/>
              </a:path>
              <a:path fill="darkenLess" w="44579" h="21600">
                <a:moveTo>
                  <a:pt x="445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79" y="20200"/>
                </a:lnTo>
                <a:close/>
              </a:path>
              <a:path fill="lighten" w="445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79" h="21600">
                <a:moveTo>
                  <a:pt x="15283" y="3794"/>
                </a:moveTo>
                <a:lnTo>
                  <a:pt x="29296" y="10800"/>
                </a:lnTo>
                <a:lnTo>
                  <a:pt x="15283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9880" y="152280"/>
            <a:ext cx="2590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n chu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286000"/>
            <a:ext cx="5213160" cy="119124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des choses que j ’a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mieux, est d ’être avec mon amoure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333600" cy="409572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391520" y="228600"/>
            <a:ext cx="1347840" cy="685800"/>
          </a:xfrm>
          <a:custGeom>
            <a:avLst/>
            <a:gdLst>
              <a:gd name="textAreaLeft" fmla="*/ 44280 w 1347840"/>
              <a:gd name="textAreaRight" fmla="*/ 1303560 w 1347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2441" h="21600">
                <a:moveTo>
                  <a:pt x="0" y="0"/>
                </a:moveTo>
                <a:lnTo>
                  <a:pt x="42441" y="0"/>
                </a:lnTo>
                <a:lnTo>
                  <a:pt x="42441" y="21600"/>
                </a:lnTo>
                <a:lnTo>
                  <a:pt x="0" y="21600"/>
                </a:lnTo>
                <a:close/>
              </a:path>
              <a:path fill="lightenLess" w="42441" h="21600">
                <a:moveTo>
                  <a:pt x="0" y="0"/>
                </a:moveTo>
                <a:lnTo>
                  <a:pt x="42441" y="0"/>
                </a:lnTo>
                <a:lnTo>
                  <a:pt x="41041" y="1400"/>
                </a:lnTo>
                <a:lnTo>
                  <a:pt x="1400" y="1400"/>
                </a:lnTo>
                <a:close/>
              </a:path>
              <a:path fill="darken" w="42441" h="21600">
                <a:moveTo>
                  <a:pt x="42441" y="0"/>
                </a:moveTo>
                <a:lnTo>
                  <a:pt x="42441" y="21600"/>
                </a:lnTo>
                <a:lnTo>
                  <a:pt x="41041" y="20200"/>
                </a:lnTo>
                <a:lnTo>
                  <a:pt x="41041" y="1400"/>
                </a:lnTo>
                <a:close/>
              </a:path>
              <a:path fill="darkenLess" w="42441" h="21600">
                <a:moveTo>
                  <a:pt x="4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41" y="20200"/>
                </a:lnTo>
                <a:close/>
              </a:path>
              <a:path fill="lighten" w="4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41" h="21600">
                <a:moveTo>
                  <a:pt x="14214" y="3794"/>
                </a:moveTo>
                <a:lnTo>
                  <a:pt x="28227" y="10800"/>
                </a:lnTo>
                <a:lnTo>
                  <a:pt x="1421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304920" y="60199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65" h="21600">
                <a:moveTo>
                  <a:pt x="17676" y="10800"/>
                </a:moveTo>
                <a:lnTo>
                  <a:pt x="31689" y="3794"/>
                </a:lnTo>
                <a:lnTo>
                  <a:pt x="31689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05320" y="533520"/>
            <a:ext cx="175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677880" y="1981080"/>
            <a:ext cx="41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fois de temps en temp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 ’aime bien faire une petite fê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c mes am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824360" cy="44956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7315200" y="228600"/>
            <a:ext cx="1424160" cy="685800"/>
          </a:xfrm>
          <a:custGeom>
            <a:avLst/>
            <a:gdLst>
              <a:gd name="textAreaLeft" fmla="*/ 44280 w 1424160"/>
              <a:gd name="textAreaRight" fmla="*/ 1379880 w 1424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4843" h="21600">
                <a:moveTo>
                  <a:pt x="0" y="0"/>
                </a:moveTo>
                <a:lnTo>
                  <a:pt x="44843" y="0"/>
                </a:lnTo>
                <a:lnTo>
                  <a:pt x="44843" y="21600"/>
                </a:lnTo>
                <a:lnTo>
                  <a:pt x="0" y="21600"/>
                </a:lnTo>
                <a:close/>
              </a:path>
              <a:path fill="lightenLess" w="44843" h="21600">
                <a:moveTo>
                  <a:pt x="0" y="0"/>
                </a:moveTo>
                <a:lnTo>
                  <a:pt x="44843" y="0"/>
                </a:lnTo>
                <a:lnTo>
                  <a:pt x="43443" y="1400"/>
                </a:lnTo>
                <a:lnTo>
                  <a:pt x="1400" y="1400"/>
                </a:lnTo>
                <a:close/>
              </a:path>
              <a:path fill="darken" w="44843" h="21600">
                <a:moveTo>
                  <a:pt x="44843" y="0"/>
                </a:moveTo>
                <a:lnTo>
                  <a:pt x="44843" y="21600"/>
                </a:lnTo>
                <a:lnTo>
                  <a:pt x="43443" y="20200"/>
                </a:lnTo>
                <a:lnTo>
                  <a:pt x="43443" y="1400"/>
                </a:lnTo>
                <a:close/>
              </a:path>
              <a:path fill="darkenLess" w="44843" h="21600">
                <a:moveTo>
                  <a:pt x="4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3" y="20200"/>
                </a:lnTo>
                <a:close/>
              </a:path>
              <a:path fill="lighten" w="4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43" h="21600">
                <a:moveTo>
                  <a:pt x="15415" y="3794"/>
                </a:moveTo>
                <a:lnTo>
                  <a:pt x="29428" y="10800"/>
                </a:lnTo>
                <a:lnTo>
                  <a:pt x="1541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228600" y="5943600"/>
            <a:ext cx="1042920" cy="53352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10" h="21600">
                <a:moveTo>
                  <a:pt x="0" y="0"/>
                </a:moveTo>
                <a:lnTo>
                  <a:pt x="42210" y="0"/>
                </a:lnTo>
                <a:lnTo>
                  <a:pt x="42210" y="21600"/>
                </a:lnTo>
                <a:lnTo>
                  <a:pt x="0" y="21600"/>
                </a:lnTo>
                <a:close/>
              </a:path>
              <a:path fill="lightenLess" w="42210" h="21600">
                <a:moveTo>
                  <a:pt x="0" y="0"/>
                </a:moveTo>
                <a:lnTo>
                  <a:pt x="42210" y="0"/>
                </a:lnTo>
                <a:lnTo>
                  <a:pt x="40810" y="1400"/>
                </a:lnTo>
                <a:lnTo>
                  <a:pt x="1400" y="1400"/>
                </a:lnTo>
                <a:close/>
              </a:path>
              <a:path fill="darken" w="42210" h="21600">
                <a:moveTo>
                  <a:pt x="42210" y="0"/>
                </a:moveTo>
                <a:lnTo>
                  <a:pt x="42210" y="21600"/>
                </a:lnTo>
                <a:lnTo>
                  <a:pt x="40810" y="20200"/>
                </a:lnTo>
                <a:lnTo>
                  <a:pt x="40810" y="1400"/>
                </a:lnTo>
                <a:close/>
              </a:path>
              <a:path fill="darkenLess" w="42210" h="21600">
                <a:moveTo>
                  <a:pt x="42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10" y="20200"/>
                </a:lnTo>
                <a:close/>
              </a:path>
              <a:path fill="lighten" w="42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10" h="21600">
                <a:moveTo>
                  <a:pt x="14098" y="10800"/>
                </a:moveTo>
                <a:lnTo>
                  <a:pt x="28111" y="3794"/>
                </a:lnTo>
                <a:lnTo>
                  <a:pt x="28111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581280" y="380880"/>
            <a:ext cx="2590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es ami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480" y="2209680"/>
            <a:ext cx="2610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ynthia Tardif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352680" y="3352680"/>
            <a:ext cx="43815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ébastien Anger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52880" y="2362320"/>
            <a:ext cx="2124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Julie Pinar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4920" y="4724280"/>
            <a:ext cx="3800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ennyfer Duchesne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67080" y="5562720"/>
            <a:ext cx="466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il-Philippe Morai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7467480" y="152280"/>
            <a:ext cx="1347840" cy="533520"/>
          </a:xfrm>
          <a:custGeom>
            <a:avLst/>
            <a:gdLst>
              <a:gd name="textAreaLeft" fmla="*/ 34560 w 1347840"/>
              <a:gd name="textAreaRight" fmla="*/ 1313280 w 1347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4546" h="21600">
                <a:moveTo>
                  <a:pt x="0" y="0"/>
                </a:moveTo>
                <a:lnTo>
                  <a:pt x="54546" y="0"/>
                </a:lnTo>
                <a:lnTo>
                  <a:pt x="54546" y="21600"/>
                </a:lnTo>
                <a:lnTo>
                  <a:pt x="0" y="21600"/>
                </a:lnTo>
                <a:close/>
              </a:path>
              <a:path fill="lightenLess" w="54546" h="21600">
                <a:moveTo>
                  <a:pt x="0" y="0"/>
                </a:moveTo>
                <a:lnTo>
                  <a:pt x="54546" y="0"/>
                </a:lnTo>
                <a:lnTo>
                  <a:pt x="53146" y="1400"/>
                </a:lnTo>
                <a:lnTo>
                  <a:pt x="1400" y="1400"/>
                </a:lnTo>
                <a:close/>
              </a:path>
              <a:path fill="darken" w="54546" h="21600">
                <a:moveTo>
                  <a:pt x="54546" y="0"/>
                </a:moveTo>
                <a:lnTo>
                  <a:pt x="54546" y="21600"/>
                </a:lnTo>
                <a:lnTo>
                  <a:pt x="53146" y="20200"/>
                </a:lnTo>
                <a:lnTo>
                  <a:pt x="53146" y="1400"/>
                </a:lnTo>
                <a:close/>
              </a:path>
              <a:path fill="darkenLess" w="54546" h="21600">
                <a:moveTo>
                  <a:pt x="54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146" y="20200"/>
                </a:lnTo>
                <a:close/>
              </a:path>
              <a:path fill="lighten" w="54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546" h="21600">
                <a:moveTo>
                  <a:pt x="20267" y="3794"/>
                </a:moveTo>
                <a:lnTo>
                  <a:pt x="34280" y="10800"/>
                </a:lnTo>
                <a:lnTo>
                  <a:pt x="20267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304920" y="59436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0" h="21600">
                <a:moveTo>
                  <a:pt x="21774" y="10800"/>
                </a:moveTo>
                <a:lnTo>
                  <a:pt x="35787" y="3794"/>
                </a:lnTo>
                <a:lnTo>
                  <a:pt x="35787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048120" y="45720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e Ski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73680" y="2590920"/>
            <a:ext cx="404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hiver j ’aime bien aller fai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 ski avec mes amies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3838680" cy="45622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467480" y="304920"/>
            <a:ext cx="1347840" cy="685800"/>
          </a:xfrm>
          <a:custGeom>
            <a:avLst/>
            <a:gdLst>
              <a:gd name="textAreaLeft" fmla="*/ 44280 w 1347840"/>
              <a:gd name="textAreaRight" fmla="*/ 1303560 w 1347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2441" h="21600">
                <a:moveTo>
                  <a:pt x="0" y="0"/>
                </a:moveTo>
                <a:lnTo>
                  <a:pt x="42441" y="0"/>
                </a:lnTo>
                <a:lnTo>
                  <a:pt x="42441" y="21600"/>
                </a:lnTo>
                <a:lnTo>
                  <a:pt x="0" y="21600"/>
                </a:lnTo>
                <a:close/>
              </a:path>
              <a:path fill="lightenLess" w="42441" h="21600">
                <a:moveTo>
                  <a:pt x="0" y="0"/>
                </a:moveTo>
                <a:lnTo>
                  <a:pt x="42441" y="0"/>
                </a:lnTo>
                <a:lnTo>
                  <a:pt x="41041" y="1400"/>
                </a:lnTo>
                <a:lnTo>
                  <a:pt x="1400" y="1400"/>
                </a:lnTo>
                <a:close/>
              </a:path>
              <a:path fill="darken" w="42441" h="21600">
                <a:moveTo>
                  <a:pt x="42441" y="0"/>
                </a:moveTo>
                <a:lnTo>
                  <a:pt x="42441" y="21600"/>
                </a:lnTo>
                <a:lnTo>
                  <a:pt x="41041" y="20200"/>
                </a:lnTo>
                <a:lnTo>
                  <a:pt x="41041" y="1400"/>
                </a:lnTo>
                <a:close/>
              </a:path>
              <a:path fill="darkenLess" w="42441" h="21600">
                <a:moveTo>
                  <a:pt x="4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41" y="20200"/>
                </a:lnTo>
                <a:close/>
              </a:path>
              <a:path fill="lighten" w="4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41" h="21600">
                <a:moveTo>
                  <a:pt x="14214" y="3794"/>
                </a:moveTo>
                <a:lnTo>
                  <a:pt x="28227" y="10800"/>
                </a:lnTo>
                <a:lnTo>
                  <a:pt x="1421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228600" y="5791320"/>
            <a:ext cx="1219320" cy="585720"/>
          </a:xfrm>
          <a:custGeom>
            <a:avLst/>
            <a:gdLst>
              <a:gd name="textAreaLeft" fmla="*/ 37800 w 1219320"/>
              <a:gd name="textAreaRight" fmla="*/ 1181520 w 12193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44951" h="21600">
                <a:moveTo>
                  <a:pt x="0" y="0"/>
                </a:moveTo>
                <a:lnTo>
                  <a:pt x="44951" y="0"/>
                </a:lnTo>
                <a:lnTo>
                  <a:pt x="44951" y="21600"/>
                </a:lnTo>
                <a:lnTo>
                  <a:pt x="0" y="21600"/>
                </a:lnTo>
                <a:close/>
              </a:path>
              <a:path fill="lightenLess" w="44951" h="21600">
                <a:moveTo>
                  <a:pt x="0" y="0"/>
                </a:moveTo>
                <a:lnTo>
                  <a:pt x="44951" y="0"/>
                </a:lnTo>
                <a:lnTo>
                  <a:pt x="43551" y="1400"/>
                </a:lnTo>
                <a:lnTo>
                  <a:pt x="1400" y="1400"/>
                </a:lnTo>
                <a:close/>
              </a:path>
              <a:path fill="darken" w="44951" h="21600">
                <a:moveTo>
                  <a:pt x="44951" y="0"/>
                </a:moveTo>
                <a:lnTo>
                  <a:pt x="44951" y="21600"/>
                </a:lnTo>
                <a:lnTo>
                  <a:pt x="43551" y="20200"/>
                </a:lnTo>
                <a:lnTo>
                  <a:pt x="43551" y="1400"/>
                </a:lnTo>
                <a:close/>
              </a:path>
              <a:path fill="darkenLess" w="44951" h="21600">
                <a:moveTo>
                  <a:pt x="4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51" y="20200"/>
                </a:lnTo>
                <a:close/>
              </a:path>
              <a:path fill="lighten" w="4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951" h="21600">
                <a:moveTo>
                  <a:pt x="15469" y="10800"/>
                </a:moveTo>
                <a:lnTo>
                  <a:pt x="29482" y="3794"/>
                </a:lnTo>
                <a:lnTo>
                  <a:pt x="29482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4:06:37Z</dcterms:created>
  <dc:creator>drac</dc:creator>
  <dc:description/>
  <dc:language>en-US</dc:language>
  <cp:lastModifiedBy>drac</cp:lastModifiedBy>
  <dcterms:modified xsi:type="dcterms:W3CDTF">2004-01-26T13:38:49Z</dcterms:modified>
  <cp:revision>7</cp:revision>
  <dc:subject/>
  <dc:title>Aucun titre de diapositive</dc:title>
</cp:coreProperties>
</file>