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88E-DED8-4E46-BE16-2EF858EA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E61-68C2-4C57-91B8-A0D2613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1D9-B23A-479F-9C92-13586787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4183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D2A-3D86-4DDC-8970-559D175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4C6-C9FE-4628-8300-0C886FE5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217-0A5B-4963-94AB-8290B26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B6B-1FC3-45BC-B305-732D8226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8CE-7CC9-4A51-922E-810D0340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108-2151-425E-8192-14B5026D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568-3B32-4A0F-A3FF-FC260AD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4183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01DA-41C0-4591-B5C1-579D055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83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6C2-D417-488F-9F9B-16A168B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0" y="0"/>
          <a:ext cx="914400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5320" y="61722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05720" y="6172200"/>
            <a:ext cx="2133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B682-70BA-4074-B7F2-03765FC2D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477120" y="22860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C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eocities.com/tlstrekkie/portfolio/webgraphics/slide1.html" TargetMode="External"/><Relationship Id="rId2" Type="http://schemas.openxmlformats.org/officeDocument/2006/relationships/hyperlink" Target="http://www.geocities.com/tlstrekkie/portfolio/webgraphics/slide6.html" TargetMode="External"/><Relationship Id="rId3" Type="http://schemas.openxmlformats.org/officeDocument/2006/relationships/hyperlink" Target="http://www.geocities.com/tlstrekkie/portfolio/webgraphics/slide7.html" TargetMode="External"/><Relationship Id="rId4" Type="http://schemas.openxmlformats.org/officeDocument/2006/relationships/hyperlink" Target="http://www.geocities.com/tlstrekkie/portfolio/webgraphics/slide12.html" TargetMode="External"/><Relationship Id="rId5" Type="http://schemas.openxmlformats.org/officeDocument/2006/relationships/hyperlink" Target="http://www.geocities.com/tlstrekkie/portfolio/webgraphics/slide10.html" TargetMode="External"/><Relationship Id="rId6" Type="http://schemas.openxmlformats.org/officeDocument/2006/relationships/hyperlink" Target="http://www.geocities.com/tlstrekkie/portfolio/webgraphics/slide16.html" TargetMode="External"/><Relationship Id="rId7" Type="http://schemas.openxmlformats.org/officeDocument/2006/relationships/hyperlink" Target="http://www.geocities.com/tlstrekkie/portfolio/webgraphics/slide11.html" TargetMode="External"/><Relationship Id="rId8" Type="http://schemas.openxmlformats.org/officeDocument/2006/relationships/hyperlink" Target="http://www.geocities.com/tlstrekkie/portfolio/webgraphics/slide17.html" TargetMode="External"/><Relationship Id="rId9" Type="http://schemas.openxmlformats.org/officeDocument/2006/relationships/hyperlink" Target="http://www.geocities.com/tlstrekkie/portfolio/webgraphics/slide19.html" TargetMode="External"/><Relationship Id="rId10" Type="http://schemas.openxmlformats.org/officeDocument/2006/relationships/hyperlink" Target="http://www.geocities.com/tlstrekkie/portfolio/webgraphics/slide21.html" TargetMode="External"/><Relationship Id="rId11" Type="http://schemas.openxmlformats.org/officeDocument/2006/relationships/hyperlink" Target="http://www.geocities.com/tlstrekkie/portfolio/webgraphics/slide8.html" TargetMode="External"/><Relationship Id="rId12" Type="http://schemas.openxmlformats.org/officeDocument/2006/relationships/hyperlink" Target="file:///wkg3_Ch9_upper.swf" TargetMode="External"/><Relationship Id="rId13" Type="http://schemas.openxmlformats.org/officeDocument/2006/relationships/hyperlink" Target="file:///wkg_ch10_lower.swf" TargetMode="External"/><Relationship Id="rId14" Type="http://schemas.openxmlformats.org/officeDocument/2006/relationships/hyperlink" Target="file:///quiz-swf-live.swf" TargetMode="External"/><Relationship Id="rId15" Type="http://schemas.openxmlformats.org/officeDocument/2006/relationships/hyperlink" Target="http://www.tamischultz.com/gaming/ts_12-10-scoring2_jeopardy.html" TargetMode="External"/><Relationship Id="rId16" Type="http://schemas.openxmlformats.org/officeDocument/2006/relationships/hyperlink" Target="http://www.tamischultz.com/gaming/ts_12-10-scoring2_jeopardy.html" TargetMode="External"/><Relationship Id="rId17" Type="http://schemas.openxmlformats.org/officeDocument/2006/relationships/hyperlink" Target="http://zone.msn.com/en/jeopardy/default" TargetMode="External"/><Relationship Id="rId18" Type="http://schemas.openxmlformats.org/officeDocument/2006/relationships/hyperlink" Target="http://zone.msn.com/en/jeopardy/default" TargetMode="External"/><Relationship Id="rId19" Type="http://schemas.openxmlformats.org/officeDocument/2006/relationships/hyperlink" Target="http://zone.msn.com/en/jeopardy/default" TargetMode="External"/><Relationship Id="rId20" Type="http://schemas.openxmlformats.org/officeDocument/2006/relationships/hyperlink" Target="http://zone.msn.com/en/jeopardy/default" TargetMode="External"/><Relationship Id="rId21" Type="http://schemas.openxmlformats.org/officeDocument/2006/relationships/hyperlink" Target="http://education.jlab.org/million/" TargetMode="External"/><Relationship Id="rId22" Type="http://schemas.openxmlformats.org/officeDocument/2006/relationships/hyperlink" Target="http://education.jlab.org/million/" TargetMode="External"/><Relationship Id="rId23" Type="http://schemas.openxmlformats.org/officeDocument/2006/relationships/hyperlink" Target="http://www.millionairetv.com/" TargetMode="External"/><Relationship Id="rId24" Type="http://schemas.openxmlformats.org/officeDocument/2006/relationships/hyperlink" Target="http://www.millionairetv.com/" TargetMode="External"/><Relationship Id="rId25" Type="http://schemas.openxmlformats.org/officeDocument/2006/relationships/hyperlink" Target="http://www.millionairetv.com/" TargetMode="External"/><Relationship Id="rId26" Type="http://schemas.openxmlformats.org/officeDocument/2006/relationships/slide" Target="slide37.xml"/><Relationship Id="rId27" Type="http://schemas.openxmlformats.org/officeDocument/2006/relationships/slide" Target="slide5.xml"/><Relationship Id="rId28" Type="http://schemas.openxmlformats.org/officeDocument/2006/relationships/slide" Target=""/><Relationship Id="rId29" Type="http://schemas.openxmlformats.org/officeDocument/2006/relationships/slide" Target="slide53.xml"/><Relationship Id="rId30" Type="http://schemas.openxmlformats.org/officeDocument/2006/relationships/slide" Target=""/><Relationship Id="rId3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ducation.jlab.org/" TargetMode="External"/><Relationship Id="rId3" Type="http://schemas.openxmlformats.org/officeDocument/2006/relationships/hyperlink" Target="http://education.jlab.org/" TargetMode="External"/><Relationship Id="rId4" Type="http://schemas.openxmlformats.org/officeDocument/2006/relationships/hyperlink" Target="http://education.jlab.org/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javascriptkit.com/script/quiz.zip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eocities.com/tlstrekkie/portfolio/webgraphics/slide29.html" TargetMode="External"/><Relationship Id="rId2" Type="http://schemas.openxmlformats.org/officeDocument/2006/relationships/hyperlink" Target="http://www.geocities.com/tlstrekkie/portfolio/webgraphics/slide29.html" TargetMode="External"/><Relationship Id="rId3" Type="http://schemas.openxmlformats.org/officeDocument/2006/relationships/hyperlink" Target="http://www.geocities.com/tlstrekkie/portfolio/webgraphics/slide29.html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tamischultz.com/presentations/ucet_assessment.ppt" TargetMode="External"/><Relationship Id="rId2" Type="http://schemas.openxmlformats.org/officeDocument/2006/relationships/hyperlink" Target="http://www.tamischultz.com/presentations/ucet_assessment.ppt" TargetMode="External"/><Relationship Id="rId3" Type="http://schemas.openxmlformats.org/officeDocument/2006/relationships/hyperlink" Target="http://www.tamischultz.com/presentations/10command-modified.ppt" TargetMode="External"/><Relationship Id="rId4" Type="http://schemas.openxmlformats.org/officeDocument/2006/relationships/hyperlink" Target="http://www.decsoftware.com/" TargetMode="External"/><Relationship Id="rId5" Type="http://schemas.openxmlformats.org/officeDocument/2006/relationships/hyperlink" Target="http://www.decsoftware.com/" TargetMode="External"/><Relationship Id="rId6" Type="http://schemas.openxmlformats.org/officeDocument/2006/relationships/hyperlink" Target="http://www.decsoftware.com/" TargetMode="External"/><Relationship Id="rId7" Type="http://schemas.openxmlformats.org/officeDocument/2006/relationships/hyperlink" Target="http://www.bnhexpertsoft.com/english/products/answer/guide.pdf" TargetMode="External"/><Relationship Id="rId8" Type="http://schemas.openxmlformats.org/officeDocument/2006/relationships/hyperlink" Target="http://www.bnhexpertsoft.com/english/products/answer/guide.pdf" TargetMode="External"/><Relationship Id="rId9" Type="http://schemas.openxmlformats.org/officeDocument/2006/relationships/hyperlink" Target="http://www.teachnet.com/lesson/misc/winnergame022500.html" TargetMode="External"/><Relationship Id="rId10" Type="http://schemas.openxmlformats.org/officeDocument/2006/relationships/hyperlink" Target="http://www.optiontechnologies.com/products/optionpower_powerpoint_games.asp" TargetMode="External"/><Relationship Id="rId11" Type="http://schemas.openxmlformats.org/officeDocument/2006/relationships/hyperlink" Target="http://www2.wgbh.org/MBCWEIS/LTC/ALRI/webgames.html" TargetMode="External"/><Relationship Id="rId12" Type="http://schemas.openxmlformats.org/officeDocument/2006/relationships/hyperlink" Target="http://www.quia.com/" TargetMode="External"/><Relationship Id="rId13" Type="http://schemas.openxmlformats.org/officeDocument/2006/relationships/hyperlink" Target="http://education.jlab.org/million/index.html" TargetMode="External"/><Relationship Id="rId14" Type="http://schemas.openxmlformats.org/officeDocument/2006/relationships/hyperlink" Target="http://education.jlab.org/million/index.html" TargetMode="External"/><Relationship Id="rId1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-learning Creation &amp; Integration:</a:t>
            </a:r>
            <a:br>
              <a:rPr sz="4000"/>
            </a:b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Promises or Pitfalls???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Challenges &amp; Approaches to Finding, Adapting, Creating, and Incorporating Effective On-line Materia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1722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Dr. Tami L. Schultz          Presentation for Central Connecticut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72880"/>
            <a:ext cx="5715000" cy="1098360"/>
            <a:chOff x="380880" y="272880"/>
            <a:chExt cx="5715000" cy="1098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25003" t="22223" r="27085" b="66668"/>
            <a:stretch/>
          </p:blipFill>
          <p:spPr>
            <a:xfrm>
              <a:off x="380880" y="345960"/>
              <a:ext cx="5715000" cy="99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80880" y="1298160"/>
              <a:ext cx="5715000" cy="73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272880"/>
              <a:ext cx="5715000" cy="73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Pitfall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ailure to base learning presented o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job/task analysi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(time intensive but critic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tent must b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ailore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o profe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uch learning i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gnitive processi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—hard to see thinking going 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ailure to accommodat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uman Learning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asy to get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cognitive overlo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sual desig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hunking of cont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structional Team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hould include instructional psychologists, multimedia production, graphic designer, programmers, interface desig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derately high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ropout rat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(35+%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ori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less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chnical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lit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Unique Promis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vides practice with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mmediate,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eractive feedb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lows for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llaboratio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in self-stu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ternet allows for chat rooms/instant messaging (synchronous communica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cussion Boards (asynchronous communica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k an expert” (world-wide access to experti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mulations/animation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re possible to accelerate expert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ranching programs tailored to individual cho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how attitud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lex situ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ultipl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earning sty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85800" y="2286000"/>
            <a:ext cx="7848720" cy="2971800"/>
            <a:chOff x="685800" y="2286000"/>
            <a:chExt cx="7848720" cy="2971800"/>
          </a:xfrm>
        </p:grpSpPr>
        <p:sp>
          <p:nvSpPr>
            <p:cNvPr id="88" name=""/>
            <p:cNvSpPr/>
            <p:nvPr/>
          </p:nvSpPr>
          <p:spPr>
            <a:xfrm>
              <a:off x="838080" y="2416320"/>
              <a:ext cx="7696440" cy="2841480"/>
            </a:xfrm>
            <a:prstGeom prst="rect">
              <a:avLst/>
            </a:prstGeom>
            <a:blipFill rotWithShape="0">
              <a:blip r:embed="rId1">
                <a:alphaModFix amt="65000"/>
              </a:blip>
              <a:srcRect/>
              <a:tile tx="0" ty="0" sx="100000" sy="100000" algn="ctr"/>
            </a:blip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" y="2286000"/>
              <a:ext cx="7696080" cy="2841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7254"/>
                  </a:srgbClr>
                </a:gs>
                <a:gs pos="100000">
                  <a:srgbClr val="bfd4f9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914400" y="2563920"/>
              <a:ext cx="7162920" cy="24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etting Interactive...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ssessment Applications &amp;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echnology Integration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ady… Set… Integrate!: “People Factors”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K…So it’s here to stay. How do we become effective adopters of technology? How do we make it “work” for u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es a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“safe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exist to ask “dumb” ?’s ? (The only “dumb” ? are ones which remain unasked!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hoosing material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remembe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art slow…Are there any “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ady to use, as i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” goodies available? (Us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existi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material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uild on someone else’s work…Scaffolding…are the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emplate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we can use? (Don’t reinvent the wheel if you don’t have to!—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dap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existing material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reat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your ow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igin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materials…but seek other’s help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are some reference sources 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RL’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 for ide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s there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eer suppor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group to show and share successes? (Motiv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’t the lessons b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UN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re there people willing to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entor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new users? (Exper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incentiv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re there…prestige/acknowledgement in the school? Peer rappor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7632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ady… Set… Integrate!</a:t>
            </a:r>
            <a:br>
              <a:rPr sz="4000"/>
            </a:b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“People Factors”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Ideas…Back to Basics</a:t>
            </a:r>
            <a:br>
              <a:rPr sz="3600"/>
            </a:b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“Skill Factors”</a:t>
            </a:r>
            <a:endParaRPr b="0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eep the Foundations of Technology—the 3 C’s—in mind as you search out ideas: Technology boils down to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u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itical Thin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ed some Ideas for Technology integration tasks or in-service workshop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nd out how you currently use technology by filling out the following survey on-line: http://www.improvelearning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pending on your own skills, you may need to come up to speed. For your students: They should eventually have the skills listed in the survey. Any skills you are missing would make good ideas to teach your students as wel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ome Possible Integration Tasks &amp; Workshop Idea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stserv’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wsgrou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eypals/e-pals—communicating with the wor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ultimedia journaling and scrapbook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eating slide show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lectronic art-adding images to Word Art and other Graphic good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ing sound and hide/show and branching interactivity to presen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nding attachm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aking Portable Document Format files (PDF’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cept mapping/webb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verting Inspiration maps to Powerpoint Present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DF’s as a multimedia development environ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setting browser preferen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conducting effective search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organizing and saving your bookmarks/favori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harvesting text, graphics, audio, video fi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Some Possible Integration Tasks &amp; Workshop Idea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citing online resour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criteria for evaluating web si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downloading sites for off-line use (webwhack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net lesson plans-finding them, evaluating th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net lesson plans-creating th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uploading/downloading files—ftp progra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net projects-finding them, creating th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net projects—disseminating them, getting other schools as partn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quests: what are they? Creating them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copyright/plagiaris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eb-creating online tes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eating ga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eating e-portfol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eating rubrics—with tools and from scrat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140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lus… the usual collection of “How to make a Web page”, “Flash Basics”, etc. typ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Gaming Examples-Exploring some possibiliti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930960" indent="-5014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werpoi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yperstudio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http://www.geocities.com/tlstrekkie/portfolio/webgraphics/slide1.htm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289160" indent="-4294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Intro scree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6); 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Direction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7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topic scree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before play (slide 12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question templat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10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questio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16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7"/>
              </a:rPr>
              <a:t>game status before play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lide 11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8"/>
              </a:rPr>
              <a:t>topic screen after play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17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9"/>
              </a:rPr>
              <a:t>feedback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19); 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0"/>
              </a:rPr>
              <a:t>progres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21)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1"/>
              </a:rPr>
              <a:t>grade/scor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slide 8)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stound? (old software—hang onto it if you have it!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lash (Dante project from Macromedia e-learning book-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2"/>
              </a:rPr>
              <a:t>part 1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3"/>
              </a:rPr>
              <a:t>part 2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4"/>
              </a:rPr>
              <a:t>asthma quiz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TML (HTML form with javascript wizardr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Javascrip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289160" indent="-4294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y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5"/>
              </a:rPr>
              <a:t>Javascrip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jeopardy: (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6"/>
              </a:rPr>
              <a:t>http://www.tamischultz.com/gaming/ts_12-10-scoring2_jeopardy.html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47000" indent="-357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tual on-line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7"/>
              </a:rPr>
              <a:t>Jeopardy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8"/>
              </a:rPr>
              <a:t>http://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19"/>
              </a:rPr>
              <a:t>zone.msn.com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0"/>
              </a:rPr>
              <a:t>/en/jeopardy/default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76840" indent="-35784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n click the play now button (step #2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289160" indent="-4294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lassroom 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1"/>
              </a:rPr>
              <a:t>Millionair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(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2"/>
              </a:rPr>
              <a:t>http://education.jlab.org/million/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47000" indent="-357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tual on-line Millionaire (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3"/>
              </a:rPr>
              <a:t>http://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4"/>
              </a:rPr>
              <a:t>www.millionairetv.com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5"/>
              </a:rPr>
              <a:t>/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>
            <a:hlinkClick r:id="rId26" action="ppaction://hlinksldjump"/>
          </p:cNvPr>
          <p:cNvSpPr/>
          <p:nvPr/>
        </p:nvSpPr>
        <p:spPr>
          <a:xfrm>
            <a:off x="91440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7" action="ppaction://hlinksldjump"/>
          </p:cNvPr>
          <p:cNvSpPr/>
          <p:nvPr/>
        </p:nvSpPr>
        <p:spPr>
          <a:xfrm>
            <a:off x="914400" y="5029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8" action="ppaction://hlinksldjump"/>
          </p:cNvPr>
          <p:cNvSpPr/>
          <p:nvPr/>
        </p:nvSpPr>
        <p:spPr>
          <a:xfrm>
            <a:off x="91440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9" action="ppaction://hlinksldjump"/>
          </p:cNvPr>
          <p:cNvSpPr/>
          <p:nvPr/>
        </p:nvSpPr>
        <p:spPr>
          <a:xfrm>
            <a:off x="91440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0" action="ppaction://hlinksldjump"/>
          </p:cNvPr>
          <p:cNvSpPr/>
          <p:nvPr/>
        </p:nvSpPr>
        <p:spPr>
          <a:xfrm>
            <a:off x="914400" y="4038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480" y="2362320"/>
            <a:ext cx="7848720" cy="2993760"/>
            <a:chOff x="609480" y="2362320"/>
            <a:chExt cx="7848720" cy="2993760"/>
          </a:xfrm>
        </p:grpSpPr>
        <p:sp>
          <p:nvSpPr>
            <p:cNvPr id="110" name=""/>
            <p:cNvSpPr/>
            <p:nvPr/>
          </p:nvSpPr>
          <p:spPr>
            <a:xfrm>
              <a:off x="761760" y="2514600"/>
              <a:ext cx="7696440" cy="2841480"/>
            </a:xfrm>
            <a:prstGeom prst="rect">
              <a:avLst/>
            </a:prstGeom>
            <a:blipFill rotWithShape="0">
              <a:blip r:embed="rId1">
                <a:alphaModFix amt="65000"/>
              </a:blip>
              <a:srcRect/>
              <a:tile tx="0" ty="0" sx="100000" sy="100000" algn="ctr"/>
            </a:blip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2362320"/>
              <a:ext cx="7696080" cy="2841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7254"/>
                  </a:srgbClr>
                </a:gs>
                <a:gs pos="100000">
                  <a:srgbClr val="bfd4f9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143000" y="2666880"/>
              <a:ext cx="6553080" cy="243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ies to Go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  </a:t>
              </a: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&amp;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daptable Templates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Why the Problems?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Internet holds a lot of promise for on-line instruction. However, it is very easy for learners to become "lost in cyberspace“ due to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highly flexible structure of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link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verabundance of purely decorativ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aphic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k of or inconsistent use of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avigational tool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rthermore,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HTM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the language used to create web pages, wa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originally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nceive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o be utiliz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aphic layout mediu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(Weinman &amp; Weinman, 1998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isual end resul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is based totally on the web page creator'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rogrammi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ultimedia skill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52280" y="456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http://www.millionairetv.com/</a:t>
            </a:r>
            <a:br>
              <a:rPr sz="3600"/>
            </a:br>
            <a:endParaRPr b="0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und effects really make this fun and set the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191440" cy="3562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ady to Play:</a:t>
            </a:r>
            <a:br>
              <a:rPr sz="4000"/>
            </a:b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Millionaire on-line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38948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1905120"/>
            <a:ext cx="4191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ample of Millionaire—ready to pl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education.jlab.org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/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million/index.html</a:t>
            </a:r>
            <a:br>
              <a:rPr sz="2400"/>
            </a:b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direction scr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The 1</a:t>
            </a:r>
            <a:r>
              <a:rPr b="0" i="1" lang="en-US" sz="4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 item: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15356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608800"/>
            <a:ext cx="487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sual cue (yellow) for current ques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l game help option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5608800"/>
            <a:ext cx="327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swer selected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Visual c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352320" y="3504960"/>
            <a:ext cx="381240" cy="6094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4267080"/>
            <a:ext cx="17524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47920" y="4114800"/>
            <a:ext cx="2286000" cy="9144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4267080"/>
            <a:ext cx="1447560" cy="228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Feedback screen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389480" cy="4800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Audience Poll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20760" y="1828800"/>
            <a:ext cx="6702480" cy="4800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Feedback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27240" y="1828800"/>
            <a:ext cx="6688080" cy="4800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167652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tice the Audience Poll option has now been hidden so it can’t be re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971440" y="2286000"/>
            <a:ext cx="2895480" cy="3581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The 50/50 option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78492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221440" y="182880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symbols for options C and D have disappeared—these answers are no longer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859120" y="2895480"/>
            <a:ext cx="2362320" cy="23623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Phone-A-Friend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4280" y="1790640"/>
            <a:ext cx="8515440" cy="4572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Leaving the Game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39560" y="1828800"/>
            <a:ext cx="8475840" cy="4800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ady to Adapt: on-line quiz (html/javascript)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87692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Directions: To get the script,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click here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(http://www.javascriptkit.com/script/cut180.shtml). It is a compressed (zipped) file. It is composed of the following three fil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popquiz.htm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en-US" sz="1000" spc="-1" strike="noStrike">
                <a:solidFill>
                  <a:srgbClr val="ff6600"/>
                </a:solidFill>
                <a:latin typeface="Arial"/>
              </a:rPr>
              <a:t>Edit this file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to change the questions on the page to your own. View source for more information)</a:t>
            </a:r>
            <a:br>
              <a:rPr sz="1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results.htm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(Page containing the results/grades. Not necessary to edit)</a:t>
            </a:r>
            <a:br>
              <a:rPr sz="1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ff6600"/>
                </a:solidFill>
                <a:latin typeface="Arial"/>
              </a:rPr>
              <a:t>quizconfig.js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1000" spc="-1" strike="noStrike">
                <a:solidFill>
                  <a:srgbClr val="ff6600"/>
                </a:solidFill>
                <a:latin typeface="Arial"/>
              </a:rPr>
              <a:t>Edit this file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to change the solutions to your ow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hen you're done with the editing, upload the three files into the same direc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1862280"/>
            <a:ext cx="8534160" cy="4462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-learning: Fact or Fad?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most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90% of all universitie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with 10,000+ students offer DE—nearly all use the 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nnua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raini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investments range from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$50 - $60 billio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ollar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 includ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alary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st opportunity costs of those taking training sess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wever…will it stay with u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99: 15% training delivered by compu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001: 11% training delivered by compu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Clark &amp; Mayer, 2003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search shows the delivery method makes no difference…Is it worth the effort or is it a passing fa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Javascript template-edit the question file (popquiz.htm)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pen the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opquiz.ht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file in an editor or notep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figure quiz scri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hange the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question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below any way you want, but make note of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1) Preserve the &lt;FORM&gt; ta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2a) Inside each radio button, use the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VALUE attribute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to denote each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question's choices: "a", "b", "c"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2b) Inside each radio button, use the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NAME attribute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to denote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which question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 the button belongs to ("question1", "question2" et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</a:rPr>
              <a:t>3) Script supports unlimited # of questions. Be sure to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edit .js file to enter corresponding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1981080"/>
            <a:ext cx="40384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rm method="POST" name="myquiz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font face="Arial"&gt;&lt;big&gt;&lt;big&gt;General Knowledge Quiz&lt;/big&gt;&lt;/big&gt;&lt;/font&gt;&lt;/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header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1) What is the difference between a jungle and a rain forest?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&lt;/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div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selections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a" name="question1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a) No difference. Simply two different ways in referring to the same thing.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b" name="question1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b) A jungle in general receives less rain than a rain forest.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c" name="question1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c) A jungle refers to the thickest area of a rain forest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d" name="question1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d) A jungle and a rain forest each contain their own group of distinct plants and animals.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/div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header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2) What is the world's most common religion?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&lt;/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div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selections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a" name="question2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a) Christianity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b" name="question2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b) Buddhism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c" name="question2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c) Hinduism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</a:t>
            </a:r>
            <a:r>
              <a:rPr b="0" lang="en-US" sz="700" spc="-1" strike="noStrike">
                <a:solidFill>
                  <a:srgbClr val="ff6600"/>
                </a:solidFill>
                <a:latin typeface="Arial"/>
              </a:rPr>
              <a:t>value="d"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 name="question2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d) Muslim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/div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header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3) Which city ranks as the world's most populous city (2002)?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&lt;/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div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selections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a" name="question3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a) New York (US)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b" name="question3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b) Mexico City (Mexico)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c" </a:t>
            </a:r>
            <a:r>
              <a:rPr b="0" lang="en-US" sz="700" spc="-1" strike="noStrike">
                <a:solidFill>
                  <a:srgbClr val="ff6600"/>
                </a:solidFill>
                <a:latin typeface="Arial"/>
              </a:rPr>
              <a:t>name="question3”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c) Tokyo (Japan)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input type="radio" value="d" name="question3"&gt; </a:t>
            </a:r>
            <a:r>
              <a:rPr b="1" lang="en-US" sz="700" spc="-1" strike="noStrike">
                <a:solidFill>
                  <a:srgbClr val="003366"/>
                </a:solidFill>
                <a:latin typeface="Arial"/>
              </a:rPr>
              <a:t>d) Shanghai (China)</a:t>
            </a: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/div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&lt;div class="qheader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38480" y="2361960"/>
            <a:ext cx="685800" cy="6094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962520" y="2057400"/>
            <a:ext cx="761760" cy="1371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114800"/>
            <a:ext cx="1219320" cy="228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5029200"/>
            <a:ext cx="1904760" cy="228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script template-edit the answer key file (quizconfig.js)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1828800"/>
            <a:ext cx="3886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it the answer key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quizconfig.j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flect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umber of ite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 have and the answer choice for your i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re should be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orrectchoices[#]=‘_’ line for each i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 your quiz. Make sure the letter for your corr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nsw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s enclo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etween single quo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e sure not to edit below the com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////don’t edit beyond here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JavaScriptKit.com Multiple Choice Quiz Script (http://www.javascriptkit.com)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***********************************************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Copyright 2003 JavaScript Kit- http://www.javascriptkit.com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This notice and footnote must stay intact for us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 Visit JavaScript Kit (http://www.javascriptkit.com/) for full source cod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**********************************************/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/Enter total number of questions: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ar totalquestions= 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/Enter the solutions corresponding to each question: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ar correctchoices=new Array()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1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 //question 1 solution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2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 //question 2 solution, and so on.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3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4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5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6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7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8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9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ctchoices[10]='</a:t>
            </a:r>
            <a:r>
              <a:rPr b="1" lang="en-US" sz="11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////Don't edit beyond here//////////////////////////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nction gradeit(){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ar incorrect=null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(q=1;q&lt;=totalquestions;q++){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209680" y="3048120"/>
            <a:ext cx="281952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680" y="4495680"/>
            <a:ext cx="2819520" cy="1526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504960" y="5790960"/>
            <a:ext cx="1600200" cy="228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xisting Templates: Making your Own Gam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e K-12 educator, Mark Damon, has put together Powerpoint templates with slides to add items and answers. These templates also include music and animation to simulate the TV gameshow environ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ttp://www.hillsborough.k12.nj.us/edlinkspowerpoint.h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ames include: Jeopardy, Millionaire, Weakest Link, and Hollywood Squ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09480" y="2362320"/>
            <a:ext cx="7848360" cy="2438280"/>
            <a:chOff x="609480" y="2362320"/>
            <a:chExt cx="7848360" cy="2438280"/>
          </a:xfrm>
        </p:grpSpPr>
        <p:sp>
          <p:nvSpPr>
            <p:cNvPr id="164" name=""/>
            <p:cNvSpPr/>
            <p:nvPr/>
          </p:nvSpPr>
          <p:spPr>
            <a:xfrm>
              <a:off x="761760" y="2514600"/>
              <a:ext cx="7696080" cy="2286000"/>
            </a:xfrm>
            <a:prstGeom prst="rect">
              <a:avLst/>
            </a:prstGeom>
            <a:blipFill rotWithShape="0">
              <a:blip r:embed="rId1">
                <a:alphaModFix amt="65000"/>
              </a:blip>
              <a:srcRect/>
              <a:tile tx="0" ty="0" sx="100000" sy="100000" algn="ctr"/>
            </a:blip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480" y="2362320"/>
              <a:ext cx="7696080" cy="2286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7254"/>
                  </a:srgbClr>
                </a:gs>
                <a:gs pos="100000">
                  <a:srgbClr val="bfd4f9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838080" y="2819520"/>
              <a:ext cx="73152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ew Frontiers…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veloping Your Own Materials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changes/impact, if any, will using the Internet for instructional delivery cause for the creation of instructional materials using existing instructional design model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" The foundation of good Web design i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tuitive functionality, not aesthetic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 The spatial organization of graphics and text on a Web page have a functional purpose: to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irec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user's attention, prioritize informatio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and make the user's interactions with the informatio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re enjoyabl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nd mo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fficien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ach one of us who authors and publishes Web documents is obliged to </a:t>
            </a: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make our information clear, accurate, and accessibl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and then perhaps pleasing to the eye.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t is your expectations about how students and other readers will typically use your site that should be the basis of your Web site design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ynch and Horton (1998, p. 4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Why Creating e-learning is Challenging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BI involves relationships between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3 set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of heuristics (Quinn &amp; Wild, 1998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ts have some common elements, but many guidelines are unique to the specific task. Thus, instructional designers might not have full awareness of criteria for effective WB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4382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Layou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76520" y="2835360"/>
            <a:ext cx="5790960" cy="2044800"/>
            <a:chOff x="1676520" y="2835360"/>
            <a:chExt cx="5790960" cy="2044800"/>
          </a:xfrm>
        </p:grpSpPr>
        <p:sp>
          <p:nvSpPr>
            <p:cNvPr id="175" name=""/>
            <p:cNvSpPr/>
            <p:nvPr/>
          </p:nvSpPr>
          <p:spPr>
            <a:xfrm>
              <a:off x="2971800" y="3461040"/>
              <a:ext cx="1371600" cy="1371600"/>
            </a:xfrm>
            <a:prstGeom prst="ellipse">
              <a:avLst/>
            </a:prstGeom>
            <a:noFill/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76520" y="300384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Instructional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4120" y="4054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99ff"/>
                  </a:solidFill>
                  <a:latin typeface="Times New Roman"/>
                </a:rPr>
                <a:t>User Interface Desig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988000"/>
              <a:ext cx="1371600" cy="1371600"/>
            </a:xfrm>
            <a:prstGeom prst="ellipse">
              <a:avLst/>
            </a:prstGeom>
            <a:noFill/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3308400"/>
              <a:ext cx="1371600" cy="1371600"/>
            </a:xfrm>
            <a:prstGeom prst="ellipse">
              <a:avLst/>
            </a:prstGeom>
            <a:noFill/>
            <a:ln cap="sq"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200" y="3597480"/>
              <a:ext cx="304920" cy="244440"/>
            </a:xfrm>
            <a:prstGeom prst="line">
              <a:avLst/>
            </a:prstGeom>
            <a:ln cap="sq"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724280" y="2835360"/>
              <a:ext cx="609840" cy="1526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9200" y="4359600"/>
              <a:ext cx="304920" cy="304560"/>
            </a:xfrm>
            <a:prstGeom prst="line">
              <a:avLst/>
            </a:prstGeom>
            <a:ln cap="sq"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-learning Development Guidelin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eep in mind the ultimate purpose is to instruct,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necessarily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entertain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randon Hall (1997) suggests using the following criteria: (E=external event of instruction, I = internal event of instruc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E)  1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conten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Proper amount and quality of information--how extensive is the material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E) 2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instructional desig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Is there evidence learning is occurring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I)  3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interactivit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Are learners actively engaged and allowed inp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E) 4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navigatio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 Are there site maps, navigation buttons to move through the pages, and clearly defined means to exit the sit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I)  5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motivational component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Is there use of humor, novelty, testing, and surprise items to keep the learner engag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E) 6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use of media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Has there been utilization of audio, video, and animation as appropriate to the content and an avoidance of same if it doesn't serve an instructional purpos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E) 7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evaluation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Are the use of quizzes, feedback, and mastery required to continu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-learning Development Guidelin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I)  8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Is the material attractive and appealing visually and auditoril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E) 9. 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record keeping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Is a method to track student progress provided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I) 10.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ton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Does the language/ content target the proper audience while avoiding cliches, condescension, etc.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-learning Development Guidelin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Do we abandon it?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search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allac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evious studies were not designed to take advantage of the unique characteristics of each delivery media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r effective comparison of delivery media, instructio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us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be created to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tilize media characteristics to their best advantage…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therwise, whether visuals are presented via illustration, photograph, video, the overall result is the sa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lesson learne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dium is not th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essag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…the instructional method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strategies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re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ennifer Flem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1998) suggests using the following criteria for developing the site’s navigational user interface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B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easily learned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transparent to the sit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Remain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consistent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cation, icon choice--don’t make ‘em disappear across pages--dim ‘em out!, use ‘em in ALL levels of your s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Provid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feedb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sual changes provide c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ppear in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con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ll access to ALL parts of site--not just most immediately previous or next locations (users enter from all locations!)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ue the next logical link to vis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User Navigation Development Guidelin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Offer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lterna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lt ta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oss platform &amp; version usabilit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Require an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economy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tim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n’t bury site in multiple lev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void forms--frightening to ma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Provid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clea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visual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messages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se hierarch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n’t underline unless it’s a li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User Navigation Development Guidelin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Use clear and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understandabl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label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rms LEARNER will understand; avoid jargon only YOU underst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9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B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ppropriate to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the site’s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purpos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n’t mystify learners by using abstract icons/labels--make it obvious what icons 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.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pport users’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goals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behaviors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o learners make use of what has been provided? (field test!!!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out a sample lesson using these guidel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http://www.angelfire.com/trek/tschultz/portfolio/elearning/index.htm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User Navigation Development Guidelin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Implementation Issu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en conducting more formalized assessmen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lot testing—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ON’T SKIP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THIS STEP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gging in—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h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is taking the review/tes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eiving scores—can they b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nt to the instructor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Technical Tasks/ Techniques &amp; Issu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ual cueing—answering ques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nging visibility of elements for feedback and or cue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ranc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reating random sets of items (advanced te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voiding double dipping on re-answering i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reating scores—variables and accessing th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etting scores for another g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Jeopardy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learning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lides 29-32)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http://www.geocities.com/tlstrekkie/portfolio/webgraphics/slide29.html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hase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I: Game Board created with Hard coded items (adaptable for others to use)   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status: completed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hase II: Setting up a Database of test items (SQL)   </a:t>
            </a:r>
            <a:br>
              <a:rPr sz="1800"/>
            </a:b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status: in progress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hase III: Populating the Game Board Dynamically from the Database     </a:t>
            </a:r>
            <a:br>
              <a:rPr sz="1800"/>
            </a:b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status: still to come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hase IV: Providing Summary of Missed Questions (PHP)     </a:t>
            </a:r>
            <a:br>
              <a:rPr sz="1800"/>
            </a:b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status: still to come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hase V: Create &amp; clean up graphics; finalize visual design &amp; layout</a:t>
            </a: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      </a:t>
            </a:r>
            <a:br>
              <a:rPr sz="1800"/>
            </a:b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status: still to come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hase VI: Interface for others to enter test items to be dynamically put into game board???     </a:t>
            </a:r>
            <a:br>
              <a:rPr sz="1800"/>
            </a:br>
            <a:r>
              <a:rPr b="1" i="1" lang="en-US" sz="1800" spc="-1" strike="noStrike">
                <a:solidFill>
                  <a:srgbClr val="6699ff"/>
                </a:solidFill>
                <a:latin typeface="Arial"/>
              </a:rPr>
              <a:t>status: How challenging is this? This is the ultimate result.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286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Product Development Efforts: Jeopardy Cre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ady to Adapt: Jeopardy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028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944680" y="640080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isual cu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14240" y="4876560"/>
            <a:ext cx="3352680" cy="19047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648320" y="4952880"/>
            <a:ext cx="1218960" cy="18288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867280" y="5714640"/>
            <a:ext cx="381240" cy="10666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Feedback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58840" y="1752480"/>
            <a:ext cx="6824520" cy="480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" y="396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sponse via pop-up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048120" y="3580920"/>
            <a:ext cx="304560" cy="6858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4267080"/>
            <a:ext cx="533160" cy="15242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267080"/>
            <a:ext cx="1904760" cy="3049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Multiple items answered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39680" y="1676520"/>
            <a:ext cx="7062840" cy="4800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Double Jeopardy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216400" cy="480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248520" y="2133720"/>
            <a:ext cx="2438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tice the score was brought forw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ard $ values hav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Influences on Learning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earner’s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rior knowledg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exerts the most influence on learning, even over learning sty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urpos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of learning will affect th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tructure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of e-learn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77% of all e-learning is solo via tutorials; exception is academia &amp; services where 43% of materials are interactiv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3581280"/>
          <a:ext cx="8001000" cy="2971800"/>
        </p:xfrm>
        <a:graphic>
          <a:graphicData uri="http://schemas.openxmlformats.org/drawingml/2006/table">
            <a:tbl>
              <a:tblPr/>
              <a:tblGrid>
                <a:gridCol w="2590560"/>
                <a:gridCol w="2362320"/>
                <a:gridCol w="30481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e/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uto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receptive lr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Drill &amp;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directive lr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Guided Disco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knowledge constru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“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w &amp; tell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mited 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gnitive overlo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“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ow &amp; do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ar transfer—immediacy of conten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uter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nciples/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hentic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nt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sources for Game Development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This presentation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www.tamischultz.com/presentations/ucet_assessment.ppt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Game examples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ttp://www.tamischultz.com/gaming/ts_12-10-scoring2_jeopardy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ttp://www.geocities.com/tlstrekkie/portfolio/webgraphics/slide1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Interface design/practical tips for game design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ttp://www.tamischultz.com/presentations/id.mht or 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http://www.tamischultz.com/presentations/10command-modified.ppt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3366"/>
                </a:solidFill>
                <a:uFillTx/>
                <a:latin typeface="Arial"/>
                <a:ea typeface="宋体"/>
              </a:rPr>
              <a:t>www.cs.upe.ac.za/DDAS/CourseMaterial/ WRHK401/1472/Lecture6_7.ppt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Software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www.decsoftware.com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/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8"/>
              </a:rPr>
              <a:t>www.bnhexpertsoft.com/english/products/answer/guide.pdf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Powerpoint templates for TV games-for teachers   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9"/>
              </a:rPr>
              <a:t>http://www.teachnet.com/lesson/misc/winnergame022500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Add on plug in for powerpoint to make games: 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10"/>
              </a:rPr>
              <a:t>http://www.optiontechnologies.com/products/optionpower_powerpoint_games.asp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On-line sources for game generation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ea typeface="宋体"/>
                <a:hlinkClick r:id="rId11"/>
              </a:rPr>
              <a:t>http://www2.wgbh.org/MBCWEIS/LTC/ALRI/webgames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ea typeface="宋体"/>
                <a:hlinkClick r:id="rId12"/>
              </a:rPr>
              <a:t>www.Quia.com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US" sz="900" spc="-1" strike="noStrike" u="sng">
                <a:solidFill>
                  <a:srgbClr val="ff6600"/>
                </a:solidFill>
                <a:uFillTx/>
                <a:latin typeface="Arial"/>
                <a:hlinkClick r:id="rId14"/>
              </a:rPr>
              <a:t>education.jlab.org/million/index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Javascript quiz editable template   http://www.javascriptkit.com/script/cut180.s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Educator content links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Over 200 links, web quests, quizzes, etc. http://www.enhancedproducts.us/site/741468/page/173180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Playing actual TV games online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Millionaire:   http://www.millionairetv.com/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Jeopardy: </a:t>
            </a: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ttp://zone.msn.com/en/jeopardy/default or http://www.jeopardy.com/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Actual Jeoparady questions from 1998   http://hometown.aol.com/jamesarey/jeopardygame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808080"/>
                </a:solidFill>
                <a:latin typeface="Arial"/>
              </a:rPr>
              <a:t>Research References: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Game theory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66"/>
                </a:solidFill>
                <a:latin typeface="Arial"/>
              </a:rPr>
              <a:t>http://www.ioe.ac.uk/hgm/research/SkillsforLife/MobileLearningPrinciples.pdf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66"/>
                </a:solidFill>
                <a:latin typeface="Arial"/>
              </a:rPr>
              <a:t>http://www.nowhereroad.com/seriousplay/Rieber-ASCILITE-seriousplay.pdf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366"/>
                </a:solidFill>
                <a:latin typeface="Arial"/>
              </a:rPr>
              <a:t>Flow theory—getting “into” the game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http://www.616.ips.k12.in.us/Theories/Flow/default.aspx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Game design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ttp://www.southalabama.edu/coe/coe/programs/TechReports/tr96_1.pdf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  <a:ea typeface="宋体"/>
              </a:rPr>
              <a:t>www.soe.berkeley.edu/~boxer/webcomp/proposal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224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Arial"/>
              </a:rPr>
              <a:t>http://www.soe.berkeley.edu/~boxer/webcomp/proposal.html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sources for E-Learning &amp; Integration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en, G., Stecher, M. &amp; Yasskin, P. (1998). The web-based mathematics course. Syllabus 12(4), 62-65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azillion, R. &amp; Braun, C. (1998). Teaching on the web and in the studio classroom. Syllabus, 12(2), 37-39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rewer, T. (2003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Technology Integration in the 21</a:t>
            </a:r>
            <a:r>
              <a:rPr b="0" i="1" lang="en-US" sz="14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Century Classro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 San Francisco, CA: Visions Technology in Educ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ark, R. &amp; Mayer, R. (2003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E-Learning and the Science of Instruction: Proven Guidelines for Consumers and Designers of Multimedia Learning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 San Francisco, CA: Pfeiffer (A Wiley Imprint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llis, B. (1999). Teleware: instrumentation for tele-learning. Education and Information Technologies, 4, 9-3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llis, B. (1998). WWW-Based Environments for collaborative groupwork. Education and Information Technologies, 3, 231-245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pstein, S. (1998). An alternative to faculty as full-time web master. Syllabus, 12(2), 56-59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erence, P. &amp; Vockell, E. (1994). Adult learning characteristics and effective software instruction. Educational Technology, 34(6), 25-31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leming, J.  (1998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eb navigation: Designing the user experience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Sebastopol, CA: O’Reilly &amp; Associates,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sources for E-Learning &amp; Integration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lkerth, R. (1998). DE planning for the information-age student. Syllabus, 12(4) 28-30+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iani, U, &amp; Martone, P. (1998). Distance learning, problem based learning and dynamic knowledge networks. International Journal of Medical Informatics, 50, 273-278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Gray, S. (1998). Web-based instructional tools. Syllabus 12(2), 18-22+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ll, B. (1997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eb-based training cookbook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New York, NY: John Wiley &amp; Sons,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nes, M. &amp; Okey, J. (1995). Interface design for computer-based learning environments [on-line]. Available http://www.hbg.psu.edu/bsed/intro/docs/idguide/, downloaded 3/18/98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oontz, F. (1996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Media &amp; technology in the classroom (5th ed.)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buque, IA: Kendall/Hunt Publishing Co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Koszalka, T., Breman, J. &amp; Moore, M. (1999). Sharing lesson plans over the World Wide Web: Important components. 4(2), 143-151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ynch, P. &amp; Horton, S. (1998). Refining web pages: Effective design strategies for educators. Syllabus 11(6), 39-43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sources for E-Learning &amp; Integration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isanchuk, E. (1994). Print tools for distance education. In B. Willis, Ed. Distance education: Strategies and tools. Englewood Cliffs, NJ: Educational Technology Publica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wston, R. (1997). The world wide web: A technology to enhance teaching and learning? [on-line]. Available http://www.edu.yroku.ca/rowston/article.html. downloaded 6/30/98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Quinn, C. &amp; Wild, M. (1998). Supporting cognitive design: Lessons from human-computer interaction and computer-mediated learning. Education and Information Technologies, 3, 175-185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bb, M. (1993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The Presentation Design Book, (2nd ed.)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Chapel Hill, NC: Ventana Press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chweizer, H. (1999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esigning and teaching an on-line course: Spinning your web classroom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Boston, MA: Allyn &amp; Bac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chwier, R. (1994). Contemporary and emerging interactive technologies for distance education .In B. Willis, Ed. Distance education: Strategies and tools. Englewood Cliffs, NJ: Educational Technology Publica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efanov, K., Dicheva, D., Nikolov, R. &amp; Djakova, I. (1998). User interfaces for a virtual learning environment: Two study cases. Education and Information Technologies, 3, 307-319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ennant, R. (1998). Seven tags to live by. Syllabus 12(2), 46-48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rner, J. &amp; Turner, D. (1998). Using the internet to perform survey research. Syllabus, 12(4), 58-60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einman, L. &amp; Weinman, W. (1998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&lt;Creative html design&gt; a  hands-on html 4.0 web design tutorial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Indianapolis, IN: New Riders Publishing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hite, K. (2000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The online teaching guide: A handbook of attitudes, strategies, and techniques for the virtual classroom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Boston, MA: Allyn &amp; Bac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orcester, T. (2003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50 Quick &amp; Easy Powerpoint Activiti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 San Francisco, CA: Visions Technology in Educ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lodkowski, R. (1993).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Enhancing adult motivation to learn.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San Francisco, CA: Jossey-Bass Pub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Resources for E-Learning &amp; Integration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609480" y="2362320"/>
            <a:ext cx="7925040" cy="1622160"/>
            <a:chOff x="609480" y="2362320"/>
            <a:chExt cx="7925040" cy="1622160"/>
          </a:xfrm>
        </p:grpSpPr>
        <p:sp>
          <p:nvSpPr>
            <p:cNvPr id="63" name=""/>
            <p:cNvSpPr/>
            <p:nvPr/>
          </p:nvSpPr>
          <p:spPr>
            <a:xfrm>
              <a:off x="762120" y="2514600"/>
              <a:ext cx="7772400" cy="1469880"/>
            </a:xfrm>
            <a:prstGeom prst="rect">
              <a:avLst/>
            </a:prstGeom>
            <a:blipFill rotWithShape="0">
              <a:blip r:embed="rId1">
                <a:alphaModFix amt="65000"/>
              </a:blip>
              <a:srcRect/>
              <a:tile tx="0" ty="0" sx="100000" sy="100000" algn="ctr"/>
            </a:blip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80" y="2362320"/>
              <a:ext cx="7772400" cy="1469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17254"/>
                  </a:srgbClr>
                </a:gs>
                <a:gs pos="100000">
                  <a:srgbClr val="bfd4f9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990720" y="2819520"/>
              <a:ext cx="7010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8440">
                    <a:solidFill>
                      <a:srgbClr val="003366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rudging Acceptance??</a:t>
              </a:r>
              <a:endParaRPr b="0" lang="en-US" sz="3200" spc="1" strike="noStrike">
                <a:ln w="2844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transition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E-learning Component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struction delivered on a computer, by way of CD-ROM, Internet or intranet including the following features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Clark &amp; Mayer, 2003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590920" y="3505320"/>
            <a:ext cx="3124080" cy="2825640"/>
            <a:chOff x="2590920" y="3505320"/>
            <a:chExt cx="3124080" cy="28256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590920" y="3505320"/>
              <a:ext cx="312408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429000" y="4032360"/>
              <a:ext cx="1219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-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04920" y="2811600"/>
            <a:ext cx="2438280" cy="367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ow is it Delivered?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i="1" lang="en-US" sz="1600" spc="-1" strike="noStrike" u="sng">
                <a:solidFill>
                  <a:srgbClr val="6699ff"/>
                </a:solidFill>
                <a:uFillTx/>
                <a:latin typeface="Arial"/>
              </a:rPr>
              <a:t>E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-lear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Audio/sp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Illust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ho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An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2763720"/>
            <a:ext cx="3429000" cy="13215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hat is Delivered?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(E-</a:t>
            </a:r>
            <a:r>
              <a:rPr b="1" i="1" lang="en-US" sz="1600" spc="-1" strike="noStrike" u="sng">
                <a:solidFill>
                  <a:srgbClr val="6699ff"/>
                </a:solidFill>
                <a:uFillTx/>
                <a:latin typeface="Arial"/>
              </a:rPr>
              <a:t>learning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Information (cont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Instructional techniques (strategies to assist lear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5133960"/>
            <a:ext cx="3429000" cy="13215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hy is it Delivered?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(Purp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ersonal learning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Improve job performance/ effec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00400" y="2362320"/>
          <a:ext cx="1752480" cy="138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362320"/>
                    <a:ext cx="1752480" cy="1387440"/>
                  </a:xfrm>
                  <a:prstGeom prst="rect">
                    <a:avLst/>
                  </a:prstGeom>
                  <a:ln w="28440">
                    <a:solidFill>
                      <a:srgbClr val="6699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New Tools, New Rol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o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ge on the Stage—Conveyer of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uide on the Side—Director of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ro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sive Lear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nowledge Navigator –Becoming an Active Participant in finding and using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1828800"/>
            <a:ext cx="0" cy="44197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362320"/>
            <a:ext cx="83818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Characteristics &amp; Issues</a:t>
            </a:r>
            <a:endParaRPr b="0" i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eation i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ime-intensiv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d multimedia developers acknowledge that it takes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n to twenty times more labor &amp; skil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to produce good courseware for e-learning than for traditional classroom materials” (Clark &amp; Mayer, p. 2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very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latform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considera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andwidth (graphics/audio/vide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mory space (graphics/audio/vide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se of Updating (timeliness?/co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semination (hardware compatibility/c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21:21:39Z</dcterms:created>
  <dc:creator>Craig Bevan</dc:creator>
  <dc:description/>
  <dc:language>en-US</dc:language>
  <cp:lastModifiedBy>LOFT-00</cp:lastModifiedBy>
  <dcterms:modified xsi:type="dcterms:W3CDTF">2004-04-23T04:42:29Z</dcterms:modified>
  <cp:revision>60</cp:revision>
  <dc:subject/>
  <dc:title>Slide 1</dc:title>
</cp:coreProperties>
</file>