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2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39.jpeg" ContentType="image/jpeg"/>
  <Override PartName="/ppt/media/image17.png" ContentType="image/png"/>
  <Override PartName="/ppt/media/image32.jpeg" ContentType="image/jpeg"/>
  <Override PartName="/ppt/media/image5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14.png" ContentType="image/png"/>
  <Override PartName="/ppt/media/image16.jpeg" ContentType="image/jpeg"/>
  <Override PartName="/ppt/media/image60.jpeg" ContentType="image/jpeg"/>
  <Override PartName="/ppt/media/image3.jpeg" ContentType="image/jpeg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15.png" ContentType="image/png"/>
  <Override PartName="/ppt/media/image18.jpeg" ContentType="image/jpeg"/>
  <Override PartName="/ppt/media/image26.png" ContentType="image/png"/>
  <Override PartName="/ppt/media/image5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8.png" ContentType="image/png"/>
  <Override PartName="/ppt/media/image23.jpeg" ContentType="image/jpeg"/>
  <Override PartName="/ppt/media/image6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8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1.png" ContentType="image/png"/>
  <Override PartName="/ppt/media/image52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573-77AF-4CCB-937C-4CD33477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CF99-647D-4961-8831-EE60F7A1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149-D380-472C-868F-79500755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1284-CC04-4D93-9546-24EF5BAF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8CC-721E-45D6-9377-0DE12AB2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C1E5-8F96-4F67-817C-AFDD1151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E21-3D23-4F8A-A5DD-A576003B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F3C3-6414-4718-98E5-CF302A84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738C-0EB8-4C86-A6D7-68532E3D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F5B0-35AB-447D-80CC-A71F0A72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663-1E21-4099-A25B-9D19AD0B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3F3-E6EA-4CB1-9A26-69D74F38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91BA-6400-4AF3-9692-B36BDA27D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thecampaign.org./" TargetMode="External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Nucle&#243;tido" TargetMode="External"/><Relationship Id="rId2" Type="http://schemas.openxmlformats.org/officeDocument/2006/relationships/hyperlink" Target="http://es.wikipedia.org/wiki/ADN" TargetMode="External"/><Relationship Id="rId3" Type="http://schemas.openxmlformats.org/officeDocument/2006/relationships/hyperlink" Target="http://es.wikipedia.org/wiki/ARN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hyperlink" Target="http://es.wikipedia.org/wiki/Herencia" TargetMode="External"/><Relationship Id="rId7" Type="http://schemas.openxmlformats.org/officeDocument/2006/relationships/hyperlink" Target="http://es.wikipedia.org/w/index.php?title=Descendencia&amp;action=edit" TargetMode="External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080" y="5334120"/>
            <a:ext cx="328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00"/>
                </a:solidFill>
                <a:latin typeface="Arial"/>
              </a:rPr>
              <a:t>Universidad de Puerto 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00"/>
                </a:solidFill>
                <a:latin typeface="Arial"/>
              </a:rPr>
              <a:t>Recinto de Aguad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io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f. José Maldo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91520" y="5638680"/>
            <a:ext cx="1218960" cy="808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638680" y="1981080"/>
            <a:ext cx="3200400" cy="315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1828800"/>
            <a:ext cx="2133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ythan More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z Vázq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saac Cal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osué Velásq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895480" y="13716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04920" y="228600"/>
            <a:ext cx="5486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009900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imentos Transgénic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50000">
                    <a:srgbClr val="009900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00000"/>
                </a:solidFill>
                <a:latin typeface="Arial"/>
              </a:rPr>
              <a:t>Los genes alterados pasan de generación en gen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3571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2667240" cy="2581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9880" y="3886200"/>
            <a:ext cx="4496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Biotecnologí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da aplicación tecnológica que utilice sistemas biológicos y organismos vivos o sus derivados para la creación o modificación de productos o procesos en usos específ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990720"/>
            <a:ext cx="44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Gené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iencia que trata de la reproducción, herencia, variación y el conjunto de fenómenos y problemas relativos a la descende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Genetica y Biotecnolo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00000"/>
                </a:solidFill>
                <a:latin typeface="Arial"/>
              </a:rPr>
              <a:t>Trasfondo histórico de los </a:t>
            </a:r>
            <a:br>
              <a:rPr sz="4000"/>
            </a:br>
            <a:r>
              <a:rPr b="0" lang="es-ES" sz="4000" spc="-1" strike="noStrike">
                <a:solidFill>
                  <a:srgbClr val="800000"/>
                </a:solidFill>
                <a:latin typeface="Arial"/>
              </a:rPr>
              <a:t>alimentos transgén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1909800" cy="188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943600" y="1447920"/>
            <a:ext cx="2921040" cy="2185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5800" y="4191120"/>
            <a:ext cx="1963800" cy="2187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553080" y="4191120"/>
            <a:ext cx="1778040" cy="2187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920" y="632448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opolio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17040" y="6324480"/>
            <a:ext cx="40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mentos geneticamente modifi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8960" y="35812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pira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7280" y="3429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3429000" y="1905120"/>
            <a:ext cx="2082960" cy="3124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64680" y="49528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revolución que hoy intenta cambiar 12,000 años de agricultura fue lanzada en 1980, en EEU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ltado de caso en corte federal Diamond Vs. Chakrabarty determinó que era legal patentar formas de vida biológ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2219040" cy="2185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11800" y="3938760"/>
            <a:ext cx="2709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4038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anda Mohan Chakrabarty “desarolló” bacteria que podía ingerir aceite. Trabajaba para GE y fue en busca de la patenta para su “invensión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 le brindó el respaldo legal y económico para que obtuviera su pat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91320" y="44197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1985 la corte determinó que se podían patentar plantas, semillas y tejidos de pla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ienza la búsqueda de planta con potencial de explotación económico—Biopirater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562720" y="838080"/>
            <a:ext cx="2219040" cy="2186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976640" y="3938760"/>
            <a:ext cx="33800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12 de abril de 1988 se le otorgó una patenta de un animal al professor Philip Leder y Timothy A. Stewart de la universidad de Harva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1991 se otorgó el derecho de patentizar células “tallo” y más adelante células de human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867280" y="3962520"/>
            <a:ext cx="2239920" cy="21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00600" y="838080"/>
            <a:ext cx="2108160" cy="2152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010280" y="1066680"/>
            <a:ext cx="17622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40388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mpresa Biocyte patentizó el uso de todos los cordones umbelicales de fetos y recién nacidos. La patenta excuía el derecho de asentimiento del donante o sus famili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universidad de Baylor en EEUU patentizó el uso de las glándulas mamareas para la creación de fárma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2238480" cy="2124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48320" y="4572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cyte Corpor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ly Pond Plaza 1281 East Main Stree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mford CT 069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638680" y="1447920"/>
            <a:ext cx="237492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mega-empresas productoras de alimentos compran las empresas más pequeñas para destruir su producción de semillas y crear un monopolio de venta de semill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co a poco se crea un monopolio de venta y distribución de ali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86400" y="1066680"/>
            <a:ext cx="2349360" cy="2011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3810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limentos monopolizad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800600" y="1295280"/>
            <a:ext cx="2457360" cy="2186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2471760" cy="2187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590920" y="3962520"/>
            <a:ext cx="3657600" cy="2409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88160" y="3429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41920" y="3429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328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990720"/>
            <a:ext cx="5638680" cy="61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Arial"/>
              </a:rPr>
              <a:t>El padre de la medicina dijo una vez: “Sea nuestra comida nuestra medicina y nuestra medicina nuestra comida”- Hypocrattes (400B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Arial"/>
              </a:rPr>
              <a:t>Nuestro cuerpo funciona solo por la energía y los nutrientes que recibe de los alimentos que ingerim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Arial"/>
              </a:rPr>
              <a:t>Queremos hacer conciencia de la manipulación genética y sus consecuencias para nuestro bienestar personal, familiar y como socied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Arial"/>
              </a:rPr>
              <a:t>Somos seres vivos y nuestro valor va mas allá de dólares y centavos.</a:t>
            </a:r>
            <a:r>
              <a:rPr b="0" lang="es-ES" sz="1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Arial"/>
              </a:rPr>
              <a:t>Consideramos que la modificación genética intenta robar nuestra salud para comercializar nuestro bienestar. Todos tenemos el derecho indiscutible de nuestro bienestar y felic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77120" y="1066680"/>
            <a:ext cx="1904760" cy="261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81080" y="0"/>
            <a:ext cx="519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00000"/>
                </a:solidFill>
                <a:latin typeface="Arial"/>
              </a:rPr>
              <a:t>Justificación de t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19920" y="41148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4038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oy en día alrededor de 2/3 de varios productos de alimentos contienen ingredientes genéticamente modifi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hay ninguna ley que exiga que los productos genéticamente modificados contengan una etiqueta para que el consumidor pueda identificarl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248520" y="533520"/>
            <a:ext cx="1260360" cy="1904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1674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guen surgiendo las nuevas ideas para continuar alterando genéticamente todo tipo de vida para explotarlos económic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3343320" cy="2185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990720" y="2057400"/>
            <a:ext cx="2844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cios y Riesgos de los Alimentos Transgén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4647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versias Mund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ientíficos e ingenieros garantizan que  los productos transgénicos antes de salir al mercado son probados con metodos, sujetos de prueb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vez se determina que el producto es seguro y no prodrá producir daño a su consumidor este pasa a ser vend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upos manifest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varios países del mundo han surgido grupos manifestantes formados por ecologistas, científicos y otros profesionales, en oposición a este tipo de alimento y exigen que estos sean etique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basan en la amenaza para la salud; como la resistencia a los antibióticos utilizando para el tratamiento medico de personas y ani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cios y Ries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imentos genéticamente modificados deben potencialmente ofrecer al consumidor y granjeros una cosecha con mejores propiedades dese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versias alrededor de los alimentos GM y cosechas tienen un enfoque común en la seguridad de los humanos y el ambiente, etiquetado y la eleccion del consumidor, derechos de propiedad intelectual, etica, seguridad de alimentos, reduccion de pobreza y conservación del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cio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ar calidad y sa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r el tiempo de ma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 nutrientes y tolerancia al e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ada la resistencia a enfermedades, pestes y herbic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evos productos y tecnicas de cr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00240" y="11430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o en resistencia, productividad y alimentación e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 producción de carne, huevos y le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as a la salud animal y metodos de diagnó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herbicidas y bioinsecticidas amig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ción de aguas suelo y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procesos para productos fores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manejo de desechos na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amientos mas e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76560" y="13716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ar los alimentos seguros para la población en crec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versi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o potencial a la salud human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rgias, transferencia de marcadores resistentes a antibio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o con un efecto potencial desconocidos a el ambien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encia de transgenes a traves de la polinización, efectos desconocidos en otros organismos y perdida de la biodivers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3116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vers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iedades intelectuales y ac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ación por algunas com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s de la producción de alimentos mund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mento en la dependencia a naciones industrializadas por los pueblos en desarro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pirateria: explotación extranjeros de los recursos natu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 efecto en cad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33720" y="2895480"/>
            <a:ext cx="2819160" cy="2244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24280" y="4343400"/>
            <a:ext cx="166860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0880" y="1143000"/>
            <a:ext cx="1981440" cy="1917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43200" y="16002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s en material gen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3352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tera función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4560" y="5105520"/>
            <a:ext cx="20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ecta el biene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s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vers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800240" y="16002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ción de los valores intrinsicos de organismos na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ción por la mezcla de genes entre e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ión al consumo de genes animales en plantas y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és para los animan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505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vers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ique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s obligatorio en algunos paises (ej: Estados Uni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zcla de cultivos GM con cultivos no-GM como un intento para confundir las etique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evos avances estan unidos a intereses de paises r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-838080"/>
            <a:ext cx="91440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Efectos sobre la salud hu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Muchos de estos genes no habrian integrado jamas la dieta humana sino fuera por la ingenieria gene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Es imposible saber cuales serán los efectos de la ingesta de estos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Según el New England Journal of medicine aseguró que los productos modificados por la ingenieria genetica tienen un potencial alegenico incierto, impredecible e imposible de dimensio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La sociedad Británica de medicos alertó sobre la resistencia a los antibióticos en los seres humanos que consumen transgénicos en forma reiter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ectos sobre el medio amb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ción gen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peace: “explosivo crecimiento del uso de plantas transgénicas es una verdadera amenaza para la salud de la gente y el equilibrio ambiental del planet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era del laboratoria originarán una contaminación genética ya que plantas transgenicas liberan al medio sus genes de resistencia a herbicidas a especies emparentadas generan las llamadas supermalez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poco tiempo habrá que lidiar con una generación de insectos plagas resistentes a maiz transgén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 que proponemos: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omar acció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00400" y="2438280"/>
            <a:ext cx="2514600" cy="2103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2666880" cy="1716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40600" y="3352680"/>
            <a:ext cx="16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61200" y="44956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019920" y="3429000"/>
            <a:ext cx="2857320" cy="18954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100200" y="533412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ión como Consum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cción Polí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e sus preocupaciones a dirigentes comprometidos con la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salu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mbie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thecampaign.or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581280" y="2133720"/>
            <a:ext cx="2186280" cy="2185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172200" y="1676520"/>
            <a:ext cx="1762200" cy="2187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380880" y="3352680"/>
            <a:ext cx="2895840" cy="2286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98160" y="56386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45920" y="43434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51400" y="3809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omi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tilize cartas, “e-mails” (correo electronico) y haga llamadas telefonicas para comunicarse con estos lider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361960" cy="1933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76720" y="29718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095880" y="3048120"/>
            <a:ext cx="2444760" cy="2590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221840" y="38098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léf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09280" y="480060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reo elect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36480" y="5638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Únase a grupos cívicos en su región o comunidad y contribuya para informar a todos los que desconocen sobre los alimentos transgénicos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809880" cy="2543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38102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94920" y="304920"/>
            <a:ext cx="6629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s una secuencia lineal de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ucleótid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D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R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e es esencial para una función específ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914400" y="1828800"/>
            <a:ext cx="1523880" cy="102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76720" y="259092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1981080"/>
            <a:ext cx="53337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n el desarollo del organ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3276720"/>
            <a:ext cx="5715000" cy="23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Mantenimiento de una función fisiológica norm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990720" y="3276720"/>
            <a:ext cx="1447560" cy="113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76720" y="4648320"/>
            <a:ext cx="557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s considerado como la unidad de almacen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información y unidad d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erenci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l transmitir 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ción a l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descendenci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2240" y="4913280"/>
            <a:ext cx="11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360" y="4684680"/>
            <a:ext cx="10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5257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914400" y="4952880"/>
            <a:ext cx="15238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ion pers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3341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tengase informado. Lea libros, revistas y todo tipo de informacion que le ayude a conocer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sobre el tem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20955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prenda a identificar alimentos G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y que prestar atención en las siguientes palabras en los productos que se compran en los super-mercados: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ecitin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la mayoría contiene bases de soja) 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ecitina de soj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también aparece camuflado con la insripció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S 322 o 32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ína vegetal texturizad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ína texturada de soj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xtro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eite vegetal hidrogena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mulsifica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ína de soja aislada o harina de soj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2571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forme a las personas sobre la modificación genética y trate de que estos se involucren en la caus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41936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60948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ifique su alimentación y compre alimentos natura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586728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 y orienta a tu familia para que consuman productos los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natural que sea po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57150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cción como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87656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6094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ga saber sus preocupaciones y su modo de pensar. Comuníquese con distribuidores y vendedores de productos transe génic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422892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elefonos de distribui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Lista de los mayo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distribuidores de EEUU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feway 800-723-392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rito-Lay 800-352-447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Kellogg's 800-962-141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stle's 800-452-197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einz Foods 888- 472-8437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ealthy Choice 800-323-998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Kraft 800-543-533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ershey's 800-468-171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ca Cola 800-438-265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abisco 800-862-263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aker Oats 800-367-628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arbucks 800-782-728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cDonald's 630-623-3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eneral Mills 800-328-114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ctor &amp; Gamble 800-595-140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Los genes pueden ser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dominantes 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o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recesivos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419720"/>
            <a:ext cx="2666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entras que los rasgos genéticos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ecesiv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cisan que ambo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l par trabajen en conjunto para controlar el ras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67652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rasgos genéticos </a:t>
            </a:r>
            <a:r>
              <a:rPr b="0" lang="es-ES" sz="1800" spc="-1" strike="noStrike">
                <a:solidFill>
                  <a:srgbClr val="800000"/>
                </a:solidFill>
                <a:latin typeface="Arial"/>
              </a:rPr>
              <a:t>domina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aquellos que se presentan cuando un g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l par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e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controlar el rasgo para el cual ese par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e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di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19810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114800" y="1981080"/>
            <a:ext cx="43434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men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acció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200400" y="2438280"/>
            <a:ext cx="2514600" cy="2103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2666880" cy="1716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840600" y="3352680"/>
            <a:ext cx="16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61200" y="44956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6019920" y="3429000"/>
            <a:ext cx="2857320" cy="1895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100200" y="533412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ión como Consum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828800"/>
            <a:ext cx="171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248520" y="3505320"/>
            <a:ext cx="171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352680" y="2590920"/>
            <a:ext cx="171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971800" cy="2898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09880" y="114300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élula procariót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ias de algas y bacterias, llevan la información genética en un solo orgánulo, el cromos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457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Wingdings"/>
                <a:ea typeface="Wingdings"/>
              </a:rPr>
              <a:t>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Procario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2895480" cy="3048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81280" y="4419720"/>
            <a:ext cx="525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élula Eucarió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eucarióticas, células de organismos más complejos, como el ser humano, presentan un núcleo bien diferenciado y distribuyen el material genético en varios cromosomas separados del citoplas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1280" y="37339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Wingdings"/>
                <a:ea typeface="Wingdings"/>
              </a:rPr>
              <a:t>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Eucariota (human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28240" y="304560"/>
            <a:ext cx="60958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ser humano, como todos los seres vivos, está formado de células, unos 100 billones, unidas entre sí por estructuras intercelulares de sosté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élulas se comportan como pequeños seres vivos porque realizan idénticas funciones vitales para el bienestar del organ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2054160" cy="2286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43600" y="3962520"/>
            <a:ext cx="285768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enes codifican para produci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1863720" cy="190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2243160" cy="2523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581280" y="1219320"/>
            <a:ext cx="4114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ituyentes de tejidos y líquidos orgán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la base de todos los procesos fisiológicos celulares ya que a partir de ellas se regulan la mayoría de los procesos metabólic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4419720"/>
            <a:ext cx="541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hormonas son segregadas por ciertas célu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iz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cen su efecto en determinados órganos o tej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9560" y="9907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rote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9560" y="36576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Horm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lquier cambio en el material genético de las células podría causar d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ños permanentes a tejidos importantes del cuerp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odría perjudicar la salud de la persona y su bienestar físico y emo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0" y="4191120"/>
            <a:ext cx="4038480" cy="217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29624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9:50:44Z</dcterms:created>
  <dc:creator>Eythan</dc:creator>
  <dc:description/>
  <dc:language>en-US</dc:language>
  <cp:lastModifiedBy>Eythan</cp:lastModifiedBy>
  <dcterms:modified xsi:type="dcterms:W3CDTF">2006-04-01T04:21:52Z</dcterms:modified>
  <cp:revision>44</cp:revision>
  <dc:subject/>
  <dc:title>Slide 1</dc:title>
</cp:coreProperties>
</file>