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1C0-0C88-4FCB-9F33-953B020D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8DA-71DA-4472-A7E5-6DCAD9E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9E0-A75E-4C34-9607-880F62EE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961-8FA7-4338-8E47-1C0B73D7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D313-381F-47A1-9955-C626B932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6B2A-8659-4B0B-BA7E-C47132E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64E-75D6-41C2-BB76-1A0BE2B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E863-358C-4CE5-A311-1A66A9F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D3B-4368-47FA-B45C-486023C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F6DC-611B-46BC-9BB6-B149CE1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7BF4-1D19-48B6-A718-21DF419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C80-95AF-49F6-8644-2BA94E9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A154-8D51-46CE-B3CC-7ADF0DF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6CA-22B9-4D97-A2B3-0F2EFF0C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2152-26A0-4313-9ED5-A1E63AA9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AAC-0AAF-4FFB-B100-7ADFB19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A41-B878-4A32-95F3-44D38B0B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CE5-6379-4704-8F42-4EF7B713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DDA-B22F-4DE8-A536-015BD68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25F-40A4-4FD5-92B0-57580BE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E7E-CDC2-4972-9C6B-95A4791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6E5-F4AC-4EBA-9578-FEADC11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9CE-2898-4712-90B3-CF3D597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4BE-1BF0-404B-8D3B-E804137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DF2-7AE6-4646-9F9F-FD147109AC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013B-7E52-48C1-BF94-A5B149F418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spectforall.com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 Talk …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8288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la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bull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our exper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cipate in small and large group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echnology to research the topic – A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reflections in jour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666880" y="5410080"/>
            <a:ext cx="34005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Get Organiz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number between 1 and 5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your team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write your team number on a page in your jour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your team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149560" cy="121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6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Team Topics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#1      Define bullying with examp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#2      Explain how a person knows if the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being bull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#3      List harmful effects of being bull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#4      Create a list of rules about bully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m #5      Identify consequences for bully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001000" y="4419720"/>
            <a:ext cx="743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Ready…Get Se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ther in your te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 team member to write your group question at the top of the pos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the top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group responses on the pos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 your name on the pos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5880" y="5562720"/>
            <a:ext cx="476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hare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e the team’s completed poster on the w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 around the room and read the comments made by other tea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 your team’s responses with the cla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er a reflection statement on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y’s activities in your journ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udy th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be using the computers in the library for our research to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inder: The Acceptable Use Policy Guidelines are in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m, B., Logan, J. (2004). Let’s g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l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urriculum Guide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men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ucational Media. Retriev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, 2005 fro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respectforall.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2:27:16Z</dcterms:created>
  <dc:creator>Emmy  Hartney</dc:creator>
  <dc:description/>
  <dc:language>en-US</dc:language>
  <cp:lastModifiedBy>Emmy  Hartney</cp:lastModifiedBy>
  <dcterms:modified xsi:type="dcterms:W3CDTF">2005-10-01T00:46:04Z</dcterms:modified>
  <cp:revision>22</cp:revision>
  <dc:subject/>
  <dc:title>Let’s Talk ….</dc:title>
</cp:coreProperties>
</file>