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3AF-2200-43FA-B00F-8349DB1B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4A1-59CD-4789-808A-2FAD897A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E4D-15A7-4002-8F9E-613D73A7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724-DD45-4D95-8F4A-E2F31E7C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0DC5-0D69-4E42-BAA1-CC349D0B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5FB9-ADE1-4140-9E50-7CF8C568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C6CA-EA57-4398-AF23-5C8F850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58B7-3E18-4C3B-8908-79D10F4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5D7B-AD1E-437B-8925-EB6DC99A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FB5-257F-40F3-B8F5-0342D164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FBBC-7DC5-431A-9BB1-508134F8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5EF-9D31-442E-8087-3BF9B7FC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6A1D-76EF-4F8B-9839-372BFF1F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6F64-6EED-41A6-949E-E8559CB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3DB2-4C49-46F8-8F26-2B560D55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BAD3-0FA1-42AC-ADE0-B67EA7D3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A534-62C8-4D33-BE03-FC19F000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84C-D7F5-4C40-9A10-C871CB90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D48-5DA7-4FEC-8BAE-5BEEE28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E9F-1FBD-4B49-BD6C-D943C362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CB4-0FA9-43AD-8B4A-DA787E69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AF7-3B8A-4920-9A4C-27D484C9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B9E-930F-43B7-8012-F7DC6AF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D28-A0AE-4E6E-AA5B-0804209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863-B514-4352-8B1B-481FF807C3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88AE-D239-4A80-A44B-2AB4B56083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t the Dialogue Begin…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91120" y="5867280"/>
            <a:ext cx="1533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ullying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3053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bd71"/>
                </a:solidFill>
                <a:latin typeface="Tahoma"/>
              </a:rPr>
              <a:t>Emmilia Hartn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bd71"/>
                </a:solidFill>
                <a:latin typeface="Tahoma"/>
              </a:rPr>
              <a:t>University of Phoen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bd71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ahoma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ahoma"/>
              </a:rPr>
              <a:t>                                      </a:t>
            </a:r>
            <a:r>
              <a:rPr b="0" lang="en-US" sz="1200" spc="-1" strike="noStrike">
                <a:solidFill>
                  <a:srgbClr val="dbbd71"/>
                </a:solidFill>
                <a:latin typeface="Tahoma"/>
              </a:rPr>
              <a:t>In Partial Fulfillment of the Requirements for the degree of Master of Arts in Edu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commendations for Chan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Require all new students to attend anti-bullying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rovide teachers with ongoing training in dealing with bullying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Model proactive behavior addressing bullying incidents promptly and consist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t the Dialogue Begin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What changes can we make in our own lives to model Christian behavior to our you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Fear paralyzes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Knowledge empow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Christian 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teaches us to love one anoth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• St. John’s teaches us to respect each oth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• Our parents model Christ-like behavi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• We choose to behave as Christ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rincipal. (2003). Prevention progra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ld stop half the bullying. Vol. 1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rieved from EBSCO May 22, 2005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The facts are………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rly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in 6 childr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grades six through ten fall victim to bullying each year. That i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2 mill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ildren who are bullied every year and another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2 mill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o act as the bullies (ProPrincipal, 2003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 Descrip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aaa7"/>
                </a:solidFill>
                <a:latin typeface="Tahoma"/>
              </a:rPr>
              <a:t>The problem is that students at St. John the Baptist Middle School are bullying their pe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 Document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1600200"/>
          <a:ext cx="67057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705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a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 Document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43000" y="1752480"/>
          <a:ext cx="647712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477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 Document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678168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7816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tting: Popul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. John the Baptist Middle School was established in 1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hool is located in the A wing of St. Juan Diego Catholic High School on the Skaggs Catholic Center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enrollment is 335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faculty: 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lution Strateg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Open the dialogue on the topic of bull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Raise the awareness of the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Record and review survey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each communication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Monitor “hot spots” for bullying inci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Model respect, responsibility and rev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Positive school clim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Reduction in the number of bullying inci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Increase in the number of reported inci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Closer monitoring of “hot spot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ahoma"/>
              </a:rPr>
              <a:t>Catholic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7:29:49Z</dcterms:created>
  <dc:creator>Emmy  Hartney</dc:creator>
  <dc:description/>
  <dc:language>en-US</dc:language>
  <cp:lastModifiedBy>Emmy  Hartney</cp:lastModifiedBy>
  <dcterms:modified xsi:type="dcterms:W3CDTF">2005-10-01T00:22:04Z</dcterms:modified>
  <cp:revision>28</cp:revision>
  <dc:subject/>
  <dc:title>Let the Dialogue Begin….</dc:title>
</cp:coreProperties>
</file>