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F22-48D6-4A36-BFC4-589D720A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9B8-D830-4FC6-BBC5-C26AABFB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FE4-9989-4250-9F56-243CCCF4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781-259B-460E-A8C7-3914B2B4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EBE-AF87-4F5F-AF7F-6376C4A7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56E-4611-4924-8728-C0CB0CFC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6FB4-35BB-4A09-8412-AA88C01E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2EF-F575-46D3-B3FB-C7C0DC03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D22-519C-4976-A724-E53C7AF3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43F-CF1E-4CF7-A0FD-666D2BD2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081-87F8-4486-9CBB-4EC0681D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3A7A-0ED8-4E01-91B0-EE219D8E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D876-50CC-4E70-B99F-BCA2C5967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14200" y="-58680"/>
            <a:ext cx="8763120" cy="6916680"/>
            <a:chOff x="214200" y="-58680"/>
            <a:chExt cx="8763120" cy="6916680"/>
          </a:xfrm>
        </p:grpSpPr>
        <p:sp>
          <p:nvSpPr>
            <p:cNvPr id="42" name=""/>
            <p:cNvSpPr/>
            <p:nvPr/>
          </p:nvSpPr>
          <p:spPr>
            <a:xfrm>
              <a:off x="2142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236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556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953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3050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368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7176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9240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560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957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054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372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5956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0912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309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1406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72400" y="-5868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960" y="343080"/>
            <a:ext cx="8128080" cy="6286320"/>
          </a:xfrm>
          <a:prstGeom prst="rect">
            <a:avLst/>
          </a:prstGeom>
          <a:solidFill>
            <a:srgbClr val="ff99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1360" y="685800"/>
            <a:ext cx="772128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just wanted to thank you for adopting a wonderful, rescued animal from Fayette County Animal Rescue. Enclosed is a copy of your first family photo as well as any candids that we had. Thank you again and we hope that she is a wonderful addition to your family. If you have any issues or questions, don’t hesitate to give us a call at 854-25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Volunteers at Fayette County Animal Resc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214200" y="-58680"/>
            <a:ext cx="8763120" cy="6916680"/>
            <a:chOff x="214200" y="-58680"/>
            <a:chExt cx="8763120" cy="6916680"/>
          </a:xfrm>
        </p:grpSpPr>
        <p:sp>
          <p:nvSpPr>
            <p:cNvPr id="268" name=""/>
            <p:cNvSpPr/>
            <p:nvPr/>
          </p:nvSpPr>
          <p:spPr>
            <a:xfrm>
              <a:off x="2142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36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556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953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050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368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7176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240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560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957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054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372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5956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912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309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406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672400" y="-5868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228600"/>
            <a:ext cx="3810240" cy="2819520"/>
          </a:xfrm>
          <a:prstGeom prst="rect">
            <a:avLst/>
          </a:prstGeom>
          <a:solidFill>
            <a:srgbClr val="ffcc66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animal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yed/neu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isolated and cal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Ba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incision da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3733920"/>
            <a:ext cx="3809880" cy="2819160"/>
          </a:xfrm>
          <a:prstGeom prst="rect">
            <a:avLst/>
          </a:prstGeom>
          <a:solidFill>
            <a:srgbClr val="ffcc66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animal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yed/neu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isolated and cal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Ba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incision da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3733920"/>
            <a:ext cx="3810240" cy="2819160"/>
          </a:xfrm>
          <a:prstGeom prst="rect">
            <a:avLst/>
          </a:prstGeom>
          <a:solidFill>
            <a:srgbClr val="ffcc66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animal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yed/neu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isolated and cal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Ba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incision da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228600"/>
            <a:ext cx="3810240" cy="2819520"/>
          </a:xfrm>
          <a:prstGeom prst="rect">
            <a:avLst/>
          </a:prstGeom>
          <a:solidFill>
            <a:srgbClr val="ffcc66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animal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yed/neu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isolated and cal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Ba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incision da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214200" y="-58680"/>
            <a:ext cx="8763120" cy="6916680"/>
            <a:chOff x="214200" y="-58680"/>
            <a:chExt cx="8763120" cy="6916680"/>
          </a:xfrm>
        </p:grpSpPr>
        <p:sp>
          <p:nvSpPr>
            <p:cNvPr id="295" name=""/>
            <p:cNvSpPr/>
            <p:nvPr/>
          </p:nvSpPr>
          <p:spPr>
            <a:xfrm>
              <a:off x="2142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36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556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953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050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368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7176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240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560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957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054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372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5956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912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309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406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672400" y="-5868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228600"/>
            <a:ext cx="3810240" cy="281952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s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 NO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dy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o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3733920"/>
            <a:ext cx="3809880" cy="28191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s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 NO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dy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o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952880" y="3733920"/>
            <a:ext cx="3810240" cy="28191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s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 NO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dy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o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52880" y="228600"/>
            <a:ext cx="3810240" cy="281952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s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 NO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dy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o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214200" y="-58680"/>
            <a:ext cx="8763120" cy="6916680"/>
            <a:chOff x="214200" y="-58680"/>
            <a:chExt cx="8763120" cy="6916680"/>
          </a:xfrm>
        </p:grpSpPr>
        <p:sp>
          <p:nvSpPr>
            <p:cNvPr id="322" name=""/>
            <p:cNvSpPr/>
            <p:nvPr/>
          </p:nvSpPr>
          <p:spPr>
            <a:xfrm>
              <a:off x="2142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6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556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953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050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368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7176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240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560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9957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054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372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55956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912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309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406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672400" y="-5868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228600"/>
            <a:ext cx="3810240" cy="2819520"/>
          </a:xfrm>
          <a:prstGeom prst="rect">
            <a:avLst/>
          </a:prstGeom>
          <a:solidFill>
            <a:srgbClr val="ff99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y Safet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e, Fe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ard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O EXCEPTION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Inspection of Fence Must b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ted Prior To Ad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3733920"/>
            <a:ext cx="3809880" cy="2819160"/>
          </a:xfrm>
          <a:prstGeom prst="rect">
            <a:avLst/>
          </a:prstGeom>
          <a:solidFill>
            <a:srgbClr val="ff99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y Safet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e, Fe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ard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EXCEPT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Inspection of Fence Must b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ted Prior To Ad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3733920"/>
            <a:ext cx="3810240" cy="2819160"/>
          </a:xfrm>
          <a:prstGeom prst="rect">
            <a:avLst/>
          </a:prstGeom>
          <a:solidFill>
            <a:srgbClr val="ff99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y Safet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e, Fe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ard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EXCEPT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Inspection of Fence Must b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ted Prior To Ad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52880" y="228600"/>
            <a:ext cx="3810240" cy="2819520"/>
          </a:xfrm>
          <a:prstGeom prst="rect">
            <a:avLst/>
          </a:prstGeom>
          <a:solidFill>
            <a:srgbClr val="ff99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y Safet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e, Fe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ard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EXCEPT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Inspection of Fence Must b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ted Prior To Ad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214200" y="-58680"/>
            <a:ext cx="8763120" cy="6916680"/>
            <a:chOff x="214200" y="-58680"/>
            <a:chExt cx="8763120" cy="6916680"/>
          </a:xfrm>
        </p:grpSpPr>
        <p:sp>
          <p:nvSpPr>
            <p:cNvPr id="349" name=""/>
            <p:cNvSpPr/>
            <p:nvPr/>
          </p:nvSpPr>
          <p:spPr>
            <a:xfrm>
              <a:off x="2142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36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556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953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3050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368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7176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240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560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957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054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372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5956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912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309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406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72400" y="-5868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0880" y="228600"/>
            <a:ext cx="3810240" cy="28195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e, Fenced Y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Prefe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rtment or Non-Fe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rd May be Consid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is Animal ON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k us for de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52880" y="228600"/>
            <a:ext cx="3810240" cy="28195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e, Fenced Y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Prefe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rtment or Non-Fe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rd May be Consid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is Animal ON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k us for de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3733920"/>
            <a:ext cx="3810240" cy="28191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e, Fenced Y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Prefe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rtment or Non-Fe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rd May be Consid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is Animal ON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k us for de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733920"/>
            <a:ext cx="3810240" cy="28191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e, Fenced Y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Prefe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rtment or Non-Fe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rd May be Consid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is Animal ON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k us for de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214200" y="-58680"/>
            <a:ext cx="8763120" cy="6916680"/>
            <a:chOff x="214200" y="-58680"/>
            <a:chExt cx="8763120" cy="6916680"/>
          </a:xfrm>
        </p:grpSpPr>
        <p:sp>
          <p:nvSpPr>
            <p:cNvPr id="376" name=""/>
            <p:cNvSpPr/>
            <p:nvPr/>
          </p:nvSpPr>
          <p:spPr>
            <a:xfrm>
              <a:off x="2142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236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556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953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050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368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76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240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560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957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054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372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55956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912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309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406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672400" y="-5868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0880" y="228600"/>
            <a:ext cx="4876920" cy="3505320"/>
          </a:xfrm>
          <a:prstGeom prst="rect">
            <a:avLst/>
          </a:prstGeom>
          <a:solidFill>
            <a:srgbClr val="ff99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yette County Animal Resc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ssville, 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1/854-25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it our website for more 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our resc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fayettefcar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63868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14200" y="-58680"/>
            <a:ext cx="8763120" cy="6916680"/>
            <a:chOff x="214200" y="-58680"/>
            <a:chExt cx="8763120" cy="6916680"/>
          </a:xfrm>
        </p:grpSpPr>
        <p:sp>
          <p:nvSpPr>
            <p:cNvPr id="63" name=""/>
            <p:cNvSpPr/>
            <p:nvPr/>
          </p:nvSpPr>
          <p:spPr>
            <a:xfrm>
              <a:off x="2142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36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556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53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050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368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7176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240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560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57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054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372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5956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912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309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406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672400" y="-5868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7960" y="343080"/>
            <a:ext cx="8128080" cy="6286320"/>
          </a:xfrm>
          <a:prstGeom prst="rect">
            <a:avLst/>
          </a:prstGeom>
          <a:solidFill>
            <a:srgbClr val="ff99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1360" y="685800"/>
            <a:ext cx="772128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Volunteers Neede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difference! Volunteer with Fayette County Animal Rescue. We are a no-kill shelter serving Fayette County, TN. We have a facility in Rossville however we have events and volunteer opportunities all over Shelby &amp; Fayette County. Ask us for mor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14200" y="-58680"/>
            <a:ext cx="8763120" cy="6916680"/>
            <a:chOff x="214200" y="-58680"/>
            <a:chExt cx="8763120" cy="6916680"/>
          </a:xfrm>
        </p:grpSpPr>
        <p:sp>
          <p:nvSpPr>
            <p:cNvPr id="84" name=""/>
            <p:cNvSpPr/>
            <p:nvPr/>
          </p:nvSpPr>
          <p:spPr>
            <a:xfrm>
              <a:off x="2142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36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556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953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050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368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7176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240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560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957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054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372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5956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912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309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406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72400" y="-5868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960" y="343080"/>
            <a:ext cx="8128080" cy="6286320"/>
          </a:xfrm>
          <a:prstGeom prst="rect">
            <a:avLst/>
          </a:prstGeom>
          <a:solidFill>
            <a:srgbClr val="66cc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1360" y="685800"/>
            <a:ext cx="772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consider adopting one of our rescu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9960" y="1936800"/>
            <a:ext cx="79405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have ample time to give them love &amp; 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are prepared to make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felo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mitment to your new p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understand that behavior issues may occur and you are willing to address them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provide monthly heartworm and flea &amp; tick preventative and adequate medical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understand the financial commitment involved with owning a p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214200" y="-58680"/>
            <a:ext cx="8763120" cy="6916680"/>
            <a:chOff x="214200" y="-58680"/>
            <a:chExt cx="8763120" cy="6916680"/>
          </a:xfrm>
        </p:grpSpPr>
        <p:sp>
          <p:nvSpPr>
            <p:cNvPr id="106" name=""/>
            <p:cNvSpPr/>
            <p:nvPr/>
          </p:nvSpPr>
          <p:spPr>
            <a:xfrm>
              <a:off x="2142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36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556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953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050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368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7176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240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560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957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054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372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5956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912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309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406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672400" y="-5868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7960" y="343080"/>
            <a:ext cx="8128080" cy="62863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1360" y="685800"/>
            <a:ext cx="772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uch does it cost annually to properly care for a d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752480"/>
            <a:ext cx="367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-22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a/Tick Pre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25-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tworm Pre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50-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25-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50-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ys &amp; B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Med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500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1752480"/>
            <a:ext cx="367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46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3-44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6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a/Tick Pre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35-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6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tworm Pre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65-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6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25-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6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6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ys &amp; B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6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Med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6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62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1337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4191120"/>
            <a:ext cx="367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4-88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a/Tick Pre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65-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tworm Pre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25-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ys &amp; B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Med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72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32480" y="4191120"/>
            <a:ext cx="367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46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9-132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6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a/Tick Pre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75-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6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tworm Pre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75-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6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50-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6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6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ys &amp; B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6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Med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6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2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214200" y="-58680"/>
            <a:ext cx="8763120" cy="6916680"/>
            <a:chOff x="214200" y="-58680"/>
            <a:chExt cx="8763120" cy="6916680"/>
          </a:xfrm>
        </p:grpSpPr>
        <p:sp>
          <p:nvSpPr>
            <p:cNvPr id="133" name=""/>
            <p:cNvSpPr/>
            <p:nvPr/>
          </p:nvSpPr>
          <p:spPr>
            <a:xfrm>
              <a:off x="2142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6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556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953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050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368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7176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240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560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957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54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372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956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912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309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406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672400" y="-5868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28600"/>
            <a:ext cx="3810240" cy="28195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ed Ad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X Da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733920"/>
            <a:ext cx="3809880" cy="281916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ed Ad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X Da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3733920"/>
            <a:ext cx="3810240" cy="281916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ed Ad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X Da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28600"/>
            <a:ext cx="3810240" cy="28195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ed Ad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X Da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214200" y="-58680"/>
            <a:ext cx="8763120" cy="6916680"/>
            <a:chOff x="214200" y="-58680"/>
            <a:chExt cx="8763120" cy="6916680"/>
          </a:xfrm>
        </p:grpSpPr>
        <p:sp>
          <p:nvSpPr>
            <p:cNvPr id="160" name=""/>
            <p:cNvSpPr/>
            <p:nvPr/>
          </p:nvSpPr>
          <p:spPr>
            <a:xfrm>
              <a:off x="2142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36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556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953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050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368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7176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240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560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957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054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372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5956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912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309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1406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72400" y="-5868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228600"/>
            <a:ext cx="3810240" cy="28195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ed Ad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X Da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3733920"/>
            <a:ext cx="3809880" cy="28191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ed Ad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X Da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3733920"/>
            <a:ext cx="3810240" cy="28191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ed Ad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 Da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228600"/>
            <a:ext cx="3810240" cy="28195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ed Ad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X Da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214200" y="-58680"/>
            <a:ext cx="8763120" cy="6916680"/>
            <a:chOff x="214200" y="-58680"/>
            <a:chExt cx="8763120" cy="6916680"/>
          </a:xfrm>
        </p:grpSpPr>
        <p:sp>
          <p:nvSpPr>
            <p:cNvPr id="187" name=""/>
            <p:cNvSpPr/>
            <p:nvPr/>
          </p:nvSpPr>
          <p:spPr>
            <a:xfrm>
              <a:off x="2142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236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556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953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050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368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7176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240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560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957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054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372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5956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912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309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406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672400" y="-5868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28600"/>
            <a:ext cx="3810240" cy="2819520"/>
          </a:xfrm>
          <a:prstGeom prst="rect">
            <a:avLst/>
          </a:prstGeom>
          <a:solidFill>
            <a:srgbClr val="ff99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ed Pup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X Da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3733920"/>
            <a:ext cx="3809880" cy="2819160"/>
          </a:xfrm>
          <a:prstGeom prst="rect">
            <a:avLst/>
          </a:prstGeom>
          <a:solidFill>
            <a:srgbClr val="ff99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ed Pup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X Da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3733920"/>
            <a:ext cx="3810240" cy="2819160"/>
          </a:xfrm>
          <a:prstGeom prst="rect">
            <a:avLst/>
          </a:prstGeom>
          <a:solidFill>
            <a:srgbClr val="ff99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ed Pup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X Da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228600"/>
            <a:ext cx="3810240" cy="2819520"/>
          </a:xfrm>
          <a:prstGeom prst="rect">
            <a:avLst/>
          </a:prstGeom>
          <a:solidFill>
            <a:srgbClr val="ff99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ed Pup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X Da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214200" y="-58680"/>
            <a:ext cx="8763120" cy="6916680"/>
            <a:chOff x="214200" y="-58680"/>
            <a:chExt cx="8763120" cy="6916680"/>
          </a:xfrm>
        </p:grpSpPr>
        <p:sp>
          <p:nvSpPr>
            <p:cNvPr id="214" name=""/>
            <p:cNvSpPr/>
            <p:nvPr/>
          </p:nvSpPr>
          <p:spPr>
            <a:xfrm>
              <a:off x="2142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36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556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953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050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368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7176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240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560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957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054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372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5956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912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309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406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672400" y="-5868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228600"/>
            <a:ext cx="3810240" cy="2819520"/>
          </a:xfrm>
          <a:prstGeom prst="rect">
            <a:avLst/>
          </a:prstGeom>
          <a:solidFill>
            <a:srgbClr val="cc66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ukanu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X Da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3733920"/>
            <a:ext cx="3809880" cy="2819160"/>
          </a:xfrm>
          <a:prstGeom prst="rect">
            <a:avLst/>
          </a:prstGeom>
          <a:solidFill>
            <a:srgbClr val="cc66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ukanu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X Da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3733920"/>
            <a:ext cx="3810240" cy="2819160"/>
          </a:xfrm>
          <a:prstGeom prst="rect">
            <a:avLst/>
          </a:prstGeom>
          <a:solidFill>
            <a:srgbClr val="cc66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ukanu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X Da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228600"/>
            <a:ext cx="3810240" cy="2819520"/>
          </a:xfrm>
          <a:prstGeom prst="rect">
            <a:avLst/>
          </a:prstGeom>
          <a:solidFill>
            <a:srgbClr val="cc66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ukanu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X Da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214200" y="-58680"/>
            <a:ext cx="8763120" cy="6916680"/>
            <a:chOff x="214200" y="-58680"/>
            <a:chExt cx="8763120" cy="6916680"/>
          </a:xfrm>
        </p:grpSpPr>
        <p:sp>
          <p:nvSpPr>
            <p:cNvPr id="241" name=""/>
            <p:cNvSpPr/>
            <p:nvPr/>
          </p:nvSpPr>
          <p:spPr>
            <a:xfrm>
              <a:off x="2142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36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556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953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050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368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7176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2400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560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957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054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3720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5956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91280" y="-4284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0920" y="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40680" y="0"/>
              <a:ext cx="30456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72400" y="-58680"/>
              <a:ext cx="304920" cy="6858000"/>
            </a:xfrm>
            <a:prstGeom prst="rect">
              <a:avLst/>
            </a:prstGeom>
            <a:solidFill>
              <a:srgbClr val="333399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228600"/>
            <a:ext cx="3810240" cy="28195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d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3733920"/>
            <a:ext cx="3809880" cy="28191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d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3733920"/>
            <a:ext cx="3810240" cy="28191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d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52880" y="228600"/>
            <a:ext cx="3810240" cy="28195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d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1:30:31Z</dcterms:created>
  <dc:creator>136307</dc:creator>
  <dc:description/>
  <dc:language>en-US</dc:language>
  <cp:lastModifiedBy>136307</cp:lastModifiedBy>
  <dcterms:modified xsi:type="dcterms:W3CDTF">2007-01-27T16:36:47Z</dcterms:modified>
  <cp:revision>11</cp:revision>
  <dc:subject/>
  <dc:title>Slide 1</dc:title>
</cp:coreProperties>
</file>