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716000" cy="64008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85F-7D73-4773-A7E8-07FBBDD5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1234440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00800"/>
            <a:ext cx="1234440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87A-D843-4B28-BB72-D1DAECC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1136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008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11360" y="37008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DD4-2444-462B-A895-0FC1F420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9640" y="14940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33480" y="14940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008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9640" y="37008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33480" y="3700800"/>
            <a:ext cx="397476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9AF-AF8E-47DC-985C-C40EBEAF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94000"/>
            <a:ext cx="12344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AE3-8F28-4ECC-A50C-220EFBF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1234440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4E-4A3F-494C-8FBD-D199468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602388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11360" y="1494000"/>
            <a:ext cx="602388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97A-9E8A-41F1-B880-69C65B0D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979-41CA-43D5-9AAE-74D214D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5240"/>
            <a:ext cx="12344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D44-0572-4F62-A560-E6569B0F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11360" y="1494000"/>
            <a:ext cx="602388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008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E44-57B3-414C-9F6E-EDABE07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602388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1136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11360" y="37008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7DE-EF0F-40D7-8050-5B0FE1D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11360" y="1494000"/>
            <a:ext cx="602388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00800"/>
            <a:ext cx="12344400" cy="201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421-570C-4FA7-A8EF-A9A2EE3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12344400" cy="106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94000"/>
            <a:ext cx="12344400" cy="422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 fontScale="99000"/>
          </a:bodyPr>
          <a:p>
            <a:pPr marL="348840" indent="-3488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288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34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29720" indent="-2325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94840" indent="-232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94840" indent="-232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94840" indent="-232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829480"/>
            <a:ext cx="3200400" cy="44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5829480"/>
            <a:ext cx="4343400" cy="44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5829480"/>
            <a:ext cx="3200400" cy="44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4A471B-33B5-4B35-B5A6-26154CC01DB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543480" y="2976480"/>
            <a:ext cx="1400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ctr">
            <a:spAutoFit/>
          </a:bodyPr>
          <a:p>
            <a:pPr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27720" y="1023840"/>
            <a:ext cx="593568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marL="85680" indent="-85680">
              <a:lnSpc>
                <a:spcPct val="12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offer refuge, medical care, nourishment and an opportunity for a second chance for life to injured and abused ani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foster a public sentiment of humanity and gentleness toward animals and protect them from cruelty, neglect, carelessness and ignor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promote responsible pet ownership through humane edu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enhance the quality of human life with animal companionship.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5480" y="663480"/>
            <a:ext cx="60958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Fayette County Animal Resc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4520" y="5095800"/>
            <a:ext cx="221004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Save a lif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Spay or Neu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Your Pet Tod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5480" y="628560"/>
            <a:ext cx="0" cy="526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5480" y="4935600"/>
            <a:ext cx="1677960" cy="999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AYETTE COU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NIMAL RESC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ssville, T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1/854-25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fayettefcar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39600" y="5095800"/>
            <a:ext cx="25095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Mak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Differenc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Volunte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06720" y="4935600"/>
            <a:ext cx="1677960" cy="999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AYETTE COU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NIMAL RESC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ssville, T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1/854-25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fayettefcar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2240" y="4127400"/>
            <a:ext cx="1201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o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304800" y="4127400"/>
            <a:ext cx="871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l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42640" y="4114800"/>
            <a:ext cx="9478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39360" y="4140360"/>
            <a:ext cx="97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ejac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63000" y="4127400"/>
            <a:ext cx="1201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spAutoFit/>
          </a:bodyPr>
          <a:p>
            <a:pPr algn="ctr">
              <a:tabLst>
                <a:tab algn="l" pos="0"/>
                <a:tab algn="l" pos="706320"/>
                <a:tab algn="l" pos="1413000"/>
                <a:tab algn="l" pos="2119320"/>
                <a:tab algn="l" pos="2825640"/>
                <a:tab algn="l" pos="3532320"/>
                <a:tab algn="l" pos="4238640"/>
                <a:tab algn="l" pos="4944960"/>
                <a:tab algn="l" pos="5651640"/>
                <a:tab algn="l" pos="6357960"/>
                <a:tab algn="l" pos="7064280"/>
                <a:tab algn="l" pos="7770960"/>
                <a:tab algn="l" pos="8477280"/>
                <a:tab algn="l" pos="9183600"/>
                <a:tab algn="l" pos="9890280"/>
                <a:tab algn="l" pos="10596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o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85680" y="3463920"/>
            <a:ext cx="5256360" cy="134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t">
            <a:spAutoFit/>
          </a:bodyPr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CAR Adoption D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aturday of the Month – Petsmart Wolfchase 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aturday of the Month – Petsmart Hacks Cross &amp; Winch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aturday of the Month – Petco on Germantown in Cor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aturday of the Month – Petco in Collier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call today for an appointment to visit our shel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35830" r="0" b="0"/>
          <a:stretch/>
        </p:blipFill>
        <p:spPr>
          <a:xfrm>
            <a:off x="0" y="-3240"/>
            <a:ext cx="7410600" cy="442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5686" t="34885" r="0" b="0"/>
          <a:stretch/>
        </p:blipFill>
        <p:spPr>
          <a:xfrm>
            <a:off x="7408800" y="0"/>
            <a:ext cx="6248520" cy="44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3480" y="376200"/>
            <a:ext cx="382320" cy="562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3333320" y="376200"/>
            <a:ext cx="382680" cy="5622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480" y="6002280"/>
            <a:ext cx="5622840" cy="38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850000" y="6002280"/>
            <a:ext cx="5622840" cy="38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62254" t="4101" r="0" b="0"/>
          <a:stretch/>
        </p:blipFill>
        <p:spPr>
          <a:xfrm>
            <a:off x="11593440" y="6002280"/>
            <a:ext cx="2122560" cy="3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rcRect l="81254" t="0" r="0" b="0"/>
          <a:stretch/>
        </p:blipFill>
        <p:spPr>
          <a:xfrm>
            <a:off x="723960" y="488952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rcRect l="81254" t="0" r="0" b="0"/>
          <a:stretch/>
        </p:blipFill>
        <p:spPr>
          <a:xfrm>
            <a:off x="7537320" y="487368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78600" y="4386240"/>
            <a:ext cx="634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ver 100 cats, dogs &amp; horses available for adopti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2246120" y="3092400"/>
            <a:ext cx="1014120" cy="103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6200000">
            <a:off x="3880080" y="1891800"/>
            <a:ext cx="29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6999120" y="3110040"/>
            <a:ext cx="1087560" cy="103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2185920" y="584280"/>
            <a:ext cx="2922480" cy="275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rcRect l="0" t="0" r="15171" b="0"/>
          <a:stretch/>
        </p:blipFill>
        <p:spPr>
          <a:xfrm>
            <a:off x="8193240" y="3116160"/>
            <a:ext cx="1170000" cy="10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9470880" y="3117960"/>
            <a:ext cx="1316160" cy="1035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10895040" y="3098880"/>
            <a:ext cx="12430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15:30:38Z</dcterms:created>
  <dc:creator>136307</dc:creator>
  <dc:description/>
  <dc:language>en-US</dc:language>
  <cp:lastModifiedBy>136307</cp:lastModifiedBy>
  <dcterms:modified xsi:type="dcterms:W3CDTF">2008-12-13T04:44:21Z</dcterms:modified>
  <cp:revision>9</cp:revision>
  <dc:subject/>
  <dc:title>Slide 1</dc:title>
</cp:coreProperties>
</file>