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795-4E6D-4688-8272-B9D31D4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611-20B3-4964-9A94-3D3EC579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765-225E-40EA-B874-11300304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89F-89E3-4570-B204-3074AB27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45A-CA8A-436C-B062-8CF2A063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34B8-B36B-439D-97DF-F92571A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00C-8C9A-4165-B5A6-F8A9645E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C5E-EC10-4157-90FD-2A582B6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BD1-92C7-4C0D-BA76-FDE6478E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AF77-05E5-4531-98C3-6D15BBE4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F76-C980-47AA-A553-9C79547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A63-715E-4352-86EB-4EAD7CA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0EA9-C37E-4796-972E-9F9C590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D407-0E6D-42E3-9E01-03921A2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44FD-3083-459E-9857-0F5DE41A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DC8E-DD82-49C4-BAD4-298EFCAD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BCC-FD1E-40ED-96A0-05D2128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FDF-8A11-4B6B-A3F0-820956B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38F-E7DA-405F-BBF4-AB4CD03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CC7-E82E-4C42-B349-20E3541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627-C6A6-4E5F-B365-8767C79E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AEC-11A4-4F2C-A43C-68B4909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F53-9097-459E-A396-A54813A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474-149A-4400-B7A0-99BEDB9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DD2-E115-4080-B221-7253320E4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D43-6F64-4EB4-8949-6714DA9C0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C:/WINDOWS/All%20Users/Application%20Data/Microsoft/Works/Portfolio/Sample.dir/70/Portfolio%20file%201.emf" TargetMode="External"/><Relationship Id="rId2" Type="http://schemas.openxmlformats.org/officeDocument/2006/relationships/hyperlink" Target="file:///C:/WINDOWS/All%20Users/Application%20Data/Microsoft/Works/Portfolio/Sample.dir/70/Portfolio%20file%201.emf" TargetMode="External"/><Relationship Id="rId3" Type="http://schemas.openxmlformats.org/officeDocument/2006/relationships/package" Target="../embeddings/oleObject1.ppt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N OVERVIEW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othy P. Morris, D.O., F.A.C.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OUS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HEART C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HT HEART C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CORONARY ANGIOGRA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IMITATIONS OF ANGIOGRAPH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LCERATED PLAQU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TIC CATHETE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RY ANGIOPLA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ORTIC AND PERIPHERAL ANGIOPLA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UTANEOUS CLOSURE OF SH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 BODY REM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ION OF COLLATERAL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DICATIONS FOR PT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, MILD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CARDIAC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E MYOCARDIAL ISCH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 MEDIC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LERANT OF MEDIC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HIGH RISK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DICATIONS FOR PT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TABLE ANGINA PECTO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ED MEDIC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REA VIABLE MYOCAR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CUE PT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PTCA IN  ACUTE 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OGENIC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86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 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TCA PROCEDU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ORAL ARTERIAL/ VENOUS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GUIDE CATH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RE LE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LOON ANGIOPLAS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L ARTERIOTOM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HARMACOLOGIC THERAP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P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YCOPROTEIN 2B-3A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C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V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OF RISK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371600" y="0"/>
          <a:ext cx="6400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ED STATES 1.2 MILLION DIAGNOSTIC CATHETERIZATIONS PE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80,000 CORONARY ANGIOPLASTIES PE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MILLION WORLD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L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OTECTED LEFT 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ION LESS THEN 5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URGICAL BAC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USELY DISEASED SV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USELY DISEASED NATIVE VESSELS WITH GOOD DISTAL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(continu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EDING DIAS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TCA OF NON-INFARCT VESSEL DURING PRIMARY PT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RISK ANATOMY FOR ABRUPT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E VESSEL SUPPLYING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ICS WITH MULTIVESSEL D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MAJOR COMPLICA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TH (0.5%-1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-WAVE MYOCARDIAL INFARCTION ( 1%-3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ERGENT SURGERY (1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CEDURAL COMPLICA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CLOSURE (4%-8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MB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BO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ABLE WITH S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HORT TERM RESUL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RATES (90%-9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ENOS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2-4 MONTHS ,RARE AFTER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(32%-5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NTS  ( 20%-3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00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8080" y="228600"/>
            <a:ext cx="7620120" cy="6248520"/>
            <a:chOff x="838080" y="228600"/>
            <a:chExt cx="7620120" cy="62485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838080" y="228600"/>
              <a:ext cx="762012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838080" y="228600"/>
              <a:ext cx="7620120" cy="624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1981080"/>
            <a:ext cx="8686800" cy="4876920"/>
            <a:chOff x="228600" y="1981080"/>
            <a:chExt cx="8686800" cy="487692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228600" y="1981080"/>
              <a:ext cx="86868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228600" y="1981080"/>
              <a:ext cx="868680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NG TERM RESUL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VI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YEAR ( 9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YEARS (88%-9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YEARS (78%-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-FREE SURVI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YEAR (81%-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YEARS ( 79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 YEARS ( 6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EW DEVIC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AL ATHER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AL ATHER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UMINAL ATHER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GIO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IR STEN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C:\WINDOWS\All Users\Application Data\Microsoft\Works\Portfolio\Sample.dir\70\Portfolio file 1.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e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70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SSMAN 19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st RIGHT HEART C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IMMERMAN 19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st LEFT HEART C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DINGER 19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ES 19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UENTZIG 1977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57160" y="1457280"/>
            <a:ext cx="7429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ITRAL VALVULOPLAST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OTID STENOS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OTID STENOSIS AFTER STENTING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YMP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STRESS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DDEN CARDIAC 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S IN HIGH RISK PROFFE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OR TO SURGERY WITH BORDERLINE POSITIVE NONINVASIVE STRESS TESTS AND RISK FACTO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UBCLAVIAN STENO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UBCLAVIAN STENOSIS POST PT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M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GY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LY GROWING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CA IDEAL FOR SINGLE VESSEL AND 2-VESSEL DISEASE WITHOUT PROXIMAL LAD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NTS USED IN 80% PTCA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ENOSIS A LIMITING F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RONARY PTA  EXP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ED MEDIC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TABLE ANGINA PECTO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ZMETAL’S ANG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INA PECTO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LERANCE TO M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RISK OCCU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DLY ABNORMAL STRESS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VASCULAR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YPICAL CHEST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RISK NON-INVASIVE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PECTED CORONARY VASOSP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VE HEART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 MYOCARDIAL INFAR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ED THROMBOLYTIC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PECTED CO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AL CARDI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VULAR HEART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NON-INVASIVE STRESS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VALVE RE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  &gt; 35 y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ALES  &gt; 40 y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PECTED CORONARY ANOMA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 &gt; 40 y.o., POST MENOPAUSAL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04:13:12Z</dcterms:created>
  <dc:creator>Timothy P. Morris, D.O.</dc:creator>
  <dc:description/>
  <dc:language>en-US</dc:language>
  <cp:lastModifiedBy>Unknown User</cp:lastModifiedBy>
  <dcterms:modified xsi:type="dcterms:W3CDTF">2001-09-14T01:53:09Z</dcterms:modified>
  <cp:revision>54</cp:revision>
  <dc:subject/>
  <dc:title>No Slide Title</dc:title>
</cp:coreProperties>
</file>