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5AC6C-982E-42E9-B302-B4FE6A6B8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Medialoft’s Year 2005 company meet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happy to share with you a brief overview of the success Medialoft has achieved in the last yea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our record year in 2003, Medialoft’s 2004 goals were very aggressive. Our overall product sales were up an amazing 22%, with the eastern division edging out the western division. Of course, they did get 2 of the 3 new stores, so they had an advantage ther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book sales for Medialoft East were remarkable. We had been concerned about the growth of online booksellers, but there appears to be no substitute for actually holding a book and sipping a cup of cappuccin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all for your hard work and support, and I look forward to working with you in the current millennium.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40754-582A-4225-A64E-77D9E7C7A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14C58-6A8D-4EE1-8AEC-5590AE614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9C50D-DE1A-491F-9FA1-7A8CE4D49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107F8-B889-49D3-BF12-160CAE3F8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E38FA-E96D-4F6C-A5B9-3FB56EE6DC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6C573-D50B-4B78-8420-C0F4AAAA5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70A66-AAD2-4F6D-B1F9-E2A6D35CD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8CAD5-4D8A-48CD-A479-1DB96224D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3706E-20A1-4775-B9CB-A751C5107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7A9E9-07C7-4B47-A8A2-F4F189C4E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9C67F-5C0B-4E3A-80B1-DB7211072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FFB0A-84BB-415E-9D0B-EDD4D34CB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C180F-2925-4F9B-B89C-3E910683E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E2E64-84B1-41F1-81A5-1D71EF6AA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40F1B-3A9F-411F-B124-EA1B0F77A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22D2C4-EC24-4B65-BE46-27648BD2B7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09094B-F185-49C0-96C7-ABA1F2F948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792BB-C5C7-4639-9D76-47FE69C2C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6EAA4-DCA5-4C15-814B-D8D950C02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FE27B-7831-486D-AD6B-B67D54540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6175B-B495-45E7-8B85-20BECF690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A2E20-21F4-4930-A707-40A8E431D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935E0-82F8-42BF-AA2C-2290B7ED3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3AAC8-3B2A-4248-9BAA-6C3CEF1E6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6185-252F-4CB4-A809-A312690F92AB}"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8C70D-DA38-43E8-AD41-3966CA8120F3}" type="slidenum">
              <a:rPr b="0" lang="en-US"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ediaLoft </a:t>
            </a:r>
            <a:endParaRPr b="0" lang="en-US" sz="4400" spc="-1" strike="noStrike">
              <a:solidFill>
                <a:srgbClr val="660066"/>
              </a:solidFill>
              <a:latin typeface="Tahoma"/>
            </a:endParaRPr>
          </a:p>
        </p:txBody>
      </p:sp>
      <p:sp>
        <p:nvSpPr>
          <p:cNvPr id="144" name="PlaceHolder 2"/>
          <p:cNvSpPr>
            <a:spLocks noGrp="1"/>
          </p:cNvSpPr>
          <p:nvPr>
            <p:ph type="subTitle"/>
          </p:nvPr>
        </p:nvSpPr>
        <p:spPr>
          <a:xfrm>
            <a:off x="1273320" y="3728880"/>
            <a:ext cx="6400800" cy="1371600"/>
          </a:xfrm>
          <a:prstGeom prst="rect">
            <a:avLst/>
          </a:prstGeom>
          <a:noFill/>
          <a:ln w="0">
            <a:noFill/>
          </a:ln>
        </p:spPr>
        <p:txBody>
          <a:bodyPr lIns="90000" rIns="90000" tIns="46800" bIns="46800" anchor="t"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2004 Sales Report to Managers</a:t>
            </a:r>
            <a:endParaRPr b="0" lang="en-US" sz="3200" spc="-1" strike="noStrike">
              <a:solidFill>
                <a:srgbClr val="545472"/>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Rachel Greenberg</a:t>
            </a:r>
            <a:endParaRPr b="0" lang="en-US" sz="3200" spc="-1" strike="noStrike">
              <a:solidFill>
                <a:srgbClr val="545472"/>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General Sales Manager</a:t>
            </a:r>
            <a:endParaRPr b="0" lang="en-US" sz="3200" spc="-1" strike="noStrike">
              <a:solidFill>
                <a:srgbClr val="545472"/>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June 1, 2000</a:t>
            </a: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Rachel Greenberg</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2004:A Banner Year</a:t>
            </a:r>
            <a:endParaRPr b="0" lang="en-US" sz="4400" spc="-1" strike="noStrike">
              <a:solidFill>
                <a:srgbClr val="660066"/>
              </a:solidFill>
              <a:latin typeface="Tahoma"/>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Overall sales set new record</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3 new locations </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Book sales post biggest increase</a:t>
            </a:r>
            <a:endParaRPr b="0" lang="en-US" sz="3200" spc="-1" strike="noStrike">
              <a:solidFill>
                <a:srgbClr val="545472"/>
              </a:solidFill>
              <a:latin typeface="Tahoma"/>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D’s and videos close behind</a:t>
            </a:r>
            <a:endParaRPr b="0" lang="en-US" sz="3200" spc="-1" strike="noStrike">
              <a:solidFill>
                <a:srgbClr val="545472"/>
              </a:solidFill>
              <a:latin typeface="Tahoma"/>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afe’ sales steady</a:t>
            </a:r>
            <a:endParaRPr b="0" lang="en-US" sz="3200" spc="-1" strike="noStrike">
              <a:solidFill>
                <a:srgbClr val="545472"/>
              </a:solidFill>
              <a:latin typeface="Tahoma"/>
            </a:endParaRPr>
          </a:p>
          <a:p>
            <a:pPr marL="34308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Rachel Greenberg</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2004 Sales by Division</a:t>
            </a:r>
            <a:endParaRPr b="0" lang="en-US" sz="4400" spc="-1" strike="noStrike">
              <a:solidFill>
                <a:srgbClr val="660066"/>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Overall product sales up 22%</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Medialoft East sales up 25%</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Medialoft West sales up 21%</a:t>
            </a:r>
            <a:endParaRPr b="0" lang="en-US" sz="3200" spc="-1" strike="noStrike">
              <a:solidFill>
                <a:srgbClr val="545472"/>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Rachel Greenberg</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Star: Medialoft East</a:t>
            </a:r>
            <a:endParaRPr b="0" lang="en-US" sz="4400" spc="-1" strike="noStrike">
              <a:solidFill>
                <a:srgbClr val="660066"/>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Book sales up 29%</a:t>
            </a:r>
            <a:endParaRPr b="0" lang="en-US" sz="3200" spc="-1" strike="noStrike">
              <a:solidFill>
                <a:srgbClr val="545472"/>
              </a:solidFill>
              <a:latin typeface="Tahoma"/>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Video sales up 20%</a:t>
            </a:r>
            <a:endParaRPr b="0" lang="en-US" sz="3200" spc="-1" strike="noStrike">
              <a:solidFill>
                <a:srgbClr val="545472"/>
              </a:solidFill>
              <a:latin typeface="Tahoma"/>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D sales up 25%</a:t>
            </a: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Rachel Greenberg</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1T14:16:10Z</dcterms:created>
  <dc:creator>RHS</dc:creator>
  <dc:description/>
  <dc:language>en-US</dc:language>
  <cp:lastModifiedBy>RHS</cp:lastModifiedBy>
  <dcterms:modified xsi:type="dcterms:W3CDTF">2004-06-01T14:43:11Z</dcterms:modified>
  <cp:revision>5</cp:revision>
  <dc:subject/>
  <dc:title>PowerPoint Presentation</dc:title>
</cp:coreProperties>
</file>