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9110-E7A0-4FD8-89DC-BAB2095B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313A-E858-4CA6-92E2-2E3B7548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FDAF-AD45-4133-A1B7-90F1B1B64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FA57-5833-4274-A512-A130A81F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5E1E-82BE-4B8E-91F2-DDBDC64C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DEB1-6B01-4937-826E-47EC0854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7C25-4FFB-481A-861D-8CCF9BBB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891C-CDBB-4571-9399-911149A7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5A32-8DA0-43FE-9484-BEB08534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8CFA-5AC3-415F-8C68-56A6FE30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7A15-35AF-4515-88A4-7208F155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5FAC-89A7-42EB-9A57-6323668B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5511-DA77-4225-B62B-709C2A62AFB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slide5.xml"/><Relationship Id="rId25" Type="http://schemas.openxmlformats.org/officeDocument/2006/relationships/slide" Target=""/><Relationship Id="rId26" Type="http://schemas.openxmlformats.org/officeDocument/2006/relationships/slide" Target="slide7.xml"/><Relationship Id="rId27" Type="http://schemas.openxmlformats.org/officeDocument/2006/relationships/slide" Target="slide9.xml"/><Relationship Id="rId28" Type="http://schemas.openxmlformats.org/officeDocument/2006/relationships/slide" Target="slide11.xml"/><Relationship Id="rId29" Type="http://schemas.openxmlformats.org/officeDocument/2006/relationships/slide" Target="slide13.xml"/><Relationship Id="rId30" Type="http://schemas.openxmlformats.org/officeDocument/2006/relationships/slide" Target="slide15.xml"/><Relationship Id="rId31" Type="http://schemas.openxmlformats.org/officeDocument/2006/relationships/slide" Target="slide17.xml"/><Relationship Id="rId32" Type="http://schemas.openxmlformats.org/officeDocument/2006/relationships/slide" Target="slide19.xml"/><Relationship Id="rId33" Type="http://schemas.openxmlformats.org/officeDocument/2006/relationships/slide" Target="slide21.xml"/><Relationship Id="rId34" Type="http://schemas.openxmlformats.org/officeDocument/2006/relationships/slide" Target="slide23.xml"/><Relationship Id="rId35" Type="http://schemas.openxmlformats.org/officeDocument/2006/relationships/slide" Target="slide19.xml"/><Relationship Id="rId36" Type="http://schemas.openxmlformats.org/officeDocument/2006/relationships/slide" Target="slide27.xml"/><Relationship Id="rId37" Type="http://schemas.openxmlformats.org/officeDocument/2006/relationships/slide" Target="slide31.xml"/><Relationship Id="rId38" Type="http://schemas.openxmlformats.org/officeDocument/2006/relationships/slide" Target="slide29.xml"/><Relationship Id="rId39" Type="http://schemas.openxmlformats.org/officeDocument/2006/relationships/image" Target="../media/image3.jpeg"/><Relationship Id="rId4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indows.ucar.edu/tour/link=/saturn/images/saturn_rings_big_jpg_image.html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" Target="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8380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Eras Demi ITC"/>
              </a:rPr>
              <a:t>OUR SOLAR SYSTEM --- THE QUIZ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rot="1199400">
            <a:off x="5790960" y="4114800"/>
            <a:ext cx="2985840" cy="3124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371600" y="2057400"/>
            <a:ext cx="708660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Eras Demi ITC"/>
              </a:rPr>
              <a:t>Click on the point value to obtain a ques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Eras Demi ITC"/>
              </a:rPr>
              <a:t>Click on the question to find the answ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Eras Demi ITC"/>
              </a:rPr>
              <a:t>Click on the earth to return home – to the question board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Eras Demi ITC"/>
              </a:rPr>
              <a:t>When you have finished click on the earth in the right corner to go home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Eras Demi ITC"/>
              </a:rPr>
              <a:t>Subtract points from questions answered incorrectly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Eras Demi ITC"/>
              </a:rPr>
              <a:t>Add all points for points answered correctl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Eras Demi ITC"/>
              </a:rPr>
              <a:t>Total points possible = 2250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38080" y="1676520"/>
            <a:ext cx="7239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23200" y="6019920"/>
            <a:ext cx="820800" cy="838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19320" y="2286000"/>
            <a:ext cx="716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Eras Demi ITC"/>
              </a:rPr>
              <a:t>Earth</a:t>
            </a: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295280" y="19051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Eras Demi ITC"/>
              </a:rPr>
              <a:t>The Atmosphere of Earth is made up of these gasses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1440" y="1599120"/>
            <a:ext cx="816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Eras Demi ITC"/>
              </a:rPr>
              <a:t>Nitrogen (78%), Oxygen (21%),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Eras Demi ITC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Eras Demi ITC"/>
              </a:rPr>
              <a:t>and other gases (1%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23200" y="6019920"/>
            <a:ext cx="82080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43000" y="23623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Eras Demi ITC"/>
              </a:rPr>
              <a:t>This filters out the Sun’s harmful ray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205740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Eras Demi ITC"/>
              </a:rPr>
              <a:t>OZONE LAY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23200" y="6019920"/>
            <a:ext cx="82080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rcRect l="13494" t="10653" r="16545" b="13941"/>
          <a:stretch/>
        </p:blipFill>
        <p:spPr>
          <a:xfrm>
            <a:off x="7391520" y="510552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62120" y="1676520"/>
            <a:ext cx="77724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Eras Demi ITC"/>
              </a:rPr>
              <a:t>Does Mars have any Moons? If so how 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Eras Demi ITC"/>
                <a:hlinkClick r:id="rId3" action="ppaction://hlinksldjump"/>
              </a:rPr>
              <a:t>many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Eras Demi ITC"/>
              </a:rPr>
              <a:t>?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00200" y="17524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Eras Demi ITC"/>
              </a:rPr>
              <a:t>Yes it has two moons and their names are Deimos and Phob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8323200" y="6019920"/>
            <a:ext cx="82080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43000" y="19051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Eras Demi ITC"/>
              </a:rPr>
              <a:t>What gas makes up most of the atmosphere on Mars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2120" y="1371600"/>
            <a:ext cx="8029440" cy="27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Eras Demi ITC"/>
              </a:rPr>
              <a:t>The atmosphere is composed mainly of carbon dioxide (95.3%),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Eras Demi ITC"/>
              </a:rPr>
              <a:t>nitrogen (2.7%), and argon (1.6%), with small amounts of other gases.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Eras Demi ITC"/>
              </a:rPr>
              <a:t>Oxygen, which is so important to us on earth, makes up only 0.13% of the atmosphere at Mars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323200" y="6019920"/>
            <a:ext cx="82080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rcRect l="16545" t="13941" r="13494" b="13941"/>
          <a:stretch/>
        </p:blipFill>
        <p:spPr>
          <a:xfrm>
            <a:off x="7391520" y="5181480"/>
            <a:ext cx="1752480" cy="16765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62120" y="1371600"/>
            <a:ext cx="693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Eras Demi ITC"/>
              </a:rPr>
              <a:t>What are the names of Jupiter’s four moon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2" action="ppaction://hlinksldjump"/>
          </p:cNvPr>
          <p:cNvSpPr/>
          <p:nvPr/>
        </p:nvSpPr>
        <p:spPr>
          <a:xfrm>
            <a:off x="0" y="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1828800" y="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">
            <a:hlinkClick r:id="rId4" action="ppaction://hlinksldjump"/>
          </p:cNvPr>
          <p:cNvSpPr/>
          <p:nvPr/>
        </p:nvSpPr>
        <p:spPr>
          <a:xfrm>
            <a:off x="3657600" y="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ther Jus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">
            <a:hlinkClick r:id="rId5" action="ppaction://hlinksldjump"/>
          </p:cNvPr>
          <p:cNvSpPr/>
          <p:nvPr/>
        </p:nvSpPr>
        <p:spPr>
          <a:xfrm>
            <a:off x="5486400" y="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wed Unc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">
            <a:hlinkClick r:id="rId6" action="ppaction://hlinksldjump"/>
          </p:cNvPr>
          <p:cNvSpPr/>
          <p:nvPr/>
        </p:nvSpPr>
        <p:spPr>
          <a:xfrm>
            <a:off x="7315200" y="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ed’s Pan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57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y Ver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4572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4572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legan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">
            <a:hlinkClick r:id="rId7" action="ppaction://hlinksldjump"/>
          </p:cNvPr>
          <p:cNvSpPr/>
          <p:nvPr/>
        </p:nvSpPr>
        <p:spPr>
          <a:xfrm>
            <a:off x="0" y="1371600"/>
            <a:ext cx="1828800" cy="182880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">
            <a:hlinkClick r:id="rId8" action="ppaction://hlinksldjump"/>
          </p:cNvPr>
          <p:cNvSpPr/>
          <p:nvPr/>
        </p:nvSpPr>
        <p:spPr>
          <a:xfrm>
            <a:off x="1828800" y="1371600"/>
            <a:ext cx="1828800" cy="182880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">
            <a:hlinkClick r:id="rId9" action="ppaction://hlinksldjump"/>
          </p:cNvPr>
          <p:cNvSpPr/>
          <p:nvPr/>
        </p:nvSpPr>
        <p:spPr>
          <a:xfrm>
            <a:off x="3657600" y="1371600"/>
            <a:ext cx="1828800" cy="182880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">
            <a:hlinkClick r:id="rId10" action="ppaction://hlinksldjump"/>
          </p:cNvPr>
          <p:cNvSpPr/>
          <p:nvPr/>
        </p:nvSpPr>
        <p:spPr>
          <a:xfrm>
            <a:off x="5486400" y="1371600"/>
            <a:ext cx="1828800" cy="182880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">
            <a:hlinkClick r:id="rId11" action="ppaction://hlinksldjump"/>
          </p:cNvPr>
          <p:cNvSpPr/>
          <p:nvPr/>
        </p:nvSpPr>
        <p:spPr>
          <a:xfrm>
            <a:off x="7315200" y="1371600"/>
            <a:ext cx="1828800" cy="182880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">
            <a:hlinkClick r:id="rId12" action="ppaction://hlinksldjump"/>
          </p:cNvPr>
          <p:cNvSpPr/>
          <p:nvPr/>
        </p:nvSpPr>
        <p:spPr>
          <a:xfrm>
            <a:off x="0" y="3200400"/>
            <a:ext cx="1828800" cy="182880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">
            <a:hlinkClick r:id="rId13" action="ppaction://hlinksldjump"/>
          </p:cNvPr>
          <p:cNvSpPr/>
          <p:nvPr/>
        </p:nvSpPr>
        <p:spPr>
          <a:xfrm>
            <a:off x="1828800" y="3200400"/>
            <a:ext cx="1828800" cy="182880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">
            <a:hlinkClick r:id="rId14" action="ppaction://hlinksldjump"/>
          </p:cNvPr>
          <p:cNvSpPr/>
          <p:nvPr/>
        </p:nvSpPr>
        <p:spPr>
          <a:xfrm>
            <a:off x="3657600" y="3200400"/>
            <a:ext cx="1828800" cy="182880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">
            <a:hlinkClick r:id="rId15" action="ppaction://hlinksldjump"/>
          </p:cNvPr>
          <p:cNvSpPr/>
          <p:nvPr/>
        </p:nvSpPr>
        <p:spPr>
          <a:xfrm>
            <a:off x="5486400" y="3200400"/>
            <a:ext cx="1828800" cy="182880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">
            <a:hlinkClick r:id="rId16" action="ppaction://hlinksldjump"/>
          </p:cNvPr>
          <p:cNvSpPr/>
          <p:nvPr/>
        </p:nvSpPr>
        <p:spPr>
          <a:xfrm>
            <a:off x="7315200" y="3200400"/>
            <a:ext cx="1828800" cy="182880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">
            <a:hlinkClick r:id="rId17" action="ppaction://hlinksldjump"/>
          </p:cNvPr>
          <p:cNvSpPr/>
          <p:nvPr/>
        </p:nvSpPr>
        <p:spPr>
          <a:xfrm>
            <a:off x="1828800" y="5029200"/>
            <a:ext cx="1828800" cy="182880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">
            <a:hlinkClick r:id="rId18" action="ppaction://hlinksldjump"/>
          </p:cNvPr>
          <p:cNvSpPr/>
          <p:nvPr/>
        </p:nvSpPr>
        <p:spPr>
          <a:xfrm>
            <a:off x="0" y="5029200"/>
            <a:ext cx="1828800" cy="182880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">
            <a:hlinkClick r:id="rId19" action="ppaction://hlinksldjump"/>
          </p:cNvPr>
          <p:cNvSpPr/>
          <p:nvPr/>
        </p:nvSpPr>
        <p:spPr>
          <a:xfrm>
            <a:off x="3657600" y="5029200"/>
            <a:ext cx="1828800" cy="182880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">
            <a:hlinkClick r:id="rId20" action="ppaction://hlinksldjump"/>
          </p:cNvPr>
          <p:cNvSpPr/>
          <p:nvPr/>
        </p:nvSpPr>
        <p:spPr>
          <a:xfrm>
            <a:off x="5486400" y="5029200"/>
            <a:ext cx="1828800" cy="182880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">
            <a:hlinkClick r:id="rId21" action="ppaction://hlinksldjump"/>
          </p:cNvPr>
          <p:cNvSpPr/>
          <p:nvPr/>
        </p:nvSpPr>
        <p:spPr>
          <a:xfrm>
            <a:off x="7315200" y="5029200"/>
            <a:ext cx="1828800" cy="182880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905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22" action="ppaction://hlinksldjump"/>
              </a:rPr>
              <a:t>100 point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">
            <a:hlinkClick r:id="rId23" action="ppaction://hlinksldjump"/>
          </p:cNvPr>
          <p:cNvSpPr/>
          <p:nvPr/>
        </p:nvSpPr>
        <p:spPr>
          <a:xfrm>
            <a:off x="228600" y="396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24" action="ppaction://hlinksldjump"/>
              </a:rPr>
              <a:t>150 point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571500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">
            <a:hlinkClick r:id="rId25" action="ppaction://hlinksldjump"/>
          </p:cNvPr>
          <p:cNvSpPr/>
          <p:nvPr/>
        </p:nvSpPr>
        <p:spPr>
          <a:xfrm>
            <a:off x="228600" y="5638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26" action="ppaction://hlinksldjump"/>
              </a:rPr>
              <a:t>200 point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27" action="ppaction://hlinksldjump"/>
              </a:rPr>
              <a:t>100 point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3886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28" action="ppaction://hlinksldjump"/>
              </a:rPr>
              <a:t>150 point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7400" y="5715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29" action="ppaction://hlinksldjump"/>
              </a:rPr>
              <a:t>200 point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30" action="ppaction://hlinksldjump"/>
              </a:rPr>
              <a:t>100 point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3886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31" action="ppaction://hlinksldjump"/>
              </a:rPr>
              <a:t>150 point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86200" y="5791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32" action="ppaction://hlinksldjump"/>
              </a:rPr>
              <a:t>200 point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33" action="ppaction://hlinksldjump"/>
              </a:rPr>
              <a:t>100  point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886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34" action="ppaction://hlinksldjump"/>
              </a:rPr>
              <a:t>150 point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5791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35" action="ppaction://hlinksldjump"/>
              </a:rPr>
              <a:t>200 point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4380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36" action="ppaction://hlinksldjump"/>
              </a:rPr>
              <a:t>100 point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4380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37" action="ppaction://hlinksldjump"/>
              </a:rPr>
              <a:t>200 point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43800" y="3886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38" action="ppaction://hlinksldjump"/>
              </a:rPr>
              <a:t>150 point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9"/>
          <a:stretch/>
        </p:blipFill>
        <p:spPr>
          <a:xfrm>
            <a:off x="8791560" y="6519960"/>
            <a:ext cx="352440" cy="33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297180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Eras Demi ITC"/>
              </a:rPr>
              <a:t>Lo, Europa, Ganymede, and Callisto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323200" y="6019920"/>
            <a:ext cx="82080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Click for full siz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10280" y="5410080"/>
            <a:ext cx="2133720" cy="1222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90720" y="2057400"/>
            <a:ext cx="739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Eras Demi ITC"/>
              </a:rPr>
              <a:t>What makes up the rings which surround Saturn and how many moons orbit this planet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66680" y="20574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Eras Demi ITC"/>
              </a:rPr>
              <a:t>Saturn has 30 moons – and the rings are made of rock and ice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23200" y="6019920"/>
            <a:ext cx="82080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rcRect l="16545" t="10653" r="16545" b="13941"/>
          <a:stretch/>
        </p:blipFill>
        <p:spPr>
          <a:xfrm>
            <a:off x="7010280" y="4800600"/>
            <a:ext cx="196848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1523880" y="1981080"/>
            <a:ext cx="609624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Eras Demi ITC"/>
              </a:rPr>
              <a:t>How many miles from the Sun is Uranus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220968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Eras Demi ITC"/>
              </a:rPr>
              <a:t>1.7 Million Miles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rcRect l="16545" t="10653" r="16545" b="13941"/>
          <a:stretch/>
        </p:blipFill>
        <p:spPr>
          <a:xfrm>
            <a:off x="7010280" y="1447920"/>
            <a:ext cx="1968480" cy="2057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rcRect l="16545" t="13941" r="16545" b="17217"/>
          <a:stretch/>
        </p:blipFill>
        <p:spPr>
          <a:xfrm>
            <a:off x="0" y="1154160"/>
            <a:ext cx="2286000" cy="2181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981080" y="2971800"/>
            <a:ext cx="5181840" cy="380880"/>
          </a:xfrm>
          <a:prstGeom prst="leftRightArrow">
            <a:avLst>
              <a:gd name="adj1" fmla="val 50000"/>
              <a:gd name="adj2" fmla="val 270838"/>
            </a:avLst>
          </a:prstGeom>
          <a:gradFill rotWithShape="0">
            <a:gsLst>
              <a:gs pos="0">
                <a:srgbClr val="f43812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323200" y="6019920"/>
            <a:ext cx="82080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990720" y="1752480"/>
            <a:ext cx="739116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Eras Demi ITC"/>
              </a:rPr>
              <a:t>Does Uranus have any rings or moons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62120" y="18288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Eras Demi ITC"/>
              </a:rPr>
              <a:t>Uranus has rings and 27 moons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8323200" y="6019920"/>
            <a:ext cx="82080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rcRect l="16545" t="17217" r="19584" b="17217"/>
          <a:stretch/>
        </p:blipFill>
        <p:spPr>
          <a:xfrm>
            <a:off x="3809880" y="5334120"/>
            <a:ext cx="160020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1447920" y="1447920"/>
            <a:ext cx="571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Eras Demi ITC"/>
              </a:rPr>
              <a:t>How long does it take Neptune to make a complete orbit around the sun?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76520" y="152388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Eras Demi ITC"/>
              </a:rPr>
              <a:t>165 earth year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323200" y="6019920"/>
            <a:ext cx="82080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90720" y="198108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Eras Demi ITC"/>
              </a:rPr>
              <a:t>Does Pluto always have an atmospher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rcRect l="18258" t="16392" r="20910" b="14754"/>
          <a:stretch/>
        </p:blipFill>
        <p:spPr>
          <a:xfrm>
            <a:off x="4114800" y="4038480"/>
            <a:ext cx="1089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52480" y="1676520"/>
            <a:ext cx="6477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Eras Demi ITC"/>
              </a:rPr>
              <a:t>The temperature of Venus can reach this temperature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715080" y="4376880"/>
            <a:ext cx="2428920" cy="24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295280" y="1219320"/>
            <a:ext cx="6477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Eras Demi ITC"/>
              </a:rPr>
              <a:t>No – not all the time.  It gains and loses its atmosphere as it makes its orbit around the sun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323200" y="6019920"/>
            <a:ext cx="82080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762120" y="1523880"/>
            <a:ext cx="77724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Eras Demi ITC"/>
              </a:rPr>
              <a:t>What is the largest of Neptune’s Moons called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533520" y="22096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Eras Demi ITC"/>
              </a:rPr>
              <a:t>Triton – and is the largest moon in the solar system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8323200" y="6019920"/>
            <a:ext cx="82080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48680" y="594360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600200" y="990720"/>
            <a:ext cx="6705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Eras Demi ITC"/>
              </a:rPr>
              <a:t>What is 900 Degrees Fahrenheit – hot enough to melt lead!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76520" y="1676520"/>
            <a:ext cx="632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ras Demi ITC"/>
              </a:rPr>
              <a:t>How long is a year  on Mercury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781680" y="4803840"/>
            <a:ext cx="2362320" cy="205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48680" y="594360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52480" y="1981080"/>
            <a:ext cx="5334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Eras Demi ITC"/>
              </a:rPr>
              <a:t>88 days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09680" y="1905120"/>
            <a:ext cx="5639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1905120"/>
            <a:ext cx="80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Eras Demi ITC"/>
              </a:rPr>
              <a:t>The distance Mercury is from Eart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23200" y="6019920"/>
            <a:ext cx="820800" cy="838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219320" y="1676520"/>
            <a:ext cx="716256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Eras Demi ITC"/>
              </a:rPr>
              <a:t>48 million Mil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Eras Demi ITC"/>
              </a:rPr>
              <a:t>O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Eras Demi ITC"/>
              </a:rPr>
              <a:t>77.3 million km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95280" y="2209680"/>
            <a:ext cx="670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Eras Demi ITC"/>
              </a:rPr>
              <a:t>This is the 3</a:t>
            </a:r>
            <a:r>
              <a:rPr b="0" lang="en-US" sz="4800" spc="-1" strike="noStrike" baseline="30000">
                <a:solidFill>
                  <a:srgbClr val="ffffcc"/>
                </a:solidFill>
                <a:latin typeface="Eras Demi ITC"/>
              </a:rPr>
              <a:t>rd</a:t>
            </a:r>
            <a:r>
              <a:rPr b="0" lang="en-US" sz="4800" spc="-1" strike="noStrike">
                <a:solidFill>
                  <a:srgbClr val="ffffcc"/>
                </a:solidFill>
                <a:latin typeface="Eras Demi ITC"/>
              </a:rPr>
              <a:t> planet from the Su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22:15:05Z</dcterms:created>
  <dc:creator>Jeannie OConnor</dc:creator>
  <dc:description/>
  <dc:language>en-US</dc:language>
  <cp:lastModifiedBy>Jeannie OConnor</cp:lastModifiedBy>
  <dcterms:modified xsi:type="dcterms:W3CDTF">2005-10-08T01:18:28Z</dcterms:modified>
  <cp:revision>24</cp:revision>
  <dc:subject/>
  <dc:title>Slide 1</dc:title>
</cp:coreProperties>
</file>