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EBA3-C797-45EE-86DD-37723A60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C5E-F98B-4295-8636-40295DB6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C124-4938-4812-AA08-8E9AE6D7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1B8-D5AA-47AE-B5FC-BF3F4CEC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6876-2220-4430-B1B6-0BD09657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399-C152-4C50-B9FA-08D053FC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9C4E-C65E-4213-BB13-CFCA3181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68E2-1BF3-4BC4-8CE0-DCAEA63A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FC78-A72C-43D5-BA4B-9E0460C9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F80D-524A-47D2-8B43-8B26A482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13F9-6E79-41AE-9739-1171307E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5D3-FD91-485B-AC52-5C35D65B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1AC8-C46C-4044-962C-937A3BBD9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71640" y="2349360"/>
            <a:ext cx="6400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¡Lluvia de estrell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Planet Hollywood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cremento de un 17% sobre las ut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ealtad de los clientes por las alianzas estratégicas con lo hot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ipo de decis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traté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n situaciones de Incertidu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56720" y="649116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539640" y="1341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ANALISIS F.O.D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539640" y="19526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2600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ESTRATÉG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247920"/>
            <a:ext cx="66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INTEGRACIÓN DE PLANES ESTRATE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454500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ASIGNACIÓN DE RECUR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389556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GRÁFICA DE GANT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519264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ANALISIS FI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584028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CONCLU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1341360"/>
            <a:ext cx="4176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talez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mpresa de reconocimiento mund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venios con Hote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gresos Elev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cesibilidad para gente de diversas eda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icio de excelenc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r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lidad en productos fin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56000" y="1268280"/>
            <a:ext cx="4176720" cy="29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ortunida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tios turíst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Temporadas altas de flujo turís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Compra de souveni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Eventos especiales (Acaf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581360"/>
            <a:ext cx="417672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bilida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casa publicidad fuera de la ciudad de residenc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stos elevados en productos fin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se salarial poco competiti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rarios muer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4581360"/>
            <a:ext cx="417672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enaz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petencia (Hard Roc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ca dispersion en el paí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iajes VT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mporada de baja cliente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7956720" y="649116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ALISIS F.O.D.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 ESTRATÉ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able: Karina Méndez Ro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cha Límite: 24 mayo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upuesto: $15,000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ción con terceros: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provechamiento de las alianzas ya existentes con los hoteles de la zona, así como con los proveedores de la materia pr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7956720" y="649116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00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 ESTRATÉ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RATÉG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lantación de un desayuno Buff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ub “Estrellita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atón de las Estrell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X 1 en bebidas 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rra Li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ursos de “Shot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rita. Planet Hollywoo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ción “Botella + Refresc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7956720" y="649116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 ESTRATÉ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GRACIÓN DE PLANES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el caso concreto de este proyecto, la integración será por responsable, ya que es solo un día de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7956720" y="649116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7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 ESTRATÉ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194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áfica de Gan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0" y="2060640"/>
          <a:ext cx="9180360" cy="4370400"/>
        </p:xfrm>
        <a:graphic>
          <a:graphicData uri="http://schemas.openxmlformats.org/drawingml/2006/table">
            <a:tbl>
              <a:tblPr/>
              <a:tblGrid>
                <a:gridCol w="900000"/>
                <a:gridCol w="433440"/>
                <a:gridCol w="503280"/>
                <a:gridCol w="576360"/>
                <a:gridCol w="576360"/>
                <a:gridCol w="502920"/>
                <a:gridCol w="432000"/>
                <a:gridCol w="433440"/>
                <a:gridCol w="431640"/>
                <a:gridCol w="432000"/>
                <a:gridCol w="431640"/>
                <a:gridCol w="431640"/>
                <a:gridCol w="432000"/>
                <a:gridCol w="433440"/>
                <a:gridCol w="503280"/>
                <a:gridCol w="576000"/>
                <a:gridCol w="432000"/>
                <a:gridCol w="718920"/>
              </a:tblGrid>
              <a:tr h="604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d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-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-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-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-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-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-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-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sayuno Buff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is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ub "Estrellitas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ro y Mari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atón de Estrell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arina y Maris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x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arina y Ol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Shots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rnan- 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rra Li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rnan-do y Ol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Srita. Planet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ro y Mari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is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7956720" y="649116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87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 ESTRATÉ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6337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IGNACIÓN DE RECU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539640" y="2133720"/>
          <a:ext cx="7054920" cy="4508280"/>
        </p:xfrm>
        <a:graphic>
          <a:graphicData uri="http://schemas.openxmlformats.org/drawingml/2006/table">
            <a:tbl>
              <a:tblPr/>
              <a:tblGrid>
                <a:gridCol w="1911240"/>
                <a:gridCol w="1714680"/>
                <a:gridCol w="1714320"/>
                <a:gridCol w="1714680"/>
              </a:tblGrid>
              <a:tr h="612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URSOS HUMA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URSOS MATERI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URSOS FINANCIER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FF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UB "ESTRELLITAS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ATON DE ESTRELL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X 1 BEBIDAS NACI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RRA LI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URSO "SHOTS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RITA. PLA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TELLA + REFRES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E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7956720" y="649116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ÁLISIS F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56720" y="649116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700280"/>
          <a:ext cx="6337440" cy="4227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700280"/>
                    <a:ext cx="6337440" cy="42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064200" y="22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7:15:51Z</dcterms:created>
  <dc:creator>Gabriela</dc:creator>
  <dc:description/>
  <dc:language>en-US</dc:language>
  <cp:lastModifiedBy>Gabriela</cp:lastModifiedBy>
  <dcterms:modified xsi:type="dcterms:W3CDTF">2005-05-24T18:19:23Z</dcterms:modified>
  <cp:revision>20</cp:revision>
  <dc:subject/>
  <dc:title>Diapositiva 1</dc:title>
</cp:coreProperties>
</file>