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F3D-C79B-4C78-93DE-65C390F9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754-8ABB-4E9C-922D-9329A66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EEC-24A2-4FB2-99F2-BC66A288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7D55-2CAE-4493-AB50-9504FF0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AAE-F2F1-4D22-9F88-926C60E1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1C4-8CEB-43C3-9DB2-539E1D91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6CB-70CF-4E4D-B055-3688A0A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1C3-19EA-40DB-A929-B3A7DA7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CEE-6CAB-494C-9C6C-9B7A4BC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97B-46BD-4656-A256-C9B2FC4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1C2-AF0B-48DF-804B-20E6896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19A-CFEB-476B-9FC4-B24B114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7B7-9551-452F-967B-0A649534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3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shton kutcher</a:t>
            </a:r>
            <a:endParaRPr b="0" lang="en-US" sz="2400" spc="1" strike="noStrike">
              <a:ln w="12600">
                <a:solidFill>
                  <a:srgbClr val="000080"/>
                </a:solidFill>
                <a:miter/>
              </a:ln>
              <a:solidFill>
                <a:srgbClr val="99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ashton1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2876400" cy="3362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400000">
            <a:off x="5028840" y="3047760"/>
            <a:ext cx="579096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présentation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-5400" y="2209680"/>
            <a:ext cx="40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Thèmes présent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1. Films dans laquelle il a jo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2.les fille avec qui il est sor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3.album photo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4.bi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5.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6.publ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7.fam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8.féli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9.projet d ’a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4120" y="2057400"/>
            <a:ext cx="668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as fait de la publicité dans les magazine suiv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29000" y="762120"/>
            <a:ext cx="2181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blicit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16720" y="2743200"/>
            <a:ext cx="262728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160" y="2895480"/>
            <a:ext cx="576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v guide (usa) : le 1 novembre 2003 vol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Rolling Stones (usa):29 mai 2003 vo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v guide (usa):28 sept 2002 vol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Movieline (usa) :mai 2000 vol 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-tv guide (usa):19 juin 1999 vol 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Teen people (usa):juin 1999 page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d2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657600" y="457200"/>
            <a:ext cx="17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amil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17440" y="1523880"/>
            <a:ext cx="851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Père: Larry kutcher (soutenue en 1949 et divorcé 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mère: Diane  Portwood (ouvrier d ’usine ,et soutenue en 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sœur: Tausha kutcher(soutenue en 19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frère: Michael Kutcher ( frère jumeau ,il a eu une greffe du cœur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père d ’étape:Marquez Portwood (ouvrier de construction et ma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e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1965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743200" y="914400"/>
            <a:ext cx="212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élicit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-3600" y="2666880"/>
            <a:ext cx="875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Il obtient 5 récompenses bien choisis de l ’adolescence 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compris le hotties  masculin de l ’anné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Il a gagner le concours de l ’Iowa e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a été nommé pour le meilleur nouveau venue masc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c0000"/>
                </a:solidFill>
                <a:latin typeface="Times New Roman"/>
              </a:rPr>
              <a:t>au récompense de société de critique de film de Las Vegas e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1768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762120"/>
            <a:ext cx="2733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jet d'avenir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-12600" y="2666880"/>
            <a:ext cx="89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ff"/>
                </a:solidFill>
                <a:latin typeface="Times New Roman"/>
              </a:rPr>
              <a:t>Pals de Demi Moore et son beau Ashton Kutcher prevoient que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ff"/>
                </a:solidFill>
                <a:latin typeface="Times New Roman"/>
              </a:rPr>
              <a:t>clôche de mariage ne sont pas éteints lointain pour les couples?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ff"/>
                </a:solidFill>
                <a:latin typeface="Times New Roman"/>
              </a:rPr>
              <a:t>source se confie les ont parlé du mariage et il est beaucoup plus séri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cff"/>
                </a:solidFill>
                <a:latin typeface="Times New Roman"/>
              </a:rPr>
              <a:t>que les gens le pensent . (potin du mois d ’août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91916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147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33920" y="304920"/>
            <a:ext cx="1609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es films</a:t>
            </a: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2228760" cy="331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0240" y="1676520"/>
            <a:ext cx="642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Il a jouer dans :   distance (1997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venez bientôt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vers le bas a vous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renne games (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gardes du texas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le type ,ou est ma voiture? 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juste marié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                            </a:t>
            </a:r>
            <a:r>
              <a:rPr b="0" lang="fr-CA" sz="2400" spc="-1" strike="noStrike">
                <a:solidFill>
                  <a:srgbClr val="000066"/>
                </a:solidFill>
                <a:latin typeface="Times New Roman"/>
              </a:rPr>
              <a:t>la fille de mon patron (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81680" y="762120"/>
            <a:ext cx="236232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93960" y="5146560"/>
            <a:ext cx="61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On pourra également le voir en 2004 et e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dans les films:  la partie de dîner ,élizabethtow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régulateurs et l,effet du papi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95480" y="1219320"/>
            <a:ext cx="2733840" cy="1447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les amou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23920" y="3479760"/>
            <a:ext cx="893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Il a rencontrer sa ex-copine janvier Jones:une camarade motel/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Ils ont vécue ensemble pendant le majeure partit de leur temp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couples mais se sont laissé au printemps 2001.peu de temps après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s ’est déplacer a une autre maison et a ce moment la il est sortit ave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une actrice blonde :Ashley Scott (il se sont laissé vers le printem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2002).il est également sortit avec l ’actrice Brittany Murphy ,qu ’il 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rencontrée sure le tournage du film de nouveau marié .En se moment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sort avec une petite brunette l ’actrice Demi Mo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209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4edf"/>
            </a:gs>
            <a:gs pos="50000">
              <a:srgbClr val="86dc8e"/>
            </a:gs>
            <a:gs pos="100000">
              <a:srgbClr val="434e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352680" y="38088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6dc8e"/>
                  </a:solidFill>
                  <a:miter/>
                </a:ln>
                <a:solidFill>
                  <a:srgbClr val="86dc8e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lbum photo</a:t>
            </a:r>
            <a:endParaRPr b="0" lang="en-US" sz="2400" spc="1" strike="noStrike">
              <a:ln w="9360">
                <a:solidFill>
                  <a:srgbClr val="86dc8e"/>
                </a:solidFill>
                <a:miter/>
              </a:ln>
              <a:solidFill>
                <a:srgbClr val="86dc8e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47024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130968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15192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0" y="1295280"/>
            <a:ext cx="1419120" cy="141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0" y="4952880"/>
            <a:ext cx="12924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495680" y="510552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962520" y="3505320"/>
            <a:ext cx="1371600" cy="13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267080" y="1447920"/>
            <a:ext cx="13827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791320" y="3505320"/>
            <a:ext cx="1098360" cy="14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019920" y="1600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7601040" y="236232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238880" y="4800600"/>
            <a:ext cx="119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95480" y="685800"/>
            <a:ext cx="30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bum pho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5120" y="2819520"/>
            <a:ext cx="1595160" cy="2157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86000" y="1447920"/>
            <a:ext cx="895320" cy="1076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057400" y="5343480"/>
            <a:ext cx="1295280" cy="1514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962520" y="1523880"/>
            <a:ext cx="129528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4038480" y="36576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962520" y="52578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5562720" y="13716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5410080" y="3886200"/>
            <a:ext cx="1457280" cy="117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5943600" y="52578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7391520" y="28954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7620120" y="4800600"/>
            <a:ext cx="1295280" cy="1714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7620120" y="1066680"/>
            <a:ext cx="1143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429000" y="2286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ographi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-10800" y="1905120"/>
            <a:ext cx="910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Christopher Ashton Kutcher est néle7 février1978 dans le cèdre Rapi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Iowa aux parents larry et diane.cinq minute plus tard son frère jum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Michael a été soutenu.Il a également une sœur qui a 3 ans de plus que 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appeler Tausha.Quand il avait 13 ans,ses parents ont obtenu le divorce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depuis ce sont remarié.Quand il avait15 ans,sa maman et(sa nouv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marque de mari)ont déplacer les trois enfant a la ferme,Iowa une pe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communauté d ’exploitation agricole avec une population d ’environ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habitant.ce mouvement a changer son lycée de cèdre rapids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en crique claire Amana ou il a reçu un diplôme en 1996.Comme jong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2 ensembles de familles ,les amis et la maison n ’étaient pas assez,il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également jonglé2 passes-temps de contradiction.Son physique l ’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aider a exceler dans plusieurs sport entre autre la lutte.physiquement il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eu beaucoup de domm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1880" y="0"/>
            <a:ext cx="171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1245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505320" y="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ographi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153280" y="228600"/>
            <a:ext cx="228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102600" y="1654200"/>
            <a:ext cx="905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Action avérée moins douloureux excepté un rôle. Bien qu ’étant év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dans les jeux et les musicals depuis sont début comme theifdan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``princesse pleurante et l ’oie d ’or `` dans la 7ieme catégorie,ce n ’ét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pas l ’année aînée qu ’il a obtenue son plus grand rôle ¸jusqu ’ic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papa warbuck dans ``Annie``.Ashton était ainsi passionant il a rasé 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tête, mais c ’était un autre mouvement radical qui lui a coûté la piè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Bien que se désapointement ne l ’ai pas ralenti Ashton ses rendu com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que la perspective de l ’action d ’un professionnel ou de la carrièr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sports en Iowa ait été peu réaliste. Ainsi il a choisi de mettre ses rêve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la prise et de s ’occuper de l ’université de Iowa.La il a étudier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technologie biochimique et était un membre de la fraternité de chi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delta.por aidé a payé l,université il a balayé une usine de céréa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générale moulin, a pelé des des cerfs commun ,a lavé des plats et do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du s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7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429000" y="380880"/>
            <a:ext cx="21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ographi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458200" y="228600"/>
            <a:ext cx="23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-11880" y="2590920"/>
            <a:ext cx="920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Son éducation d ’université a été coupée sous peu cependant après qu,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(ait été découvert)dans un bar par un agent modelant local qui a suggé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qui entrent dans les visages frais de Iowa modelant le concours.Il ét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étonné d ’être considéré dans la même catégorie que Fabio mais d ’ê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présenté de toute façon et gagné.Le premier prix était un voyage 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York a concurrencer dans le modèle 1997 et la concurrence 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d ’artiste. La il a été signer a la prochaine agence .Il n ’a jamais pri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maison plate sa nouvelle maison s ’appelle New York.avant qu ’il ait su 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voyageait partout dans le monde modelant pour ses magazines et sur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piste pour les concepteurs supérieur comme : Versace ,Tommy Hilfi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900cc"/>
                </a:solidFill>
                <a:latin typeface="Times New Roman"/>
              </a:rPr>
              <a:t>et Calvin kl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74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352680" y="457200"/>
            <a:ext cx="2190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cription</a:t>
            </a:r>
            <a:endParaRPr b="0" lang="en-US" sz="2400" spc="1" strike="noStrike">
              <a:ln w="1260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284400" y="2251080"/>
            <a:ext cx="425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Ashton Kutc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grandeur:5p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poids:65k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couleur de yeux:brun nois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couleur de cheveux:châtain b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date de naissance:7fév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année de naissance:19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-nationalité: améri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167148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1809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4:06:25Z</dcterms:created>
  <dc:creator>Poly. Dominique-Racine</dc:creator>
  <dc:description/>
  <dc:language>en-US</dc:language>
  <cp:lastModifiedBy>Poly. Dominique-Racine</cp:lastModifiedBy>
  <dcterms:modified xsi:type="dcterms:W3CDTF">2003-12-11T18:21:35Z</dcterms:modified>
  <cp:revision>19</cp:revision>
  <dc:subject/>
  <dc:title>Aucun titre de diapositive</dc:title>
</cp:coreProperties>
</file>