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D31-E3A4-4258-964E-7B99C871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8D8-AAD6-4381-ADE8-780EDD58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DDF-4248-4FA2-8D65-98D9C717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809-8811-45EA-A1B8-22EC76B1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8F1C-128D-4759-BD2D-8ACCD68D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3A98-C8F8-46EB-9849-6962CB09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AD03-B591-41E2-B952-49C142F5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F786-B448-4D09-B31A-1E01BFD2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2148-76C0-488E-BBBE-528632AB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8221-E337-4A89-BDEC-410CE607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F131-9E13-43E2-B1C4-B454493E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926-0977-427F-B05C-5EFD50E1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AEC5-4686-4FE2-8FC3-843CF8D0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418E-8391-445B-9E56-B56BF6D2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A527-AA68-4768-8840-68DA876F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232D-4286-4A0D-9063-1AEB1328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9BBE-6EBD-4B05-AF58-846385F5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80F-F999-4769-B798-9E55BB42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981C-A533-44B6-9A25-E9505C91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270-E1B1-4DE0-8456-B20366EC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2C71-143C-49ED-8907-B30EE3A3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1F4-05A7-46A7-ACCD-070CEC92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1C0-F3CB-4BAB-BBB3-A94101C6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704-F047-4ACA-97F6-8AE480ED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7303-2A09-463E-BBF7-0E0C8D36A7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6BD7-5AAC-4BE7-8CDC-E47CC1FB23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228600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 Exp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50/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 the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429000" y="3124080"/>
                <a:ext cx="3808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29000" y="3886200"/>
                <a:ext cx="279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505320" y="4419720"/>
                <a:ext cx="215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76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2438280" y="2133720"/>
            <a:ext cx="63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Write 60% as a reduced common fract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31240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4495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5105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16200" y="160020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2,0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67080" y="5715000"/>
            <a:ext cx="1905120" cy="762120"/>
          </a:xfrm>
          <a:custGeom>
            <a:avLst/>
            <a:gdLst>
              <a:gd name="textAreaLeft" fmla="*/ 89640 w 1905120"/>
              <a:gd name="textAreaRight" fmla="*/ 1815480 w 190512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539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80" y="21600"/>
                </a:lnTo>
                <a:arcTo wR="3600" hR="3600" stAng="10800000" swAng="5400000"/>
                <a:lnTo>
                  <a:pt x="53980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429000" y="5257800"/>
                <a:ext cx="333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29000" y="3886200"/>
                <a:ext cx="279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505320" y="4419720"/>
                <a:ext cx="215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88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2438280" y="2133720"/>
            <a:ext cx="63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Write 60% as a reduced common fract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4495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16200" y="160020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2,0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5715000"/>
            <a:ext cx="1905120" cy="762120"/>
          </a:xfrm>
          <a:custGeom>
            <a:avLst/>
            <a:gdLst>
              <a:gd name="textAreaLeft" fmla="*/ 89640 w 1905120"/>
              <a:gd name="textAreaRight" fmla="*/ 1815480 w 190512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539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80" y="21600"/>
                </a:lnTo>
                <a:arcTo wR="3600" hR="3600" stAng="10800000" swAng="5400000"/>
                <a:lnTo>
                  <a:pt x="53980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438280" y="2133720"/>
            <a:ext cx="63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If 2x = 7 then x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352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3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4343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4876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44800" y="152388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8,0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5715000"/>
            <a:ext cx="1905120" cy="762120"/>
          </a:xfrm>
          <a:custGeom>
            <a:avLst/>
            <a:gdLst>
              <a:gd name="textAreaLeft" fmla="*/ 89640 w 1905120"/>
              <a:gd name="textAreaRight" fmla="*/ 1815480 w 190512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539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80" y="21600"/>
                </a:lnTo>
                <a:arcTo wR="3600" hR="3600" stAng="10800000" swAng="5400000"/>
                <a:lnTo>
                  <a:pt x="53980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2438280" y="2133720"/>
            <a:ext cx="63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If 2x = 7 then x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3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4343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4800" y="152388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8,0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5715000"/>
            <a:ext cx="1905120" cy="762120"/>
          </a:xfrm>
          <a:custGeom>
            <a:avLst/>
            <a:gdLst>
              <a:gd name="textAreaLeft" fmla="*/ 89640 w 1905120"/>
              <a:gd name="textAreaRight" fmla="*/ 1815480 w 190512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539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80" y="21600"/>
                </a:lnTo>
                <a:arcTo wR="3600" hR="3600" stAng="10800000" swAng="5400000"/>
                <a:lnTo>
                  <a:pt x="53980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2666880" y="3352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3/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1/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4343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1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4876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7/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 Exp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 the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40120" y="152388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16,0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114800" y="2057400"/>
                <a:ext cx="182880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2880360" y="1870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2666880" y="3352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3/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4343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1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 Exp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 the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40120" y="152388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16,0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114800" y="2057400"/>
                <a:ext cx="182880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2880360" y="1870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2743200" y="4038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43200" y="4495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40120" y="152388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32,0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5715000"/>
            <a:ext cx="1905120" cy="762120"/>
          </a:xfrm>
          <a:custGeom>
            <a:avLst/>
            <a:gdLst>
              <a:gd name="textAreaLeft" fmla="*/ 89640 w 1905120"/>
              <a:gd name="textAreaRight" fmla="*/ 1815480 w 190512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539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80" y="21600"/>
                </a:lnTo>
                <a:arcTo wR="3600" hR="3600" stAng="10800000" swAng="5400000"/>
                <a:lnTo>
                  <a:pt x="53980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2286000"/>
            <a:ext cx="259056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33760" y="21747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37920" y="225108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4952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3581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38" idx="3"/>
            <a:endCxn id="238" idx="0"/>
          </p:cNvCxnSpPr>
          <p:nvPr/>
        </p:nvCxnSpPr>
        <p:spPr>
          <a:xfrm flipV="1">
            <a:off x="5028840" y="2285280"/>
            <a:ext cx="1080" cy="10674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4" name=""/>
          <p:cNvSpPr/>
          <p:nvPr/>
        </p:nvSpPr>
        <p:spPr>
          <a:xfrm>
            <a:off x="6233400" y="354636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257440" y="3504960"/>
            <a:ext cx="762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791320" y="2514600"/>
            <a:ext cx="4572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2590920"/>
            <a:ext cx="30456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20800" y="28195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800600" y="281916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2600" y="190512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the Peri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2743200" y="4038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40120" y="152388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32,0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67080" y="5715000"/>
            <a:ext cx="1905120" cy="762120"/>
          </a:xfrm>
          <a:custGeom>
            <a:avLst/>
            <a:gdLst>
              <a:gd name="textAreaLeft" fmla="*/ 89640 w 1905120"/>
              <a:gd name="textAreaRight" fmla="*/ 1815480 w 190512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539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80" y="21600"/>
                </a:lnTo>
                <a:arcTo wR="3600" hR="3600" stAng="10800000" swAng="5400000"/>
                <a:lnTo>
                  <a:pt x="53980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2286000"/>
            <a:ext cx="259056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33760" y="21747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37920" y="225108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3581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6" idx="3"/>
            <a:endCxn id="256" idx="0"/>
          </p:cNvCxnSpPr>
          <p:nvPr/>
        </p:nvCxnSpPr>
        <p:spPr>
          <a:xfrm flipV="1">
            <a:off x="5028840" y="2285280"/>
            <a:ext cx="1080" cy="10674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6233400" y="354636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5257440" y="3504960"/>
            <a:ext cx="762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5791320" y="2514600"/>
            <a:ext cx="4572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590920"/>
            <a:ext cx="30456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20800" y="28195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00600" y="281916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2600" y="190512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the Peri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2438280" y="2133720"/>
            <a:ext cx="63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Solve:   4.3 x 0.0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0.8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0.08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4343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0.8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6880" y="4876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8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 Exp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 the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40120" y="152388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32,0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2438280" y="2133720"/>
            <a:ext cx="63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Solve:   4.3 x 0.0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3352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0.8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66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0.08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 Exp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3432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 the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0120" y="152388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32,0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2438280" y="2133720"/>
            <a:ext cx="63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Name the Quadrilateral whose characteristics are that it has two pair of parallel sid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3352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Trapez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Trapez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4343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Parallel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4876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Rhom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45520" y="15238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1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5562720"/>
            <a:ext cx="1905120" cy="761760"/>
          </a:xfrm>
          <a:custGeom>
            <a:avLst/>
            <a:gdLst>
              <a:gd name="textAreaLeft" fmla="*/ 89640 w 1905120"/>
              <a:gd name="textAreaRight" fmla="*/ 1815480 w 1905120"/>
              <a:gd name="textAreaTop" fmla="*/ 89640 h 761760"/>
              <a:gd name="textAreaBottom" fmla="*/ 672120 h 761760"/>
            </a:gdLst>
            <a:ahLst/>
            <a:rect l="textAreaLeft" t="textAreaTop" r="textAreaRight" b="textAreaBottom"/>
            <a:pathLst>
              <a:path w="5400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5" y="21600"/>
                </a:lnTo>
                <a:arcTo wR="3600" hR="3600" stAng="10800000" swAng="5400000"/>
                <a:lnTo>
                  <a:pt x="54005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US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LIFE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2438280" y="2133720"/>
            <a:ext cx="63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Name the Quadrilateral whose characteristics are that it has two pair of parallel sid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66880" y="3352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Trapez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6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Trapez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6880" y="4343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Parallel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66880" y="4876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Rhom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 Exp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 the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45520" y="15238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1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2438280" y="2133720"/>
            <a:ext cx="63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Name the Quadrilateral whose characteristics are that it has two pair of parallel sid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66880" y="3352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Trapez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66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Trapez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4343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Parallel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4876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Rhom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 Exp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3432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 the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45520" y="15238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1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2438280" y="2133720"/>
            <a:ext cx="63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Name the Quadrilateral whose characteristics are that it has two pair of parallel sid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3352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Trapez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66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Trapez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4343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Parallel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4876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Rhom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 Exp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3432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 the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45520" y="15238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1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"/>
          <p:cNvSpPr/>
          <p:nvPr/>
        </p:nvSpPr>
        <p:spPr>
          <a:xfrm>
            <a:off x="2438280" y="2133720"/>
            <a:ext cx="63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Name the Quadrilateral whose characteristics are that it has two pair of parallel sid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66880" y="3352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Trapez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66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Trapez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4343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Parallel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66880" y="4876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Rhom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 Exp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34320" y="586728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 the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45520" y="15238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1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533520" y="304920"/>
          <a:ext cx="1752480" cy="621036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50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25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64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6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8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2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</a:t>
                      </a: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3962520" y="2362320"/>
            <a:ext cx="1828800" cy="457200"/>
          </a:xfrm>
          <a:custGeom>
            <a:avLst/>
            <a:gdLst>
              <a:gd name="textAreaLeft" fmla="*/ 53640 w 1828800"/>
              <a:gd name="textAreaRight" fmla="*/ 1775160 w 182880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60160" y="331776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/50 for which Question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438280" y="2133720"/>
            <a:ext cx="63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Name the Quadrilateral whose characteristics are that it has two pair of parallel sid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3352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Trapez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4343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Parallel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45520" y="15238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1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5562720"/>
            <a:ext cx="1905120" cy="761760"/>
          </a:xfrm>
          <a:custGeom>
            <a:avLst/>
            <a:gdLst>
              <a:gd name="textAreaLeft" fmla="*/ 89640 w 1905120"/>
              <a:gd name="textAreaRight" fmla="*/ 1815480 w 1905120"/>
              <a:gd name="textAreaTop" fmla="*/ 89640 h 761760"/>
              <a:gd name="textAreaBottom" fmla="*/ 672120 h 761760"/>
            </a:gdLst>
            <a:ahLst/>
            <a:rect l="textAreaLeft" t="textAreaTop" r="textAreaRight" b="textAreaBottom"/>
            <a:pathLst>
              <a:path w="5400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5" y="21600"/>
                </a:lnTo>
                <a:arcTo wR="3600" hR="3600" stAng="10800000" swAng="5400000"/>
                <a:lnTo>
                  <a:pt x="54005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2438280" y="2133720"/>
            <a:ext cx="63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Find the Area of this Parallelogra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352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77 in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77 sq. in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4343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88 in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4876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88 sq. in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5520" y="15238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2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5715000"/>
            <a:ext cx="1905120" cy="762120"/>
          </a:xfrm>
          <a:custGeom>
            <a:avLst/>
            <a:gdLst>
              <a:gd name="textAreaLeft" fmla="*/ 89640 w 1905120"/>
              <a:gd name="textAreaRight" fmla="*/ 1815480 w 190512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539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80" y="21600"/>
                </a:lnTo>
                <a:arcTo wR="3600" hR="3600" stAng="10800000" swAng="5400000"/>
                <a:lnTo>
                  <a:pt x="53980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2590920"/>
            <a:ext cx="2590920" cy="1066680"/>
          </a:xfrm>
          <a:prstGeom prst="parallelogram">
            <a:avLst>
              <a:gd name="adj" fmla="val 60724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534520" y="2590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34520" y="2971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34520" y="3429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8076960" y="3656880"/>
            <a:ext cx="2286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672040" y="28605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3800" y="26668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 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2438280" y="2133720"/>
            <a:ext cx="63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Find the Area of this Parallelogra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77 sq. in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4876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88 sq. in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45520" y="15238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2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5715000"/>
            <a:ext cx="1905120" cy="762120"/>
          </a:xfrm>
          <a:custGeom>
            <a:avLst/>
            <a:gdLst>
              <a:gd name="textAreaLeft" fmla="*/ 89640 w 1905120"/>
              <a:gd name="textAreaRight" fmla="*/ 1815480 w 190512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539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80" y="21600"/>
                </a:lnTo>
                <a:arcTo wR="3600" hR="3600" stAng="10800000" swAng="5400000"/>
                <a:lnTo>
                  <a:pt x="53980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2590920"/>
            <a:ext cx="2590920" cy="1066680"/>
          </a:xfrm>
          <a:prstGeom prst="parallelogram">
            <a:avLst>
              <a:gd name="adj" fmla="val 60724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34520" y="2590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34520" y="2971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34520" y="3429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8076960" y="3656880"/>
            <a:ext cx="2286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672040" y="28605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3800" y="26668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 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438280" y="2133720"/>
            <a:ext cx="63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ompare –7 ___ -8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3352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4343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4876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&lt; and 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5520" y="15238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5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5715000"/>
            <a:ext cx="1905120" cy="762120"/>
          </a:xfrm>
          <a:custGeom>
            <a:avLst/>
            <a:gdLst>
              <a:gd name="textAreaLeft" fmla="*/ 89640 w 1905120"/>
              <a:gd name="textAreaRight" fmla="*/ 1815480 w 190512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539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80" y="21600"/>
                </a:lnTo>
                <a:arcTo wR="3600" hR="3600" stAng="10800000" swAng="5400000"/>
                <a:lnTo>
                  <a:pt x="53980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2438280" y="2133720"/>
            <a:ext cx="63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ompare –7 ___ -8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343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5520" y="15238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5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5715000"/>
            <a:ext cx="1905120" cy="762120"/>
          </a:xfrm>
          <a:custGeom>
            <a:avLst/>
            <a:gdLst>
              <a:gd name="textAreaLeft" fmla="*/ 89640 w 1905120"/>
              <a:gd name="textAreaRight" fmla="*/ 1815480 w 190512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539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80" y="21600"/>
                </a:lnTo>
                <a:arcTo wR="3600" hR="3600" stAng="10800000" swAng="5400000"/>
                <a:lnTo>
                  <a:pt x="53980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438280" y="2133720"/>
            <a:ext cx="63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 cube has how many edg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3352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S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Twel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4343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4876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5715000"/>
            <a:ext cx="1905120" cy="762120"/>
          </a:xfrm>
          <a:custGeom>
            <a:avLst/>
            <a:gdLst>
              <a:gd name="textAreaLeft" fmla="*/ 89640 w 1905120"/>
              <a:gd name="textAreaRight" fmla="*/ 1815480 w 190512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539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80" y="21600"/>
                </a:lnTo>
                <a:arcTo wR="3600" hR="3600" stAng="10800000" swAng="5400000"/>
                <a:lnTo>
                  <a:pt x="53980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44800" y="152388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1,0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380880"/>
          <a:ext cx="1447920" cy="62103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2438280" y="2133720"/>
            <a:ext cx="63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 cube has how many edg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352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A. 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S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3886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nerstone"/>
              </a:rPr>
              <a:t>Twel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5715000"/>
            <a:ext cx="1905120" cy="762120"/>
          </a:xfrm>
          <a:custGeom>
            <a:avLst/>
            <a:gdLst>
              <a:gd name="textAreaLeft" fmla="*/ 89640 w 1905120"/>
              <a:gd name="textAreaRight" fmla="*/ 1815480 w 190512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539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80" y="21600"/>
                </a:lnTo>
                <a:arcTo wR="3600" hR="3600" stAng="10800000" swAng="5400000"/>
                <a:lnTo>
                  <a:pt x="53980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44800" y="152388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$1,000 Qu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03:26:03Z</dcterms:created>
  <dc:creator>John  Diehl</dc:creator>
  <dc:description/>
  <dc:language>en-US</dc:language>
  <cp:lastModifiedBy>CSSD</cp:lastModifiedBy>
  <dcterms:modified xsi:type="dcterms:W3CDTF">2002-04-25T00:00:34Z</dcterms:modified>
  <cp:revision>13</cp:revision>
  <dc:subject/>
  <dc:title>Who Wants to be a Millionaire?</dc:title>
</cp:coreProperties>
</file>