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C34-92B3-45EB-A378-8594D858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F4F-2D8E-47E1-B741-5BB01EF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3B5-A83C-4F2D-A8CE-74D12988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794-998A-47E4-A196-15E77F48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B86-D90E-4443-99A3-81EB738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E2C-C866-4476-961A-0C5B1A0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5E3-12D9-4961-9330-4CADB44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382-3679-484F-B0DE-D65F6C24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F5D-3182-4C11-9D09-D542A2BE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2EB-FD14-492F-B585-C803C50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674-602F-4DDA-B510-46016F8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272-3C26-4D52-8EAD-87C01E3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A068-B2C7-4CCC-B4EE-8061BE4B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f7e1bd"/>
                </a:solidFill>
                <a:latin typeface="Arial"/>
              </a:rPr>
              <a:t>Werkstuk Biolog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Barotrauma van het binnen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Door Hannes Vereecke en Maxime Sweet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7e1bd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Brutale en plotse drukstijgingen vermij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7e1bd"/>
                </a:solidFill>
                <a:latin typeface="Arial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Zo snel mogelijk een dokter raadplegen voor therap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7e1bd"/>
                </a:solidFill>
                <a:latin typeface="Arial"/>
              </a:rPr>
              <a:t>Bronverm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Plongee plaisi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pdf-document: duik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Gehoor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Natuurwettenschappen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Divetalk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1c987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f7e1bd"/>
                </a:solidFill>
                <a:latin typeface="Arial"/>
              </a:rPr>
              <a:t>Inho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Oor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Opmer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f7e1bd"/>
                </a:solidFill>
                <a:latin typeface="Arial"/>
              </a:rPr>
              <a:t>Inlei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In het binnenoor bevind zich het voorhof en de drie halfcirkelvormige kan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Die zijn verantwoordelijk om je evenwicht te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Maar in je binnenoor bevind zich ook het slakkenh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Zoals we geleerd hebben dient dit om te horen, en is zeer kwetsb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24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Maar plotse hevige drukstijgingen kunnen net zoals luide muziek blijvende schade aanrichten aan het gehoororgaan en het evenwichtorgaa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Duikers moeten hiervoor speciaal oppassen want zij hebben veel te maken met plotse drukstijg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897440" cy="3744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Deze drukveranderingen kunnen ernstige problemen veroorz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7e1bd"/>
                </a:solidFill>
                <a:latin typeface="Arial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Plots comprimeren </a:t>
            </a: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(plotse drukstijg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Brutale schokgolven van een valsalva-beweging </a:t>
            </a:r>
            <a:r>
              <a:rPr b="0" lang="nl-BE" sz="2800" spc="-1" strike="noStrike">
                <a:solidFill>
                  <a:srgbClr val="f1c987"/>
                </a:solidFill>
                <a:latin typeface="Arial"/>
              </a:rPr>
              <a:t>(</a:t>
            </a:r>
            <a:r>
              <a:rPr b="0" lang="nl-NL" sz="2800" spc="-1" strike="noStrike">
                <a:solidFill>
                  <a:srgbClr val="f1c987"/>
                </a:solidFill>
                <a:latin typeface="Arial"/>
              </a:rPr>
              <a:t>de mond sluiten, de neusgaten dichtknijpen en vervolgens blazen</a:t>
            </a:r>
            <a:br>
              <a:rPr sz="2800"/>
            </a:br>
            <a:r>
              <a:rPr b="0" lang="nl-NL" sz="2800" spc="-1" strike="noStrike">
                <a:solidFill>
                  <a:srgbClr val="f1c987"/>
                </a:solidFill>
                <a:latin typeface="Arial"/>
              </a:rPr>
              <a:t>om de inwendige druk te verhogen)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3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7e1bd"/>
                </a:solidFill>
                <a:latin typeface="Arial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Oorsuiz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Gevoellige ronde venster kan scheu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Duizelighe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c9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1c987"/>
                </a:solidFill>
                <a:latin typeface="Arial"/>
              </a:rPr>
              <a:t>Coördinatie proble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1:09:15Z</dcterms:created>
  <dc:creator>student</dc:creator>
  <dc:description/>
  <dc:language>en-US</dc:language>
  <cp:lastModifiedBy>Ynnor</cp:lastModifiedBy>
  <dcterms:modified xsi:type="dcterms:W3CDTF">2005-02-13T13:11:44Z</dcterms:modified>
  <cp:revision>15</cp:revision>
  <dc:subject/>
  <dc:title>Werkstuk Biologie</dc:title>
</cp:coreProperties>
</file>