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7.jpeg" ContentType="image/jpeg"/>
  <Override PartName="/ppt/media/image13.png" ContentType="image/png"/>
  <Override PartName="/ppt/media/image11.jpeg" ContentType="image/jpeg"/>
  <Override PartName="/ppt/media/image9.jpeg" ContentType="image/jpeg"/>
  <Override PartName="/ppt/media/image17.png" ContentType="image/png"/>
  <Override PartName="/ppt/media/image16.jpeg" ContentType="image/jpeg"/>
  <Override PartName="/ppt/media/image15.png" ContentType="image/png"/>
  <Override PartName="/ppt/media/image5.jpeg" ContentType="image/jpeg"/>
  <Override PartName="/ppt/media/image10.jpeg" ContentType="image/jpeg"/>
  <Override PartName="/ppt/media/image1.png" ContentType="image/png"/>
  <Override PartName="/ppt/media/image3.gif" ContentType="image/gif"/>
  <Override PartName="/ppt/media/image12.png" ContentType="image/png"/>
  <Override PartName="/ppt/media/image4.jpeg" ContentType="image/jpeg"/>
  <Override PartName="/ppt/media/image2.png" ContentType="image/png"/>
  <Override PartName="/ppt/media/image6.jpeg" ContentType="image/jpeg"/>
  <Override PartName="/ppt/media/image14.jpeg" ContentType="image/jpe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932E8-3322-4424-9421-BA8CB0D42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49A52-DB13-4F23-AA92-750225940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C9AAD-5D3A-41CA-A4DF-DB83AD37E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A31DF-FCDE-46A5-BAD9-C15859E0D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0D37A-4C36-4102-9F66-B19F0C75D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98ED8-1058-45BF-9277-AC072D009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6FA2E-87FF-4041-BAD2-98C83C1D9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78E02-9B15-48F6-820F-E7D4ED276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3CC17-5470-4478-A39C-55FB7D8A6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B9D4F-FE07-4124-ABB2-B9B46A671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22D15-AAC5-4D3F-9704-1B3ACEEDD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43948-3ACA-480E-946D-CAC02308B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DF73F-77F7-4AF2-9947-6AB526312D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memory.loc.gov/ammem/index.html" TargetMode="External"/><Relationship Id="rId3" Type="http://schemas.openxmlformats.org/officeDocument/2006/relationships/hyperlink" Target="http://www.thomasedison.com/" TargetMode="External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homas Edis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 Light Shines Brigh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y Shana Dun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295280" y="3809880"/>
            <a:ext cx="47628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7391520" y="3886200"/>
            <a:ext cx="476280" cy="7142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3581280" y="685800"/>
            <a:ext cx="19051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portunity is missed by most people because it is dressed in overalls and looks like work.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ten Edison had inventions that failed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n though he failed, he kept trying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are some inventions that didn’t work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350496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iled Inven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dison loved to use cement but this was not practical for other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 made cabinets, pianos, and houses with ce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dea was not a total loss, his cement company created the Yankee Stadium!  Play ball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457200" y="1676520"/>
            <a:ext cx="373392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iled Inven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omas Edison tried and tried to create sound for his film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on the box to see the results of his experimen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sounds do you hea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4876920" y="1676520"/>
            <a:ext cx="350496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79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79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iled Inven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s biggest failure was a practical way to mine iron or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omas Edison tried to create a machine that separated iron from ore.  Sadly, he did not and he lost all of his mone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533520" y="1828800"/>
            <a:ext cx="373356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omas Edison died at the age of 84 on October 18, 1931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ring his funeral, thousands of people across the world dimmed their lights or turned them off to show their love for this great inventor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952880" y="1752480"/>
            <a:ext cx="34290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day, Thomas Edison’s inventions have become necessities in the way we li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 and his inventions are lights that still shine brigh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276720" cy="266688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4876920" y="4952880"/>
            <a:ext cx="3124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omas Edison was known as “The Wizard of Menlo Park.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photos, videos, and voice recordings can be located from the following sit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merica’s Story from America’s Librar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americaslibrary.gov/cgi-bin/page.cg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Library of Congress: 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memory.loc.gov/ammem/index.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omas Edison’s Home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thomasedison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omas Alva Edis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little boy will grow up to be a famous invent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 was born on February 11, 1847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572000" y="1676520"/>
            <a:ext cx="388620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omas Edison had patents for over 1,000 inven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f all my inventions, I liked the phonograph the best.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omas A. Edis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685800" y="2286000"/>
            <a:ext cx="358128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Phonograp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honograph came before a cassette player, a compact disc player, or a MP3 player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5410080" y="1828800"/>
            <a:ext cx="254016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ison spoke into his new invention by using a large need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s first words were “Mary had a little lamb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sten to this message from Thomas Edison to American soldiers fighting for our country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2209680" y="4800600"/>
            <a:ext cx="244440" cy="2444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762120" y="2133720"/>
            <a:ext cx="2539800" cy="253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5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8290" fill="hold"/>
                                        <p:tgtEl>
                                          <p:spTgt spid="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Light Bul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other Edison invention is the incandescence light bulb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4952880" y="1600200"/>
            <a:ext cx="34290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incandescence light bulb has a small thread or a filament  that becomes so hot it gives off ligh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is Thomas Edison, Henry Ford, and Francis Jehl on October 21, 1929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457200" y="1752480"/>
            <a:ext cx="3886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ed Ott’s Sneeze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omas Edison patented the invention of the kinetoscope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kinetoscope is a motion picture view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on to see one of Edison’s first moving picture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32004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67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67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omas Edison created between 200 and 300 film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film is called the “Gordon Sisters Boxing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on the box to begin this fil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457200" y="1752480"/>
            <a:ext cx="36576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70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7T05:21:57Z</dcterms:created>
  <dc:creator>Sirrine ES</dc:creator>
  <dc:description/>
  <dc:language>en-US</dc:language>
  <cp:lastModifiedBy>AAM</cp:lastModifiedBy>
  <dcterms:modified xsi:type="dcterms:W3CDTF">2005-03-22T20:30:24Z</dcterms:modified>
  <cp:revision>14</cp:revision>
  <dc:subject/>
  <dc:title>Thomas Edison</dc:title>
</cp:coreProperties>
</file>