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EE89-E20A-4FC4-B3D7-CACC9245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EFC-F415-403E-AB07-E97A23BB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76DC-4157-4E47-AC2C-637150AC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79F7-614E-41C3-9682-4F0CEE38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E2C3-6BEB-4B66-A09B-DD88FC61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88FD-C5AD-4E0F-B944-DE123E32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AA0B-9B9A-40D5-9A6E-6FFD18AC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81BA-B7C7-4E4B-9298-F7710539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B36E-39F1-4260-9B7D-B833994A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8992-BF02-41E0-ADE6-EB9AAE5D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C8C8-6C75-40B7-935C-B84CC588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0D03-2331-459D-9D77-64B02AF2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A00A-A84C-433C-BC62-F19CF07D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9747-66A6-4491-8CDA-42B57BD7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9130-AE7C-4B5D-9505-8777E779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A9B5-0A3E-4FFE-AF14-D81FF54A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3F01-7968-43DE-9600-7DEC9B9E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9C6-735B-411E-BF8B-F7651C0C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71CE-DA0F-47FE-9933-4C9B4BE8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E82-EDDE-4A8A-BD83-0CBFEE07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A37-C784-4AC1-887B-72B22056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3C18-7804-4B75-838B-A2583BA0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34F7-3387-4F30-8074-626FE427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ED7-714A-40A2-993D-5D1C49D7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EB41-39D8-4574-866F-4907D2CA6A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3F50-5657-4457-814B-0B60AFEA1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emory.loc.gov/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Scenes from the Dust Bow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Scenes from the Dust Bow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winds of the "dust bowl" have piled up large drifts of soil against this farmer's barn near Liberal, Kans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6520" y="2243160"/>
            <a:ext cx="40402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Scenes from the Dust Bow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616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ust storm. Oklaho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11280" y="2154240"/>
            <a:ext cx="403524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Scenes from the Dust Bow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ust storm near Mills, New Mex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97480" y="2465280"/>
            <a:ext cx="41893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Scenes from the Dust Bow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616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ust is too much for this farmer's son in Cimarron County, Oklahoma.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2266920"/>
            <a:ext cx="4040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895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Comic Sans MS"/>
              </a:rPr>
              <a:t>All images and captions were obtained through the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Comic Sans MS"/>
                <a:hlinkClick r:id="rId2"/>
              </a:rPr>
              <a:t>American Memory Collection</a:t>
            </a:r>
            <a:r>
              <a:rPr b="0" lang="en-US" sz="2400" spc="-1" strike="noStrike" u="sng">
                <a:solidFill>
                  <a:srgbClr val="e5ffff"/>
                </a:solidFill>
                <a:uFillTx/>
                <a:latin typeface="Comic Sans MS"/>
              </a:rPr>
              <a:t>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Backgrou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imes were tough for everyone during the Great Depression.  Farmers were especially hit hard because the price of crops and livestock dropped and farmers were unable to make a profit.  Farmers were unable to pay the banks for their loans and many lost their farms as a resul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New Deal offered help to farmers by giving them loans so they would not lose their farms.  However, farmers now had another probl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Drought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drought hit the Great Plains in the early 1930s. Strong winds formed and dust storms turned day into nigh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Scenes from the Dust Bow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616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bandoned farm in the dust bowl area. Oklahoma.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38080" y="2120760"/>
            <a:ext cx="36594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Scenes from the Dust Bow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on of farmer in dust bowl area. Cimarron County, Oklaho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10080" y="2536920"/>
            <a:ext cx="289584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Scenes from the Dust Bow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616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uto camp north of Calipatria, California. Approximately eighty families from the Dust Bowl are camped here. They pay fifty cents a week. The only available work now is agricultural lab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4360" y="2341440"/>
            <a:ext cx="37353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Scenes from the Dust Bow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ust bowl refugee in California. "We was starved out and we live on perhaps. We could maybe find a little work if we could afford to roll"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10080" y="2708280"/>
            <a:ext cx="3276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Scenes from the Dust Bow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616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ust bowl refugee from Chickasaw, Oklahoma. Imperial Valley, California. "Black Sunday, 1934, that was the awfullest dust we ever did see"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88920" y="2049480"/>
            <a:ext cx="335592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3:36:58Z</dcterms:created>
  <dc:creator>AAM</dc:creator>
  <dc:description/>
  <dc:language>en-US</dc:language>
  <cp:lastModifiedBy>AAM</cp:lastModifiedBy>
  <dcterms:modified xsi:type="dcterms:W3CDTF">2004-10-01T04:16:02Z</dcterms:modified>
  <cp:revision>4</cp:revision>
  <dc:subject/>
  <dc:title>Scenes from the Dust Bowl</dc:title>
</cp:coreProperties>
</file>