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omb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097-C6C4-44BE-B273-D45726C4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8F4-7BBC-43C3-97E6-9108089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FBB-909B-440A-B4C8-FC30C5F9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13C-1159-4A1E-BB7F-77ECFC39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AC3BC-0D51-4BF6-9986-D2437B65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9DA30-BC7B-4DD8-A0BD-EAA15C2B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EFDCC-7EF1-4D70-98DF-46A4F48A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DE79A-B414-4362-9CB5-2E4A489E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95CA-D950-44E9-A31B-090D5D58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7C9B2-6AFE-4310-B2AF-C541A3E2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D734-E1C1-48F3-9AB5-839AD03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6F6-895E-40A1-8E74-821E436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98954-1AE2-4FB9-A6EB-090398D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89EB-1ADE-43D2-A9AC-3952A88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E3CD6-970A-4B19-9380-754F5930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26ABB-AB1E-4F16-A1FA-3B09B719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9448F-A35E-403E-97A6-4B8EF75A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0F0-9A58-4089-A928-6D9DE4E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0F3-04B7-42D3-AAC6-4BD42C74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96E-BDB3-42F8-AAFE-B1BBD09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192-627F-4AB9-84CE-FE74743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3D5-4739-4006-BAB9-7FC6979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874-ABF2-497F-83F8-9A03C01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5AF-C481-4388-AE35-86C4EE3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0E72-9AFE-4373-B638-4B50EE429E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9081-6574-4BD0-9662-90C2B6697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nvironmental Issue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Ticking Time Bom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s. Summey – Oakway Middl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onee County, S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lorida Everglades: A Battleground of Environmental Issu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Held Hopes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coastal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ing natural resources (go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Da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and water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ing the Everglades has taken away water sources for other areas of Flor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habitat and org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l Issues in Oconee Coun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habitat due t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and available for solid waste 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widespread participation in recycling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365904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  <p:sndAc>
      <p:stSnd>
        <p:snd r:embed="rId2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s used by permission Library of Congress American Memory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vironmental Issues of To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ource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90760" cy="342756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pulation Growt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sons for population growth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mproved medicine and technolo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mproved agricult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mproved sanit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creased death ra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creased birth ra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source Us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 that are naturally replaced in a short period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renewable 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 that are not naturally replaced in a short period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  <p:sndAc>
      <p:stSnd>
        <p:snd r:embed="rId2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llu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934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types of pol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olving Environmental Issu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ree Viewpoi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al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rvation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rvation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evelopmentalist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viewpoint considers the environment as an economic resource to be used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647960" cy="335268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reservationis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viewpoint considers humans to be the caretakers of the environment and resources should be protected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diamond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nservationis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viewpoint considers the environment to be full of resources that should be used and not abus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40878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0:01:45Z</dcterms:created>
  <dc:creator>Oakway Middle School</dc:creator>
  <dc:description/>
  <dc:language>en-US</dc:language>
  <cp:lastModifiedBy> </cp:lastModifiedBy>
  <dcterms:modified xsi:type="dcterms:W3CDTF">2004-02-25T20:31:25Z</dcterms:modified>
  <cp:revision>7</cp:revision>
  <dc:subject/>
  <dc:title>Environmental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