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F74-492E-4275-B102-AE96C18A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500-3765-4AFD-9064-7316DD39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9A3-3C52-4D20-966C-4843191E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415-8CF9-4354-A488-E3B585C5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5CD-1195-4B9E-9F1C-D5B11B82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EF8C-D8BC-41EE-900A-B7D1AA93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4D4A-EA78-4EAD-AF10-E0AF5D6F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BBBE-42DF-42A9-9030-F3877645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81E7-844F-4D36-A3AB-26BD4C7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BF63-78F4-43AF-BAB8-A953A6AF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AEEE-B450-4864-9BC8-71F0B178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6CF-6E76-4E93-943E-95A9008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7F45-3FD1-4114-93A5-6F85BF8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2E56-79B5-4C61-B8DA-A3F4F93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1A48-DB39-4921-ABAB-751F251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132-9048-4E09-A62F-E8EA7942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77E4-5C2D-4615-A0F6-3A5D45CF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7F6-6B56-4AB9-86B6-9101A700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4FA-8C46-4E50-9E76-11FBF784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0A0-8F4A-4B66-9691-5B49C223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4BB-FEC6-4C22-8576-92D74ED7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DCA-A65B-4C05-8050-BC2BD6C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B0E-9578-4F7E-9D5C-4AE830A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ECE-2A46-4F87-9780-8CE5B09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4F21-3420-483A-B971-85F7F34964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1A4-E186-4467-A1F9-031C70DC60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oley-dickinson.org/services/volunteer-auxiliary/images/Trees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ooley-dickinson.org/services/volunteer-auxiliary/images/Trees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oley-dickinson.org/services/volunteer-auxiliary/images/Trees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igs Tree Trimming Serv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581280"/>
            <a:ext cx="41907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k-End Developer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ul Delump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ny Luo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676520"/>
            <a:ext cx="2057400" cy="166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3581280"/>
            <a:ext cx="4191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ont-End Developer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itesh Pat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shy Kuruvil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dice Scur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nted Permis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57680" y="1731960"/>
          <a:ext cx="4019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7680" y="1731960"/>
                    <a:ext cx="4019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7200" y="1711440"/>
          <a:ext cx="4038480" cy="43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11440"/>
                    <a:ext cx="403848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ored Proced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29528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PROCEDURE [sp_Insert_A_ChipDelivery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iCustID [int]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iBillID [int]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Loadsize [varchar] (30)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DateDelivered [datetime]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INSERT INTO CHIP_DELIVER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[CustID]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BillID]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Loadsize]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DateDelivered]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VALU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iCustID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iBillID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Loadsize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DateDelivered 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ored Proced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29528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PROCEDURE [sp_Insert_A_Bill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iCustID [int]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mAmountBilled [money]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mAmountPaid [money]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DateofPayment [datetime]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INSERT INTO Bil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[CustID]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AmountBilled]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AmountPaid]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DateofPayment]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VALU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iCustID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mAmountBilled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mAmountPaid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DateofPayment 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ored Proced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37160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PROCEDURE [sp_Insert_A_Owner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vOwnerName [varchar] (50)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Street [varchar] (50)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City [varchar] (50)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State [varchar] (50)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Zip [varchar] (10)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Phone [varchar] (50)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INSERT INTO OWN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[OwnerName],[Street],[City],[State],[Zip],[Phone]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VALU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vOwnerName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Street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City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State 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Zip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Phone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ored Proced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2952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PROCEDURE [sp_Insert_A_Service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iCustID [int]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iBillID [int]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TypeofService [varchar] (50)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DateofService [datetime]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PeriodBetweenService [varchar] (50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INSERT INTO SERV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[CustID]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BillID]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TypeofService]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DateofService]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[PeriodBetweenService]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VALU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@iCustID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iBillID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TypeofService 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DateofService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@vPeriodBetweenService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666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VIEW [vw_Owner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LECT Owner.*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ROM OWN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429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36232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VIEW [vw_Owner_Service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LECT Owner.*, service.serviceID, Service.BillID, Service.TypeofService, Service.DateofService, Service.PeriodBetweenService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ill.AmountBilled, Bill.AmountPaid, Bill.DateofPay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ROM SERV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NER JOIN OWNER ON OWNER.CustID = Service.CustI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NER JOIN BILL on Bill.CustID = Service.CustI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429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3623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VIEW [vw_Owner_ChipDelivery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LECT Owner.*, Chip_Delivery.ChipID, Chip_Delivery.Loadsize, Chip_Delivery.DateDelivered, Bill.AmountBilled, Bill.AmountPaid, Bill.DateofPay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ROM Chip_Deliver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NER JOIN Owner ON Owner.CustID = Chip_Delivery.CustI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NER JOIN Bill ON Bill.CustID = Chip_Delivery.CustI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er-Interfa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429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pic1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ser-Interfa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429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1600200"/>
          <a:ext cx="75438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543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riginal Database Desig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5040" y="2008080"/>
          <a:ext cx="7553160" cy="39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2008080"/>
                    <a:ext cx="755316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ed Structure to Databa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0160" y="2913120"/>
            <a:ext cx="1723680" cy="1905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52480" y="1447920"/>
            <a:ext cx="6019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atabase Design for Twigs Service in 3</a:t>
            </a:r>
            <a:r>
              <a:rPr b="0" lang="en-US" sz="40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Normal For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WNER  (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ustI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OwnerName,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eet, City,State, Zip, Phone,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urring, NonRecurr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IP_DELIVERY (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hipI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CustID, BillID, LoadSize,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DateDelivered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RVICE  (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ServiceI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CustID, BillID, TypeofServ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iodBetweenService, DateDelivered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LL (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illI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CustID, AmountBilled, AmountPaid,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DateOfPayment 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eign Key Constra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ustID in CHIP_DELIVERY must exist in CustID in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WN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illID in CHIP_DELIVERY must exist in BillID in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I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ustID in SERVICE must exist in CustID in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WN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illID in SERVICE must exist in BillID in BI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ustID in BILL must exist in CustID in OWN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tity-Relationship Model In Vis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1676520"/>
          <a:ext cx="54864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54864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" y="1143000"/>
          <a:ext cx="870444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70444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tabase Design in Enterprise Man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ed Structure to Databa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0160" y="2913120"/>
            <a:ext cx="1723680" cy="190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1447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or Front- End Develop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528480"/>
          <a:ext cx="8229600" cy="535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8480"/>
                    <a:ext cx="822960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30Z</dcterms:created>
  <dc:creator>pedelump</dc:creator>
  <dc:description/>
  <dc:language>en-US</dc:language>
  <cp:lastModifiedBy>Owner</cp:lastModifiedBy>
  <dcterms:modified xsi:type="dcterms:W3CDTF">2003-12-01T06:17:38Z</dcterms:modified>
  <cp:revision>18</cp:revision>
  <dc:subject/>
  <dc:title>Slide 1</dc:title>
</cp:coreProperties>
</file>