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BEC-CACE-4E5E-9E0B-3DD51B29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87A-B4B2-49FA-A626-C025E5D5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FEA-04FE-4DCA-B1C7-EEA20EF0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305-FD02-4E70-8022-49650B08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D6E-A053-4ADD-8459-7CFB8436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3528-B8D2-4F5E-A89E-11D86133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E540-2823-43FA-B3D2-B45DAD0B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95B0-73D5-4A9A-8076-82DD227F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598A-F229-4F27-9321-2A153529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1AD7-9BF1-46D2-9623-D1DF5C1B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6AF-22E5-4694-8E91-2F478D06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215B-8058-445B-960A-D68C5D87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CB5F-1B8C-4AB7-8651-9C4AA261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5105-6DD4-496C-A974-96783F7C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20FC-3423-4DB8-8EDB-813FCA32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761E-E3A5-47B6-9882-EF6E27CC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50C8-0803-4DED-8B9D-2E6F3EDD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E9B7-1D47-42AB-BF4D-9ACEF7FC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9E278-DBC8-4BD9-B443-4D7D8A89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88481-1464-47B8-812B-B2CA99EB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6FEBA-B0CB-4B2A-AB16-83AD2B61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4DE-A84C-47F3-B854-A8E1C5C1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99149-21D2-4AF5-A09D-3A38FE99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7C187-C1AC-490D-8E71-95A8B008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7404-1FFD-4F86-B5D8-7C19CCA2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CA84-FD6A-4989-8B29-61B7D322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7489-165E-4808-92B7-82773009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B6091-7FBF-43F2-A102-59171699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46519-D885-406B-9731-1186A9A3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37220-09EE-4B9B-88E6-DF1AB78A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80B9-F004-4935-AB05-114985BF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951-1463-4088-A169-A7ECF759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B58-6D27-450A-BFE2-9AB9C93C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3489-F071-4CA5-8D11-40B17BF1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657-F6E8-4A29-9F8C-A1A30649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D81-469B-404A-8BE4-0BD6C4A8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A6DA-DE54-493F-B32A-635F894E0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4674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0FE2-F6DE-40DE-A3B6-042232D37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A3FE-926E-4722-8E6F-6074780F2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oc.gov/" TargetMode="External"/><Relationship Id="rId3" Type="http://schemas.openxmlformats.org/officeDocument/2006/relationships/hyperlink" Target="http://memory.loc.gov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4674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ansporta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682280" y="4838760"/>
            <a:ext cx="5861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nn Mas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strong Ele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WebBrowser1"/>
          <p:cNvGraphicFramePr/>
          <p:nvPr/>
        </p:nvGraphicFramePr>
        <p:xfrm>
          <a:off x="914400" y="838080"/>
          <a:ext cx="7315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WebBrows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315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hotos are courtesy of the </a:t>
            </a:r>
            <a:r>
              <a:rPr b="0" lang="en-US" sz="3200" spc="-1" strike="noStrike" u="sng">
                <a:solidFill>
                  <a:srgbClr val="969696"/>
                </a:solidFill>
                <a:uFillTx/>
                <a:latin typeface="Arial"/>
                <a:hlinkClick r:id="rId2"/>
              </a:rPr>
              <a:t>Library of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3200" spc="-1" strike="noStrike" u="sng">
                <a:solidFill>
                  <a:srgbClr val="969696"/>
                </a:solidFill>
                <a:uFillTx/>
                <a:latin typeface="Arial"/>
                <a:hlinkClick r:id="rId3"/>
              </a:rPr>
              <a:t>American Memory Coll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ypes of Transport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30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types of transporta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ats &amp; 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b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811320" cy="2960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93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oats &amp; Ship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Transpor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rting &amp; Importing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828800" y="3200400"/>
            <a:ext cx="5486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ssenger Trai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of transpor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6934320" cy="3429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695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utomob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Transpor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486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irplanes &amp; Aircraf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Transpor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rting and Importing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487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rvices With Transport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figh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 Offi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S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392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portin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800600" cy="3429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of moving goods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75136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5446800"/>
            <a:ext cx="647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945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ort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of moving goods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7242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22:37:20Z</dcterms:created>
  <dc:creator>AAM</dc:creator>
  <dc:description/>
  <dc:language>en-US</dc:language>
  <cp:lastModifiedBy>AAM</cp:lastModifiedBy>
  <dcterms:modified xsi:type="dcterms:W3CDTF">2004-03-25T23:15:33Z</dcterms:modified>
  <cp:revision>31</cp:revision>
  <dc:subject/>
  <dc:title>Transportation </dc:title>
</cp:coreProperties>
</file>