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BFD-F145-4B64-9FD5-41562781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BBE-0DB8-482E-AC2D-8179FB11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FD4-B48E-4ABA-88D2-AD46AC2C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222-93C6-4FD6-8DB5-0BF911FB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2A1D-BC81-40FE-AE43-F78DD2CD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02E7-F188-47A6-98BD-F62149DD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8707-B56C-4AF3-AC0A-64606610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DFD9-AD23-4979-834C-004C0EA0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5B32-CCDF-4C15-9809-5D7C6433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90B2-72A7-41E6-9C6F-B855FBDC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2229-6E02-48F4-A86C-B87B4C37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732-EC73-4A96-ACC3-2403FCD8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C03C-6B4C-4724-9803-DD275070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9526-A27D-4C96-8697-600580C9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1608-2831-4AA3-883D-C17C6E53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A7C1-4C67-476A-B3C5-1646014D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BFA7-B8C8-42E4-9BA8-C003B1FA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157-7CE9-40DF-BA89-A178604D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512-EEC6-4946-BFD7-8C367DC0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0B9-25AF-4D83-9095-F7D554C7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864-D7D9-4101-965D-7E354467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98A-E711-48AA-8740-753FBCF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66C-BA15-45A0-B837-9E507D56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FDB-C3CB-4FF9-8F9A-89C8D336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ilting - Piecing Together a N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81080" y="380952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ty Gilb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 developed as part of the Adventure of the American Mind project funded through the Library of Congres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35244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in Schedu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standard time – caused much confus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town set time according to the su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 to schedule trai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 new “time zones” for nation to aid schedu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5867280"/>
            <a:ext cx="373392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Schedule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30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wer Station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1890 new power stations provided electricity for lighting, fans, printing presses and  many other newly invented appliances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605040" cy="441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10080" y="64008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6095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reet Ligh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ilting, a Way of Lif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ques passed down from mother to daugh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ilting was a form of recreation and necess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ilting Bees were social events for the wom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 had to do for themselves while the women were at the Quilting Be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ilts were judged at the local fai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2666880" cy="1968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3962520"/>
            <a:ext cx="2714400" cy="219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72428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Quilting Bee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4800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ate F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Quilts Were Functional and Beautiful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lts were used for warmth and comfor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lts were used  to decorate the hom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150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 Final Wor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Original photos, graphics, and documents come from the American Memory Collection of the Library of Congress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repared as a part of the Adventures of the American Mind Project through the Library of Congress at Furman University, Greenville, South Carolina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Unit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identify aspects of everyday life in a pioneer home during the late 1800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bring the American Memory Collection into the class ro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introduce high school sophomores to aspects of US His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encourage the use of technology in all areas of lear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Westward, </a:t>
            </a:r>
            <a:br>
              <a:rPr sz="4400"/>
            </a:b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Ho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3200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mestead Act of 186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ered anyone who met the requirements 160 acres of land!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ve people hope of owning a home and land, riches and a better way of life for their famil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55627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8120" y="152280"/>
          <a:ext cx="550692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280"/>
                    <a:ext cx="55069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ife on the Prairi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oneers’ basic necessities did not come without a strugg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had to be hauled in buckets or collected in a cistern when it rain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ll-digging dangerous and difficul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ugh prairie sod difficult and  backbreaking to pl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956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airie Home Lif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men had to make many articles that the family needed – clothing, soap, candles and preserved fo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lts for warmth were made by and from scraps and bits of worn cloth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05520" y="2876400"/>
            <a:ext cx="1095480" cy="190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943600" y="548640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mily in front of cabin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51055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bcbcb"/>
                </a:solidFill>
                <a:latin typeface="Times New Roman"/>
              </a:rPr>
              <a:t>New Technology Improved Liv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1870’s new inventions made life easi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ows to plow several rows at o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rows to break up group before plan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75: Steam powered thres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90’s: cornhuskers &amp; cornb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48400" y="1981080"/>
            <a:ext cx="2751120" cy="388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15000" y="6095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iagram of Telegra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Era of Tremendous Growth in New</a:t>
            </a:r>
            <a:br>
              <a:rPr sz="3600"/>
            </a:b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Inven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60 – 1890    500,000 Patents Issu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wri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wing 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nograph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410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Singer Sewing 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ving Home Behin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most difficult hardships was leaving behind family and loved 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assurance they would ever see them ag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communication advances diminished fears of iso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00528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79132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Local Post Of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bcbcb"/>
                </a:solidFill>
                <a:latin typeface="Times New Roman"/>
              </a:rPr>
              <a:t>Transcontinental Railway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–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ay 10, 1869</a:t>
            </a:r>
            <a:endParaRPr b="0" lang="en-US" sz="3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ed coast to co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ed costs of shipped go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ins still noisy, uncomfortable and unsafe for travel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276720" cy="2522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71600" y="5943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343400"/>
            <a:ext cx="2057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IN DEPOT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209680" y="5181480"/>
            <a:ext cx="693432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30T12:24:24Z</dcterms:created>
  <dc:creator>Linda Trantham</dc:creator>
  <dc:description/>
  <dc:language>en-US</dc:language>
  <cp:lastModifiedBy>AAM</cp:lastModifiedBy>
  <dcterms:modified xsi:type="dcterms:W3CDTF">2002-05-02T02:13:45Z</dcterms:modified>
  <cp:revision>7</cp:revision>
  <dc:subject/>
  <dc:title>Quilting - Piecing Together a Nation</dc:title>
</cp:coreProperties>
</file>