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2D0-DB0C-49EE-A201-3B4087C7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037-BCE7-4B7C-B5C9-BF3FF63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A59-77A9-417D-B0FE-15F0AA2D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366-F392-4CC3-B0A5-BC3546D8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DE332-E185-4B9D-92A6-5C1994CB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5992C-DDA7-49CA-8523-1646520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22CF4-8637-4C01-AA79-88B6B6EF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F04C6-314B-4B8F-9286-F4A4350F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F618-42AB-44F2-AA1A-18C980A9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56F3C-8A76-4961-88DA-8BA91455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97A6C-A94F-421A-A9D3-AC7A2D0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719-95C3-4848-9D47-9B76F97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A9D67-CEFE-4817-9B28-E34EAD0A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6543F-8D69-4C68-A962-8311EC5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70853-D76E-4288-8FF1-87BD11D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4965-FF6E-41EA-84E8-78A01E6B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223F1-840C-4C95-8FC3-FA943818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F21-CE66-42D7-B028-9E38BB5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B31-83E0-4661-AA9C-38510E4F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C1B-113A-4A92-A7EC-FBBC6229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607-1632-48B3-A0D7-3DF8590F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0D5-E82C-45E6-B3A2-1004AC8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13E-075B-43F6-9B02-29C0C6F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400-13CB-4F53-992D-828F5AF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2682-45D5-4066-A94B-2E9EE1E6D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EBA-8ADE-48AC-8997-73D45D407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act of Inventio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o Cra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nville Tech Charter High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152388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ving Spac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el Suspension Brid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90476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ovative construction changed the face of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oklyn Bridge completed in 188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nned 1,598 fe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el cables suspended from towe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y people skept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7086600" cy="184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ving Space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ama Ca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t through the Isthmus of Pan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s Atlantic and Pacific Oc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nama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 raised 85 feet above sea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ks to raise and lower 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mile long channel through solid rock mount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0 feet dep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98756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15000" y="1905120"/>
            <a:ext cx="204804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osing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hanges do you see in    communication, transportation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construction in America’s fut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dit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d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hotos of curtsey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ibrary of Congres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Memory Collection for the National Digital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 information curtse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Americ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 Gerald A. Danzer (McDougal Littell. Evanston, Illinois. 1998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Give It A Try……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sential Core Questio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“What causes change?”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00400" y="2437920"/>
            <a:ext cx="5486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logu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??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What caused change in America at the turn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ntur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??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What characteristics are necessary to be an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ntor?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??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How do inventions affect Americans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, home and pl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??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What are some negative and posit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of chang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pening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nvention had the biggest impact on Americans at work, at home and at pl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portation                              Communication                          Living Spa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9880" y="480060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629400" y="31240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80880" y="297180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629400" y="487692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57200" y="4952880"/>
            <a:ext cx="2133720" cy="1722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97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8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1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0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1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1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2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2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8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33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3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6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7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42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43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5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6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tomobi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have a model T in any color as  long as you choose blac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nry Fo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igned and built an automobile in his h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03 Ford Motor Company fo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08 – Model T sold for $8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4038840" cy="288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Image, Source: "/>
          <p:cNvPicPr/>
          <p:nvPr/>
        </p:nvPicPr>
        <p:blipFill>
          <a:blip r:embed="rId3"/>
          <a:stretch/>
        </p:blipFill>
        <p:spPr>
          <a:xfrm>
            <a:off x="6705720" y="4114800"/>
            <a:ext cx="19922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rpla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ville and Wilbur Wr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tty Hawk, N.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 7, 19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0 feet for 12 sec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tle public atten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mum newspaper cove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suspicion that the sky was a place only for birds, angels and fool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Image, Source: original negative"/>
          <p:cNvPicPr/>
          <p:nvPr/>
        </p:nvPicPr>
        <p:blipFill>
          <a:blip r:embed="rId2"/>
          <a:stretch/>
        </p:blipFill>
        <p:spPr>
          <a:xfrm>
            <a:off x="5029200" y="1981080"/>
            <a:ext cx="3238560" cy="407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irpla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05 – 24 mile f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0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continental air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WI dog f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5 – service flights made at n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2451240"/>
            <a:ext cx="3733920" cy="302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munication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d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uglielmo Marcon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vented a spark transmitter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. 1898 - the world's first radio factory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merican Marconi Co. was formed in 1899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coni controlled patents for the Lodge tuner with dial and Fleming valve that amplifies electrical curr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any sold spark transmitters to the U.S. Navy for point-to-point transmiss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2401920" cy="3094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590920" cy="200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munication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ph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ented in 18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xander Graham Bell – teacher for the deaf in Bos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ns sound waves into electrical cur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80 -85 cities had telephone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85 Am. Telephone and Telegraph Co fou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81480" y="1477800"/>
            <a:ext cx="2514600" cy="2027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2120" y="1523880"/>
            <a:ext cx="2590560" cy="185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22:36:48Z</dcterms:created>
  <dc:creator>AAM</dc:creator>
  <dc:description/>
  <dc:language>en-US</dc:language>
  <cp:lastModifiedBy>AAM</cp:lastModifiedBy>
  <dcterms:modified xsi:type="dcterms:W3CDTF">2004-05-30T22:58:30Z</dcterms:modified>
  <cp:revision>25</cp:revision>
  <dc:subject/>
  <dc:title>Inventions</dc:title>
</cp:coreProperties>
</file>