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63F-32C1-43C7-9317-324AB2D8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651-D355-4810-B880-3D0CEF4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B1D-8F90-4231-A923-970B2F40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01A-4D21-4843-ADB3-7BFA627C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089-E188-4985-87A7-F1C653B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94A-503D-45CC-81A9-2F54E5F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FE9-49B6-42FB-8676-7C0ABAFE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006-5055-4A82-A8DD-0CD983A8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A5D-EAA9-4601-8B52-DA9E57F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34E-2982-420B-A61A-3DABAE87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FA9-6D61-4A58-90BB-C079660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511-1369-47C1-96E2-6051ACA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2E2-4749-454E-98B6-4116A9AAB5C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Foot </a:t>
            </a:r>
            <a:br>
              <a:rPr sz="8000"/>
            </a:b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In The Door</a:t>
            </a:r>
            <a:br>
              <a:rPr sz="9600"/>
            </a:b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Getting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Interview</a:t>
            </a:r>
            <a:r>
              <a:rPr b="1" lang="en-US" sz="10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0600"/>
            </a:br>
            <a:endParaRPr b="0" lang="en-US" sz="10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8686800" cy="114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90D-369A-4BD4-9862-5B3545E87F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Times New Roman"/>
              </a:rPr>
              <a:t>Chronological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288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ob by job listing of each job you've held starting with your most recent job and going                                     backward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ong  work hist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orked for each employer 2 years or mor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ly a few gaps of only a few months between each jo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ral years of employment in the field or type of position you see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sitions show job grow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902-0A73-4E69-BF1D-43096AF4E1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Samples: Employment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92-199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liver Health Services (Oliver Corporatio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rate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$5 mill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n annual revenue for Northwest branch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ositioned Oliver to win new contracts worth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$16 million in annual revenu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ld high tech home health care services including disease management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ly discharge programs, acute and chronic infus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herapies, high risk women and pediatric health programs. Client domain included managed care organizations, hospitals and physicians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ccess Award Winner for exceeding performance targe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996 President's Club Award Winner (Top 20% of sales personn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24-0F93-4B4D-85C4-00901417C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Times New Roman"/>
              </a:rPr>
              <a:t>Functional/Skill-Based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2880" cy="4343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s skill headings but does not include a work history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functional/combination resume uses skill headings but also includes a work history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rratic work histo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aps in employ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 work hist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king a career change and your past work history and job titles don't match your job objective or salary lev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773-7EA3-4FEB-A346-31EAAC887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Samples: </a:t>
            </a:r>
            <a:br>
              <a:rPr sz="5400"/>
            </a:b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Key Competencies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1360" y="171432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edical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5 years of medical sales experience in the managed care, hospital, physician group and pharmaceutical mark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ales Prospecting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sitioned Oliver to win two prestigious contracts worth $16 million in revenue for Northwest branch office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uccessfully led roll-out of  Collastate Homeostatic Sponge  and led entire region in total sales ($5.5 millio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ustomer  Relation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cellent client relations skill leading to broad-based and long term relationships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eamed with physicians to conducted client assessment and follow-up analysis to develop customized stimu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243-8175-4294-B3B7-BD3334A32E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9440" y="-1936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0"/>
            <a:ext cx="274320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ddd1 N. 156</a:t>
            </a:r>
            <a:r>
              <a:rPr b="1" lang="en-US" sz="1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th</a:t>
            </a: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 Plac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Shoreline, WA 9813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206 440-dd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email: dddggnm @aol.com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61920" y="74628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60" y="-6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51840"/>
            <a:ext cx="19987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Nancy Lars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CG Times"/>
                <a:ea typeface="Times New Roman"/>
              </a:rPr>
              <a:t>Key Competenc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066680"/>
          <a:ext cx="8852040" cy="2556000"/>
        </p:xfrm>
        <a:graphic>
          <a:graphicData uri="http://schemas.openxmlformats.org/drawingml/2006/table">
            <a:tbl>
              <a:tblPr/>
              <a:tblGrid>
                <a:gridCol w="1630440"/>
                <a:gridCol w="7221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ffice Management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trong organizational skills and problem solving abilities with attention to detail. Ability to  work independently. Guaranteed follow through. Completes all assigned tasks with a high level of professionalism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cellent written and verbal communication skills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pertise in publishing newsletters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trong parent-child/ customer service skills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bility to word process 50 wpm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206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dvanced computer skills (Word, Excel, PowerPoint, Publisher, Microsoft Office, Win 95, Win98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ild Care Management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ore than 10 years of experience in child care delivery and management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tensive experience in coordinating and motivating child care providers to achieve excellence in care and service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xcellent training and coaching skills for staff as well as children and their parents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roven track record of managing to budget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ubstantive fund raising experience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26640" y="35042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66"/>
                </a:solidFill>
                <a:uFillTx/>
                <a:latin typeface="CG Times"/>
                <a:ea typeface="Times New Roman"/>
              </a:rPr>
              <a:t>Work Experienc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360" y="-606600"/>
            <a:ext cx="97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809880"/>
          <a:ext cx="8915400" cy="2827440"/>
        </p:xfrm>
        <a:graphic>
          <a:graphicData uri="http://schemas.openxmlformats.org/drawingml/2006/table">
            <a:tbl>
              <a:tblPr/>
              <a:tblGrid>
                <a:gridCol w="1415880"/>
                <a:gridCol w="74995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/2000 to Present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ubstitute Secretary.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horeline School District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istrict Office, Kellogg Middle School Shorecrest High School.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taff newsletter publication. Sent quick mail. Prepared word documents. Spreadsheets in Excel. Telephone receptionist. Worked front desk assisting parents, teachers and children.. Assisted in preparation  of progress reports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/98 -3/2000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Home Health Care Provider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ull charge care of 102 year old grandmother so she could live and die with dignity.  Tasks included bathing, feeding, health care assistance, money management and companionship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989-1998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irector, Discovery Bay Daycare, 3434 16</a:t>
                      </a:r>
                      <a:r>
                        <a:rPr b="0" lang="en-US" sz="12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Avenue West, Seattle, WA 98199 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versaw operation of 18 family company sponsored daycare center. Managed, hired, and directed staff of four daycare providers. Payroll, taxes, accounts payable and receivable. Licensing with DSHS. $175,000 budget.   Developed an exceptional music program.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ever had a complaint filed with DSHS against center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naged annual budget of $175,000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66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chieved 10 straight years of profitability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0" y="685800"/>
            <a:ext cx="883908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5A-92CB-463B-8959-129D83C35C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909360"/>
            <a:ext cx="89917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DUCATION 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UNIVERSITY OF WASHINGTON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,  Seattle, W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BA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ne 200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signed comprehensive compensation system including job descriptions, job evaluation manual, performance appraisal instrument, a pay structure and an incentive system. Conducted regression analysis, internal and external market analysis, and a benchmarking study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veloped and implemented a marketing plan for a local business as part of the Business and Economic Development Program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ordinated logistics for a major networking event involving more than 50 companies and 250 guests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THE PENNSYLVANIA STATE UNIVERSITY,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State College, P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BS, Management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PERIENCE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PLUM CREEK TIMBER CO, INC,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Seattle, W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Assistant Director of Compensation and Benefits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2000-0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Implemented Cash Balance Retirement Plan delivering annual cost savings of $400K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Implemented Long Term Incentive and Variable Compensation Plan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veloped  an integrated compensation plan for companies' largest merger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veloped and implemented Stock Option management plan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ducted benchmarking study for pay grade validation project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UNITED STATES NAV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Contracting Officer/Logistics Support Officer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echanicsburg, PA1996-9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Spearheaded innovative contracting efforts tailored to provide supply chain solutions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ordinated complex creative contract delivering cost savings of $10M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Initiated unique inventory sale and exchange program resulting in cost avoidance of $4M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warded  Naval Sea Systems Command Team Logistics Award for most improved Weapon System Team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warded Navy Commendation Medal for superior performance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Promoted to Lieutenant Command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15228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arah Johns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AB5-89B1-49E4-8FA1-50198891CC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On-Line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Resume</a:t>
            </a:r>
            <a:endParaRPr b="0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lectronic Mai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lain Text (.txt) -- ASCII only fi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ich-text (.rt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ypertext (.htm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2040" indent="-21996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ressed fil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lectronic For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ersonal Web pa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annable Resum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r own domain na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ersonal homepa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39732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126-99B4-47CE-9C8C-AD9B911678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On-Line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Resume</a:t>
            </a:r>
            <a:endParaRPr b="0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-mail Addre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ildOne” versus “JaneSmith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gnatu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sy to spe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void Cutes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r own domain na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ersonal homepa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39732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135-B837-498B-A54E-91832AA53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Elements Of Your Resume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6080" y="121932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Heading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bjective (if desired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ore Competenci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mployment dat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557280" indent="-214200">
              <a:spcBef>
                <a:spcPts val="176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Key func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57280" indent="-214200">
              <a:spcBef>
                <a:spcPts val="176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Job Skil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57280" indent="-214200">
              <a:spcBef>
                <a:spcPts val="176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complishments/ awa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ducation and Training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sonal Dat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57040" indent="-257040">
              <a:spcBef>
                <a:spcPts val="22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Qualification Summar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3033720" cy="4460760"/>
          </a:xfrm>
          <a:prstGeom prst="rect">
            <a:avLst/>
          </a:prstGeom>
          <a:ln w="0">
            <a:noFill/>
          </a:ln>
          <a:effectLst>
            <a:outerShdw dist="85328" dir="20006097" blurRad="0" rotWithShape="0">
              <a:srgbClr val="ff99cc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C49-12F8-489E-BF01-347D4933E7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657600" cy="3468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Buzzword Resume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uzzwords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solidify your standing in the Indust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veloped JIT inventory control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stem using A-B-C hierarchic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Use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their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buzz word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rms in advertisem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mepag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ssion Statement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e.g. evangelist, guru, independent contributo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682-C022-4C4B-9114-2B91B0A8C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84872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Times New Roman"/>
              </a:rPr>
              <a:t>The Facts</a:t>
            </a:r>
            <a:br>
              <a:rPr sz="10600"/>
            </a:br>
            <a:endParaRPr b="0" lang="en-US" sz="10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888160"/>
            <a:ext cx="8534520" cy="96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644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sco Systems Job page gets 500,000 visits per mon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icrosoft gets more than 12,000 resumes per mon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merican Express screens 3,500 resumes month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0,000 Web sites offer job posting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re than 1.5 million resumes onlin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0 percent of Internet users are looking for a job onlin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202-1559-44FF-8918-DE91E9AF3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Individualize Resume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6080" y="142884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ustomer drive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pproach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ndividualized For EACH Compan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sure you have clearly delineated that you meet the company’s minimum qualif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e.g. 3 years C++ experienc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24-F8A8-4300-9E40-F4D8BB4CE7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42000" y="3389400"/>
            <a:ext cx="4302000" cy="3468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Quantify Accomplishments</a:t>
            </a:r>
            <a:br>
              <a:rPr sz="6600"/>
            </a:b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clude specific concrete numb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umbers (10% increase,  staff of 15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llars ($1 million)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ercentages ( 15% increase, Up 125%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EF2-1B2F-4ED5-8C17-DBA3A7661A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Times New Roman"/>
              </a:rPr>
              <a:t>Original Job History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Experi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nager, Freddie’s Readymart, Nanhassett, N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pervised employees, trained cashiers. Responsible for inventory control. (199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nager, K-Mart Stores, Long Island City, N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ponsible for camera department, hired employees and supervised night shift (199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tribution supervisor, ABC Stores, Ithaca, N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versaw all deliveries to 17 stores. Controlled 7 truck drivers. Assisted customers ( 1990-199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257-0F1D-4968-A7DA-CBF37CEE0D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nager, Freddie’s Readymart, Nanhassett, N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iring, firing and staffing authority for  5 full-time and 22 part-time employees.  Designed and delivered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 hou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in house training for cashiers. Coordinated  inventory control syste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,000 SKU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tems. Weekly sales of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$100,000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n1999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Accomplish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reased customer satisfaction ratings b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% point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n  five month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duced shrinkage b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5% in a six month peri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ceived commendation for store cleanlin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reased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eekly sales by 50%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0"/>
            <a:ext cx="613404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vision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7D0-47AB-4BC2-8FC1-88571CD43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600" y="228240"/>
            <a:ext cx="8636040" cy="85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9600" spc="-1" strike="noStrike">
                <a:solidFill>
                  <a:srgbClr val="660066"/>
                </a:solidFill>
                <a:latin typeface="Times New Roman"/>
              </a:rPr>
              <a:t>Two Words </a:t>
            </a:r>
            <a:br>
              <a:rPr sz="9600"/>
            </a:br>
            <a:r>
              <a:rPr b="1" lang="en-US" sz="9600" spc="-1" strike="noStrike">
                <a:solidFill>
                  <a:srgbClr val="660066"/>
                </a:solidFill>
                <a:latin typeface="Times New Roman"/>
              </a:rPr>
              <a:t>Not to Use</a:t>
            </a:r>
            <a:endParaRPr b="0" lang="en-US" sz="9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66"/>
                </a:solidFill>
                <a:latin typeface="Times New Roman"/>
              </a:rPr>
              <a:t>Entry Level</a:t>
            </a:r>
            <a:endParaRPr b="0" lang="en-US" sz="1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031-9D19-4300-BBBD-55DB08EBC7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582624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600" y="228240"/>
            <a:ext cx="8636040" cy="857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imes New Roman"/>
              </a:rPr>
              <a:t>Don’t Lie</a:t>
            </a:r>
            <a:endParaRPr b="0" lang="en-US" sz="8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085760"/>
            <a:ext cx="87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Lie or Exaggera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ard Howell’s executive search firm found that among executive candidat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65% lie about their academic credentia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3% lied about  job responsibil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2% lied about previous compens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niversity of Pittsburgh foun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9-35% of medical students lied about research, presentations and articles.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71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91D-AB59-42C2-B3CF-E55CDEC8D5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-685800"/>
            <a:ext cx="5922720" cy="716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9999ff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89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9999ff"/>
                  </a:outerShdw>
                </a:effectLst>
                <a:latin typeface="Impact"/>
              </a:rPr>
              <a:t>Cover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89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9999ff"/>
                  </a:outerShdw>
                </a:effectLst>
                <a:latin typeface="Impact"/>
              </a:rPr>
              <a:t>Letter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89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020-7AEC-4C70-9940-8BC777F6C0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Cover Let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Proper Business Format 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Crisp and clean, no spelling erro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Addressed to a specific person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Original letter with specific reference to the company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Provides relevant information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mmary of your skill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Concrete example of value added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Sells your brand to the reader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ess reviewer with applicant’s focu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lears up any questions from resum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22680" y="0"/>
            <a:ext cx="462132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DF0-A07B-48B3-8021-F5109E96DF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0"/>
            <a:ext cx="747576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etting Noticed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036-3C88-4E37-A63D-B1EFD132D0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Times New Roman"/>
              </a:rPr>
              <a:t>Include Quote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ersonal Stateme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The secret of success is consistency of purpos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To exist is to change, to change is to mature, to mature is to go on creating oneself endlessly - Henry Bergs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We are what we believe we are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Times New Roman"/>
              </a:rPr>
              <a:t>If you win the rat race, you are still a rat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otes from Referenc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om is the brightest student I have ever known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ly always completed projects on schedule -- even the toughest ones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CFC-4E89-4256-A40F-5D037D1BE4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atch Between 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ndividual and Organization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3429000" cy="1523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4800600"/>
            <a:ext cx="3429000" cy="1523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Organization’s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of Desi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Individu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3429000" cy="1523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Organization’s Eff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To Attract Desi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Individu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876920"/>
            <a:ext cx="3429000" cy="1523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Individual’s Cho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Of An Organ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4080" y="2583000"/>
            <a:ext cx="272124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Individual’s eff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To attract Desi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3962520"/>
            <a:ext cx="0" cy="83808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048120"/>
            <a:ext cx="1218960" cy="243828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962520"/>
            <a:ext cx="0" cy="76176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038480" y="2971800"/>
            <a:ext cx="1067040" cy="2590920"/>
          </a:xfrm>
          <a:prstGeom prst="line">
            <a:avLst/>
          </a:prstGeom>
          <a:ln cap="sq"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5B4-8727-4F72-8AF2-8CAEF557A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Times New Roman"/>
              </a:rPr>
              <a:t>The Postscript Techniqu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ghlight a marketable skill by adding a postscrip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.S.  I was the first intern at The Boeing Corporation to be named employee of the month. And I won it not once but three times.  I am looking forward to bringing the same level of commitment to  you at High Flyers.com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6B7-1B0B-46F4-8941-0E3DF6B8BB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534520" cy="2057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Life Experiences Section</a:t>
            </a:r>
            <a:br>
              <a:rPr sz="5400"/>
            </a:b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mployers want people who are well rounded and have diverse intere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eople like people who are like themselv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versation star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Samp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Won Best in Show at the superbowl of dogdom, the Westminster Dog show with Scottish Terrier Ch. Gaelforce Postscrip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orrespondent for the National Enquir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Avid runner. Successfully completed 5 marathons. Improved personal best time each ru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1A9-6E09-4211-A4E4-3E2E2952C1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2287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Accredit Your Qualification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Gives a Competitive Advantage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Demonstrates Creativity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A Picture is Worth a Thousand Word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56000" y="3772080"/>
            <a:ext cx="2881440" cy="260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336760" y="514440"/>
            <a:ext cx="43182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Eras Bold ITC"/>
              </a:rPr>
              <a:t>Portfolio</a:t>
            </a:r>
            <a:endParaRPr b="0" lang="en-US" sz="24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2E3-ACED-4DA6-AED8-C9DD6007A6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8860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D ROM or disk containing examples of your work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Business Plan or analysi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lass Project (e.g. Compensation study, executive briefing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omputer code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Power point presentatio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Product Desig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eb page (make sure it is perfect and links work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leshed out”  example of your solution to a particular problem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95480" y="838080"/>
            <a:ext cx="538488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Eras Bold ITC"/>
              </a:rPr>
              <a:t>Portfolio</a:t>
            </a:r>
            <a:endParaRPr b="0" lang="en-US" sz="24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Eras Bold ITC"/>
              <a:ea typeface="Eras Bold ITC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208908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279-4C06-44FA-955D-4FD8674D3B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pearance 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f Resum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11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Are there spelling errors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Is everything in proper tense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Is it printed on good quality bond with matching envelope and cover letter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Is the printing readable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Does it provide relevant information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Does it ramble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Are the entries consistent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Overall cleanliness, legibility?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8FD-FBCB-4866-B776-278940BC6D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Please note that I have a Fortune 500 pedigree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Worked in hospital as a candy striper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Great eye for derail.”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Currently unemployed because of self-inflicted toe sprain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I have incredibly entertaining hair."            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Education: Some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Responsible for all customer complaints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Finished eighth in my class of ten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References: none. I've left a path of destruction behind me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Sex: often. Marital status: often. Children: various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It's best for employers that I not work with people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Wholly responsible for two (2) failed financial institutions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Reason for leaving last job: maturity leave.”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Note: Please don't misconstrue my 14 jobs as 'job-hopping'. I have never quit a job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The company made me a scapegoat, just like my three previous employers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"I have an excellent track record, although I am not a horse."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Did They 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Really </a:t>
            </a: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Say That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C41-13FA-4952-875A-938F4FB9C0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ruiters are Looking for: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erson-Job Fi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 you have the requisite skills to perform the key functions of the jo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ortant during initial scre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erson-Organization Fi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 well do you fit into the organization’s cultur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e your values congruent with organizational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ortant at final hiring sta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49C-A732-4A4E-AF82-93DE78F9A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Accredit Your Job Worth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ver Let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mary of Qualific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nks to Specific Compan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esu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unctional AND Chronologic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c, vivid adjectiv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rete Examp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rtfoli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ecutive Briefing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de Samp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lanning Docu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lass Repor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64120" y="3429000"/>
            <a:ext cx="22892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6C2-8A91-4EAD-95A7-E5686A1845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Purpose of the Resume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And Job Letter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75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Applicant perspectiv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demonstrate you meet or exceed minimum qualific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highlight key compet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separate your resume from the m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get your foot in the do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demonstrate value-added attribu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ctr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To Sell Your 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Personal Brand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960" y="2362320"/>
            <a:ext cx="4064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4AD-BD4B-40B4-BE73-BDA9CA070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urpose of the Resum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d Job Lett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14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Employer Perspectiv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assess whether candidates possesses minimum qualific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narrow down applicant poo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identify inconsistencies  or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aps in employment hist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determine if peopl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re lying about their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redentia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37040" cy="31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AB0-54A8-4D4C-AAD8-B9559ADCE8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28800" y="304920"/>
            <a:ext cx="6022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ormats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506-F7A3-45F0-AB3D-53BB7B9C8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Times New Roman"/>
              </a:rPr>
              <a:t>Types of Resumes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ronologic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ombin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Electronic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288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5EA-2DCD-4243-9495-FC46BD08E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6T04:18:35Z</dcterms:created>
  <dc:creator>Vandra Huber</dc:creator>
  <dc:description/>
  <dc:language>en-US</dc:language>
  <cp:lastModifiedBy>BA Computer Services</cp:lastModifiedBy>
  <cp:lastPrinted>2001-04-05T13:40:02Z</cp:lastPrinted>
  <dcterms:modified xsi:type="dcterms:W3CDTF">2003-05-08T21:44:41Z</dcterms:modified>
  <cp:revision>39</cp:revision>
  <dc:subject/>
  <dc:title>Negotiating  Your      Salary</dc:title>
</cp:coreProperties>
</file>