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893-70E0-4205-BF8F-B1DF92C5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9A8-3D64-4289-96DF-6D34C482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3BB-5847-42CF-A109-6DFE80A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E1E-B8FD-4023-84FF-3BB6DF18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195-DB85-4D5D-9E8A-912DDE1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C3A-AF9F-407A-B0DF-7CEBBDD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63F-F40C-48E1-8338-31E9877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C15-0B65-4654-94AD-86FE350B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E84-B4A1-42AF-924E-7A7827F5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632-1E9D-4A83-BCED-B60AC4D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2D2-C025-4BED-8247-F643405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E20-F703-4746-B32B-0F76F6B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3CC-B099-4ADC-BCED-0CE327E47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Pósteres ec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mer Palaganas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7621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¡Protegas el océa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1240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Hay los derrames de petróle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0408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¡Qué lío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60" y="290520"/>
            <a:ext cx="85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Es un problema que usamos los aeroso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7040" y="1981080"/>
            <a:ext cx="7910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y un problema con la capa de ozon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240" y="3657600"/>
            <a:ext cx="88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contaminacion del aire es un problema, tamb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9320" y="5334120"/>
            <a:ext cx="74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¡Consumas menos combusti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21520" y="0"/>
            <a:ext cx="20224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132680" y="2666880"/>
            <a:ext cx="201132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62920" y="5448240"/>
            <a:ext cx="198108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0"/>
          <a:ext cx="7162920" cy="686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716292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86840" y="1066680"/>
            <a:ext cx="721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cles las botellas, las la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lásticos, y los vid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7360" y="3962520"/>
            <a:ext cx="68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un programa de recic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1480" y="1295280"/>
            <a:ext cx="8001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eservar los bosques y las sel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160" y="4710240"/>
            <a:ext cx="8357040" cy="116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El ecosistema es para la fauna silvestre 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la flora silvest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6320" y="1981080"/>
            <a:ext cx="576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¡Dones y juntes fon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su medio ambient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64240" y="4343400"/>
            <a:ext cx="4822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Es una idea buen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que proteges el plane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2:06:30Z</dcterms:created>
  <dc:creator> Elmer Palaganas Jr.</dc:creator>
  <dc:description/>
  <dc:language>en-US</dc:language>
  <cp:lastModifiedBy>palaganase</cp:lastModifiedBy>
  <dcterms:modified xsi:type="dcterms:W3CDTF">2003-12-18T15:39:37Z</dcterms:modified>
  <cp:revision>26</cp:revision>
  <dc:subject/>
  <dc:title>Slide 1</dc:title>
</cp:coreProperties>
</file>