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441-CA03-450B-A73E-42335499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727-F76D-49CD-811B-5D70295B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FB1-5C39-4CD8-A3D1-3F7672BA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EA5-B7A4-44BD-95F4-71E474B0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5E07-6410-43DA-8DA3-6E4F4B7B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C5F2-72D5-466E-880A-9B036235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A70D-6291-4981-B770-E1A6B19B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9ED4-3174-464F-9B45-E08A7B10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2BF2-4966-466B-9EC3-244EFECD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5CE0-7A89-4477-8F72-C6A87013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BC13-FC4E-4BFE-B01B-9D885F37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5B9-A7A9-4838-B12F-E2E967E0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886E-D556-416A-B395-966F01FD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8228-6DAF-49A0-A1CB-9ED06C1F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E3EE-86D3-4FD6-BA13-CD6E2292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DC23-D295-472E-B238-A2085674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3164-8542-4E08-AA24-008B5E9E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3F5-ABC3-486A-BB5B-08C636E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61A-B134-40F4-A403-F273B35D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B3A-870C-414F-AEDA-C5F65B0C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8D0-4195-4FE6-86B7-5083B513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5C6-8C3C-4675-81DB-563250A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110-7BF4-4EAE-B2C4-FB66386F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B15-4B95-4320-BDF7-54395BDA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09C8-FF36-456A-8932-4B9A88E3B7D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F8D2-6C69-42A5-8E3F-5D34F62CA97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:\COMPU\Para entregar 20 Oct 2005\Applet Varios XXX.exe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740720" y="115920"/>
            <a:ext cx="1403280" cy="12031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E</a:t>
            </a: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j</a:t>
            </a: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e</a:t>
            </a: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r</a:t>
            </a: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s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V</a:t>
            </a: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a</a:t>
            </a: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r</a:t>
            </a: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es-MX" sz="44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-181440" y="510552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C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o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l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o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r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e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s, 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P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a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g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o 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M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e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n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s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u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a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l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 y 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D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í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a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s 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V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i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v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i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d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o</a:t>
            </a:r>
            <a:r>
              <a:rPr b="0" lang="es-MX" sz="4000" spc="-1" strike="noStrike">
                <a:solidFill>
                  <a:srgbClr val="ff6600"/>
                </a:solidFill>
                <a:latin typeface="Snap ITC"/>
              </a:rPr>
              <a:t>s</a:t>
            </a:r>
            <a:r>
              <a:rPr b="0" lang="es-MX" sz="4000" spc="-1" strike="noStrike">
                <a:solidFill>
                  <a:srgbClr val="ffe103"/>
                </a:solidFill>
                <a:latin typeface="Snap ITC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08000" y="1916280"/>
            <a:ext cx="2087640" cy="280800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rId3"/>
          </p:cNvPr>
          <p:cNvSpPr/>
          <p:nvPr/>
        </p:nvSpPr>
        <p:spPr>
          <a:xfrm>
            <a:off x="7093080" y="5877000"/>
            <a:ext cx="1728720" cy="836640"/>
          </a:xfrm>
          <a:custGeom>
            <a:avLst/>
            <a:gdLst>
              <a:gd name="textAreaLeft" fmla="*/ 54000 w 1728720"/>
              <a:gd name="textAreaRight" fmla="*/ 1674720 w 17287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44621" h="21600">
                <a:moveTo>
                  <a:pt x="0" y="0"/>
                </a:moveTo>
                <a:lnTo>
                  <a:pt x="44621" y="0"/>
                </a:lnTo>
                <a:lnTo>
                  <a:pt x="44621" y="21600"/>
                </a:lnTo>
                <a:lnTo>
                  <a:pt x="0" y="21600"/>
                </a:lnTo>
                <a:close/>
              </a:path>
              <a:path fill="lightenLess" w="44621" h="21600">
                <a:moveTo>
                  <a:pt x="0" y="0"/>
                </a:moveTo>
                <a:lnTo>
                  <a:pt x="44621" y="0"/>
                </a:lnTo>
                <a:lnTo>
                  <a:pt x="43221" y="1400"/>
                </a:lnTo>
                <a:lnTo>
                  <a:pt x="1400" y="1400"/>
                </a:lnTo>
                <a:close/>
              </a:path>
              <a:path fill="darken" w="44621" h="21600">
                <a:moveTo>
                  <a:pt x="44621" y="0"/>
                </a:moveTo>
                <a:lnTo>
                  <a:pt x="44621" y="21600"/>
                </a:lnTo>
                <a:lnTo>
                  <a:pt x="43221" y="20200"/>
                </a:lnTo>
                <a:lnTo>
                  <a:pt x="43221" y="1400"/>
                </a:lnTo>
                <a:close/>
              </a:path>
              <a:path fill="darkenLess" w="44621" h="21600">
                <a:moveTo>
                  <a:pt x="44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21" y="20200"/>
                </a:lnTo>
                <a:close/>
              </a:path>
              <a:path fill="lighten" w="44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21" h="21600">
                <a:moveTo>
                  <a:pt x="15304" y="7301"/>
                </a:moveTo>
                <a:lnTo>
                  <a:pt x="16218" y="7301"/>
                </a:lnTo>
                <a:lnTo>
                  <a:pt x="16601" y="7667"/>
                </a:lnTo>
                <a:lnTo>
                  <a:pt x="25810" y="7667"/>
                </a:lnTo>
                <a:lnTo>
                  <a:pt x="26367" y="8224"/>
                </a:lnTo>
                <a:lnTo>
                  <a:pt x="26367" y="8772"/>
                </a:lnTo>
                <a:lnTo>
                  <a:pt x="28212" y="8772"/>
                </a:lnTo>
                <a:lnTo>
                  <a:pt x="28577" y="8224"/>
                </a:lnTo>
                <a:lnTo>
                  <a:pt x="29317" y="8224"/>
                </a:lnTo>
                <a:lnTo>
                  <a:pt x="29317" y="13376"/>
                </a:lnTo>
                <a:lnTo>
                  <a:pt x="28577" y="13376"/>
                </a:lnTo>
                <a:lnTo>
                  <a:pt x="28212" y="12828"/>
                </a:lnTo>
                <a:lnTo>
                  <a:pt x="26367" y="12828"/>
                </a:lnTo>
                <a:lnTo>
                  <a:pt x="26367" y="14107"/>
                </a:lnTo>
                <a:lnTo>
                  <a:pt x="16784" y="14107"/>
                </a:lnTo>
                <a:lnTo>
                  <a:pt x="16784" y="9877"/>
                </a:lnTo>
                <a:lnTo>
                  <a:pt x="16601" y="9877"/>
                </a:lnTo>
                <a:lnTo>
                  <a:pt x="16218" y="10243"/>
                </a:lnTo>
                <a:lnTo>
                  <a:pt x="15304" y="10243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250920" y="5734080"/>
            <a:ext cx="1512720" cy="100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3:52:34Z</dcterms:created>
  <dc:creator>JFAA</dc:creator>
  <dc:description/>
  <dc:language>en-US</dc:language>
  <cp:lastModifiedBy>Administrator</cp:lastModifiedBy>
  <dcterms:modified xsi:type="dcterms:W3CDTF">2005-11-16T00:38:37Z</dcterms:modified>
  <cp:revision>5</cp:revision>
  <dc:subject/>
  <dc:title>Varios</dc:title>
</cp:coreProperties>
</file>