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E46-F783-4413-8ECD-5B1B08E2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C22-B347-4200-9E5D-68BAC303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A20-BEC0-46FE-938D-28C64C62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E2C-BB13-4ED6-B557-5D604A43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D40-A14F-4DFA-BCC8-B2FC4B90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AD7-E240-4177-9B3D-A7A952F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5F5-B075-4533-A709-6D392179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AB6-D858-4940-9D81-CAA0E7ED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371-FC04-414F-9D44-913918C7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4D7-5133-4EC0-9BDB-2FED35EA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F59-AEB4-47EA-93F3-3581C5F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E21-AE8C-42B6-8BEC-01532E3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0A2A-70BD-492F-BEDE-DECB9191B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angelfire.com/punk5/paoksdream/AppletEgipto.exe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Broadway"/>
              </a:rPr>
              <a:t>Egip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4220640"/>
            <a:ext cx="6400800" cy="19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Cooper Black"/>
              </a:rPr>
              <a:t>¿Conoces algo sobre Egip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Cooper Black"/>
              </a:rPr>
              <a:t>Ahí te va, tengamos un viaje a través de Áfri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cc66"/>
                </a:solidFill>
                <a:latin typeface="Broadway"/>
              </a:rPr>
              <a:t>¿En dónde está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9900"/>
                </a:solidFill>
                <a:latin typeface="Cooper Black"/>
              </a:rPr>
              <a:t>Ubicado en el continente africano, limita al norte con el mar Mediterráneo, al sur con Sudán, al este con Israel y el mar Rojo, y al oeste con Lib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9900"/>
                </a:solidFill>
                <a:latin typeface="Cooper Black"/>
              </a:rPr>
              <a:t>Su capital es Cai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cc66"/>
                </a:solidFill>
                <a:latin typeface="Broadway"/>
              </a:rPr>
              <a:t>Su clima y sue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3212640"/>
            <a:ext cx="822960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be0e3"/>
                </a:solidFill>
                <a:latin typeface="Cooper Black"/>
              </a:rPr>
              <a:t>Egipto es desierto, en vez de suelo tienen arena y hay algunos lagos y el mar Mediter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bbe0e3"/>
                </a:solidFill>
                <a:latin typeface="Cooper Black"/>
              </a:rPr>
              <a:t>Su clima es desértico; esto quiere decir que por el día hace mucho calor y las noches son muy fr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cc00"/>
                </a:solidFill>
                <a:latin typeface="Broadway"/>
              </a:rPr>
              <a:t>A conocer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Cooper Black"/>
              </a:rPr>
              <a:t>Lo más famoso de Egipto  es su arquitectura que son pirámides y su historia como leyendas que rodean las tumbas o sarcófa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Cooper Black"/>
              </a:rPr>
              <a:t>La más famosa de ella es la de Tutankamon que es una maldición que cae sobre aquel que abre o intenta obtener información de su sarcófago y quien lo ha intentado ha muer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cc0000"/>
                </a:solidFill>
                <a:latin typeface="Broadway"/>
              </a:rPr>
              <a:t>Antes y aho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3576600" cy="4221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66"/>
                </a:solidFill>
                <a:latin typeface="Cooper Black"/>
              </a:rPr>
              <a:t>Los egipcios fueron los primeros en escribir en papiro y utilizar y desarrollar la nave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66"/>
                </a:solidFill>
                <a:latin typeface="Cooper Black"/>
              </a:rPr>
              <a:t>Actualmente los egipcios viven como un país pobre pero esto por sus ideas, ya que para ellos lo que obtienen debe ser na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/>
          </p:cNvPr>
          <p:cNvSpPr/>
          <p:nvPr/>
        </p:nvSpPr>
        <p:spPr>
          <a:xfrm>
            <a:off x="7380360" y="5950080"/>
            <a:ext cx="1439640" cy="765000"/>
          </a:xfrm>
          <a:custGeom>
            <a:avLst/>
            <a:gdLst>
              <a:gd name="textAreaLeft" fmla="*/ 49320 w 1439640"/>
              <a:gd name="textAreaRight" fmla="*/ 1390320 w 1439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40640" h="21600">
                <a:moveTo>
                  <a:pt x="0" y="0"/>
                </a:moveTo>
                <a:lnTo>
                  <a:pt x="40640" y="0"/>
                </a:lnTo>
                <a:lnTo>
                  <a:pt x="40640" y="21600"/>
                </a:lnTo>
                <a:lnTo>
                  <a:pt x="0" y="21600"/>
                </a:lnTo>
                <a:close/>
              </a:path>
              <a:path fill="lightenLess" w="40640" h="21600">
                <a:moveTo>
                  <a:pt x="0" y="0"/>
                </a:moveTo>
                <a:lnTo>
                  <a:pt x="40640" y="0"/>
                </a:lnTo>
                <a:lnTo>
                  <a:pt x="39240" y="1400"/>
                </a:lnTo>
                <a:lnTo>
                  <a:pt x="1400" y="1400"/>
                </a:lnTo>
                <a:close/>
              </a:path>
              <a:path fill="darken" w="40640" h="21600">
                <a:moveTo>
                  <a:pt x="40640" y="0"/>
                </a:moveTo>
                <a:lnTo>
                  <a:pt x="40640" y="21600"/>
                </a:lnTo>
                <a:lnTo>
                  <a:pt x="39240" y="20200"/>
                </a:lnTo>
                <a:lnTo>
                  <a:pt x="39240" y="1400"/>
                </a:lnTo>
                <a:close/>
              </a:path>
              <a:path fill="darkenLess" w="40640" h="21600">
                <a:moveTo>
                  <a:pt x="40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40" y="20200"/>
                </a:lnTo>
                <a:close/>
              </a:path>
              <a:path fill="lighten" w="40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640" h="21600">
                <a:moveTo>
                  <a:pt x="203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0640" h="21600">
                <a:moveTo>
                  <a:pt x="21425" y="14281"/>
                </a:moveTo>
                <a:lnTo>
                  <a:pt x="21425" y="12323"/>
                </a:lnTo>
                <a:cubicBezTo>
                  <a:pt x="21425" y="11496"/>
                  <a:pt x="21756" y="10800"/>
                  <a:pt x="22357" y="10800"/>
                </a:cubicBezTo>
                <a:cubicBezTo>
                  <a:pt x="23488" y="10800"/>
                  <a:pt x="24384" y="9434"/>
                  <a:pt x="24384" y="7849"/>
                </a:cubicBezTo>
                <a:cubicBezTo>
                  <a:pt x="24384" y="5534"/>
                  <a:pt x="22531" y="3794"/>
                  <a:pt x="20320" y="3794"/>
                </a:cubicBezTo>
                <a:cubicBezTo>
                  <a:pt x="18109" y="3794"/>
                  <a:pt x="16438" y="5534"/>
                  <a:pt x="16438" y="7849"/>
                </a:cubicBezTo>
                <a:lnTo>
                  <a:pt x="18292" y="7849"/>
                </a:lnTo>
                <a:cubicBezTo>
                  <a:pt x="18292" y="6709"/>
                  <a:pt x="19214" y="5821"/>
                  <a:pt x="20320" y="5821"/>
                </a:cubicBezTo>
                <a:cubicBezTo>
                  <a:pt x="21425" y="5821"/>
                  <a:pt x="22357" y="6709"/>
                  <a:pt x="22357" y="7849"/>
                </a:cubicBezTo>
                <a:cubicBezTo>
                  <a:pt x="22357" y="8589"/>
                  <a:pt x="21887" y="9320"/>
                  <a:pt x="21425" y="9320"/>
                </a:cubicBezTo>
                <a:cubicBezTo>
                  <a:pt x="20320" y="9320"/>
                  <a:pt x="19214" y="10800"/>
                  <a:pt x="19214" y="12323"/>
                </a:cubicBezTo>
                <a:lnTo>
                  <a:pt x="1921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0:34:58Z</dcterms:created>
  <dc:creator>ulsa</dc:creator>
  <dc:description/>
  <dc:language>en-US</dc:language>
  <cp:lastModifiedBy>Unitec</cp:lastModifiedBy>
  <dcterms:modified xsi:type="dcterms:W3CDTF">2005-09-21T19:07:00Z</dcterms:modified>
  <cp:revision>6</cp:revision>
  <dc:subject/>
  <dc:title>Egipto</dc:title>
</cp:coreProperties>
</file>