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425-86A7-4884-B8B6-921589F7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589-EA89-4E2D-A221-AC12B561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76A-ED54-4FFB-8342-06913FDD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D20-8679-4F32-AF0F-E3B08D7F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BFCB-50F3-4449-B8DC-C11E8F74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67C2-1F35-44FC-BB42-09FE4464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2487-F9B7-400D-B365-B78F58D6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CCF8-514B-40BC-B773-9F1916BC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65A4-72D6-4FB3-9FCE-D9FA018C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8B1A-7DF9-40A5-AB3C-EC43E072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4E56-307E-496F-82B1-3584DAB1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4CD-CB98-4926-B2A0-CFC4303D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0BC9-FD5E-4CA1-BA43-7C71A728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3A83-932E-4F13-AD4E-3AE45488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F640-6C43-49F8-8DCE-D3B149B9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2432-B469-4D76-B299-5509FB26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B967-8E94-433F-97DE-996FCFCF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140-7374-4D2C-A59C-36B5F381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58B-1FF2-4BF5-89D9-6350B1F1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4FC-6DA1-43D0-B8E3-D3D7A3A9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2F0-50CD-4E47-AAB6-6953CD26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1315-FCD2-4EA2-8A94-73CF7CF2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182-BFE9-4BFC-80EC-5AC9651B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2DC-A94E-4C54-B7F5-83634AEA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0E47-4D6D-49F4-92A5-E795DC9EEF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F9A3-C07E-4D38-9920-5A82424ED0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:\COMPU\Para entregar 20 Oct 2005\Applet Ecuaciones Qu&#237;micas XXX.exe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666699"/>
                </a:solidFill>
                <a:latin typeface="Arial"/>
              </a:rPr>
              <a:t>Ecuaciones Química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76360" y="2781360"/>
            <a:ext cx="66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oudy Stout"/>
              </a:rPr>
              <a:t>Mola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oudy Stout"/>
              </a:rPr>
              <a:t>Gases Ge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oudy Stout"/>
              </a:rPr>
              <a:t>Ga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1138320" cy="18288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96000" y="5157720"/>
            <a:ext cx="9716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2b2b2"/>
                </a:solidFill>
                <a:latin typeface="Arial"/>
              </a:rPr>
              <a:t>Ecuaciones Químic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olaridad: Es la cantidad de moles de soluto que hay en un litro de solu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Gases Generales: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presa los resultados ya sea en litros o atmósfe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Gas ideal: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la relación que existe entre la presión y el volumen con respecto a la constante de los gases los moles y la tempera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1"/>
          </p:cNvPr>
          <p:cNvSpPr/>
          <p:nvPr/>
        </p:nvSpPr>
        <p:spPr>
          <a:xfrm>
            <a:off x="7020000" y="5921280"/>
            <a:ext cx="1871640" cy="936720"/>
          </a:xfrm>
          <a:custGeom>
            <a:avLst/>
            <a:gdLst>
              <a:gd name="textAreaLeft" fmla="*/ 60480 w 1871640"/>
              <a:gd name="textAreaRight" fmla="*/ 1811160 w 1871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43150" h="21600">
                <a:moveTo>
                  <a:pt x="0" y="0"/>
                </a:moveTo>
                <a:lnTo>
                  <a:pt x="43150" y="0"/>
                </a:lnTo>
                <a:lnTo>
                  <a:pt x="43150" y="21600"/>
                </a:lnTo>
                <a:lnTo>
                  <a:pt x="0" y="21600"/>
                </a:lnTo>
                <a:close/>
              </a:path>
              <a:path fill="lightenLess" w="43150" h="21600">
                <a:moveTo>
                  <a:pt x="0" y="0"/>
                </a:moveTo>
                <a:lnTo>
                  <a:pt x="43150" y="0"/>
                </a:lnTo>
                <a:lnTo>
                  <a:pt x="41750" y="1400"/>
                </a:lnTo>
                <a:lnTo>
                  <a:pt x="1400" y="1400"/>
                </a:lnTo>
                <a:close/>
              </a:path>
              <a:path fill="darken" w="43150" h="21600">
                <a:moveTo>
                  <a:pt x="43150" y="0"/>
                </a:moveTo>
                <a:lnTo>
                  <a:pt x="43150" y="21600"/>
                </a:lnTo>
                <a:lnTo>
                  <a:pt x="41750" y="20200"/>
                </a:lnTo>
                <a:lnTo>
                  <a:pt x="41750" y="1400"/>
                </a:lnTo>
                <a:close/>
              </a:path>
              <a:path fill="darkenLess" w="43150" h="21600">
                <a:moveTo>
                  <a:pt x="43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0" y="20200"/>
                </a:lnTo>
                <a:close/>
              </a:path>
              <a:path fill="lighten" w="43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0" h="21600">
                <a:moveTo>
                  <a:pt x="14569" y="7301"/>
                </a:moveTo>
                <a:lnTo>
                  <a:pt x="15483" y="7301"/>
                </a:lnTo>
                <a:lnTo>
                  <a:pt x="15865" y="7667"/>
                </a:lnTo>
                <a:lnTo>
                  <a:pt x="25074" y="7667"/>
                </a:lnTo>
                <a:lnTo>
                  <a:pt x="25631" y="8224"/>
                </a:lnTo>
                <a:lnTo>
                  <a:pt x="25631" y="8772"/>
                </a:lnTo>
                <a:lnTo>
                  <a:pt x="27476" y="8772"/>
                </a:lnTo>
                <a:lnTo>
                  <a:pt x="27842" y="8224"/>
                </a:lnTo>
                <a:lnTo>
                  <a:pt x="28582" y="8224"/>
                </a:lnTo>
                <a:lnTo>
                  <a:pt x="28582" y="13376"/>
                </a:lnTo>
                <a:lnTo>
                  <a:pt x="27842" y="13376"/>
                </a:lnTo>
                <a:lnTo>
                  <a:pt x="27476" y="12828"/>
                </a:lnTo>
                <a:lnTo>
                  <a:pt x="25631" y="12828"/>
                </a:lnTo>
                <a:lnTo>
                  <a:pt x="25631" y="14107"/>
                </a:lnTo>
                <a:lnTo>
                  <a:pt x="16048" y="14107"/>
                </a:lnTo>
                <a:lnTo>
                  <a:pt x="16048" y="9877"/>
                </a:lnTo>
                <a:lnTo>
                  <a:pt x="15865" y="9877"/>
                </a:lnTo>
                <a:lnTo>
                  <a:pt x="15483" y="10243"/>
                </a:lnTo>
                <a:lnTo>
                  <a:pt x="14569" y="10243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84360" y="5761080"/>
            <a:ext cx="1689120" cy="1096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1511280" cy="1282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525680" cy="985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79280" y="5661000"/>
            <a:ext cx="1513080" cy="1197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932360" y="5805360"/>
            <a:ext cx="15843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3:38:45Z</dcterms:created>
  <dc:creator>JFAA</dc:creator>
  <dc:description/>
  <dc:language>en-US</dc:language>
  <cp:lastModifiedBy>Administrator</cp:lastModifiedBy>
  <dcterms:modified xsi:type="dcterms:W3CDTF">2005-11-16T00:38:44Z</dcterms:modified>
  <cp:revision>6</cp:revision>
  <dc:subject/>
  <dc:title>Ecuaciones Químicas</dc:title>
</cp:coreProperties>
</file>