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862-21C3-451A-9309-94979DA7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590-BA09-4257-A3B5-4EA1AEDF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ACD-26EC-4C71-ABC8-67B71A1B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F6F-E093-4613-A7D3-1BB3558B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B2102-5C3B-4653-AE5C-6F63C56C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6A88A-5FAC-4692-9187-1EAA371B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33835-F0B0-4466-84A6-B090EE8E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DA647-A99C-4B58-88D1-BB5518B4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5F994-6A85-451D-91DB-4D0D4862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8833C-3AAE-42F2-8ACB-1825E30A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180F9-64BD-4906-8594-4EF96437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BED-910C-4D77-9F96-5B766D02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262E4-7192-4975-B055-B021DA83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10CEB-0729-40B7-9EE5-6967F08B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49BE1-FAD2-4745-8F45-107DBA3D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9031B-D2C8-481F-9EF6-CA1997D0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892DC-C216-4075-B0F6-670E7979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C34-0210-4C7E-BAE3-1355482F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559-4AB4-4E48-8CFB-82112F79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B70-8194-478E-B7AC-306CDA86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733-C749-4499-B2C9-E64E0999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6D8-3665-42F5-8562-CA723CC6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64C-1819-4AE7-95AF-64D41A35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F74-AE9E-4252-B440-380A90C6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C872-BF63-4A09-8C4B-16DD2A9C52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2741-8CA8-4D55-836B-27A45A3992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2.gi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457200" y="5335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12464" y="3837"/>
                </a:moveTo>
                <a:lnTo>
                  <a:pt x="15040" y="6448"/>
                </a:lnTo>
                <a:lnTo>
                  <a:pt x="15040" y="4707"/>
                </a:lnTo>
                <a:lnTo>
                  <a:pt x="16816" y="4707"/>
                </a:lnTo>
                <a:lnTo>
                  <a:pt x="16816" y="8224"/>
                </a:lnTo>
                <a:lnTo>
                  <a:pt x="19427" y="10800"/>
                </a:lnTo>
                <a:lnTo>
                  <a:pt x="17773" y="10800"/>
                </a:lnTo>
                <a:lnTo>
                  <a:pt x="17773" y="17989"/>
                </a:lnTo>
                <a:lnTo>
                  <a:pt x="7155" y="17989"/>
                </a:lnTo>
                <a:lnTo>
                  <a:pt x="7155" y="10800"/>
                </a:lnTo>
                <a:lnTo>
                  <a:pt x="5501" y="10800"/>
                </a:lnTo>
                <a:close/>
              </a:path>
              <a:path fill="darkenLess" w="24928" h="21600">
                <a:moveTo>
                  <a:pt x="15040" y="6448"/>
                </a:moveTo>
                <a:lnTo>
                  <a:pt x="15040" y="4707"/>
                </a:lnTo>
                <a:lnTo>
                  <a:pt x="16816" y="4707"/>
                </a:lnTo>
                <a:lnTo>
                  <a:pt x="16816" y="8224"/>
                </a:lnTo>
                <a:close/>
              </a:path>
              <a:path fill="darkenLess" w="24928" h="21600">
                <a:moveTo>
                  <a:pt x="11541" y="14299"/>
                </a:moveTo>
                <a:lnTo>
                  <a:pt x="13387" y="14299"/>
                </a:lnTo>
                <a:lnTo>
                  <a:pt x="13387" y="17989"/>
                </a:lnTo>
                <a:lnTo>
                  <a:pt x="17773" y="17989"/>
                </a:lnTo>
                <a:lnTo>
                  <a:pt x="17773" y="10800"/>
                </a:lnTo>
                <a:lnTo>
                  <a:pt x="7155" y="10800"/>
                </a:lnTo>
                <a:lnTo>
                  <a:pt x="7155" y="17989"/>
                </a:lnTo>
                <a:lnTo>
                  <a:pt x="11541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57200" y="15238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bb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457200" y="25146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457200" y="35053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3794"/>
                </a:moveTo>
                <a:lnTo>
                  <a:pt x="19470" y="10800"/>
                </a:lnTo>
                <a:lnTo>
                  <a:pt x="545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457200" y="44956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5" action="ppaction://hlinksldjump"/>
          </p:cNvPr>
          <p:cNvSpPr/>
          <p:nvPr/>
        </p:nvSpPr>
        <p:spPr>
          <a:xfrm>
            <a:off x="457200" y="54864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rcRect l="74162" t="20759" r="-539" b="25222"/>
          <a:stretch/>
        </p:blipFill>
        <p:spPr>
          <a:xfrm>
            <a:off x="3733920" y="1295280"/>
            <a:ext cx="3027240" cy="4648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895480" y="0"/>
            <a:ext cx="2819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ntonio Melendez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457200" y="5335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12464" y="3837"/>
                </a:moveTo>
                <a:lnTo>
                  <a:pt x="15040" y="6448"/>
                </a:lnTo>
                <a:lnTo>
                  <a:pt x="15040" y="4707"/>
                </a:lnTo>
                <a:lnTo>
                  <a:pt x="16816" y="4707"/>
                </a:lnTo>
                <a:lnTo>
                  <a:pt x="16816" y="8224"/>
                </a:lnTo>
                <a:lnTo>
                  <a:pt x="19427" y="10800"/>
                </a:lnTo>
                <a:lnTo>
                  <a:pt x="17773" y="10800"/>
                </a:lnTo>
                <a:lnTo>
                  <a:pt x="17773" y="17989"/>
                </a:lnTo>
                <a:lnTo>
                  <a:pt x="7155" y="17989"/>
                </a:lnTo>
                <a:lnTo>
                  <a:pt x="7155" y="10800"/>
                </a:lnTo>
                <a:lnTo>
                  <a:pt x="5501" y="10800"/>
                </a:lnTo>
                <a:close/>
              </a:path>
              <a:path fill="darkenLess" w="24928" h="21600">
                <a:moveTo>
                  <a:pt x="15040" y="6448"/>
                </a:moveTo>
                <a:lnTo>
                  <a:pt x="15040" y="4707"/>
                </a:lnTo>
                <a:lnTo>
                  <a:pt x="16816" y="4707"/>
                </a:lnTo>
                <a:lnTo>
                  <a:pt x="16816" y="8224"/>
                </a:lnTo>
                <a:close/>
              </a:path>
              <a:path fill="darkenLess" w="24928" h="21600">
                <a:moveTo>
                  <a:pt x="11541" y="14299"/>
                </a:moveTo>
                <a:lnTo>
                  <a:pt x="13387" y="14299"/>
                </a:lnTo>
                <a:lnTo>
                  <a:pt x="13387" y="17989"/>
                </a:lnTo>
                <a:lnTo>
                  <a:pt x="17773" y="17989"/>
                </a:lnTo>
                <a:lnTo>
                  <a:pt x="17773" y="10800"/>
                </a:lnTo>
                <a:lnTo>
                  <a:pt x="7155" y="10800"/>
                </a:lnTo>
                <a:lnTo>
                  <a:pt x="7155" y="17989"/>
                </a:lnTo>
                <a:lnTo>
                  <a:pt x="11541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457200" y="15238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bb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457200" y="25146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457200" y="35053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3794"/>
                </a:moveTo>
                <a:lnTo>
                  <a:pt x="19470" y="10800"/>
                </a:lnTo>
                <a:lnTo>
                  <a:pt x="545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4" action="ppaction://hlinksldjump"/>
          </p:cNvPr>
          <p:cNvSpPr/>
          <p:nvPr/>
        </p:nvSpPr>
        <p:spPr>
          <a:xfrm>
            <a:off x="457200" y="44956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5" action="ppaction://hlinksldjump"/>
          </p:cNvPr>
          <p:cNvSpPr/>
          <p:nvPr/>
        </p:nvSpPr>
        <p:spPr>
          <a:xfrm>
            <a:off x="457200" y="54864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5791320" y="3886200"/>
            <a:ext cx="2976480" cy="2427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5334120" y="1143000"/>
            <a:ext cx="3352680" cy="2394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828800" y="1752480"/>
            <a:ext cx="3276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ing spor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 to mu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ch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around house since there's nothing to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81080" y="-152280"/>
            <a:ext cx="31244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bbi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457200" y="5335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12464" y="3837"/>
                </a:moveTo>
                <a:lnTo>
                  <a:pt x="15040" y="6448"/>
                </a:lnTo>
                <a:lnTo>
                  <a:pt x="15040" y="4707"/>
                </a:lnTo>
                <a:lnTo>
                  <a:pt x="16816" y="4707"/>
                </a:lnTo>
                <a:lnTo>
                  <a:pt x="16816" y="8224"/>
                </a:lnTo>
                <a:lnTo>
                  <a:pt x="19427" y="10800"/>
                </a:lnTo>
                <a:lnTo>
                  <a:pt x="17773" y="10800"/>
                </a:lnTo>
                <a:lnTo>
                  <a:pt x="17773" y="17989"/>
                </a:lnTo>
                <a:lnTo>
                  <a:pt x="7155" y="17989"/>
                </a:lnTo>
                <a:lnTo>
                  <a:pt x="7155" y="10800"/>
                </a:lnTo>
                <a:lnTo>
                  <a:pt x="5501" y="10800"/>
                </a:lnTo>
                <a:close/>
              </a:path>
              <a:path fill="darkenLess" w="24928" h="21600">
                <a:moveTo>
                  <a:pt x="15040" y="6448"/>
                </a:moveTo>
                <a:lnTo>
                  <a:pt x="15040" y="4707"/>
                </a:lnTo>
                <a:lnTo>
                  <a:pt x="16816" y="4707"/>
                </a:lnTo>
                <a:lnTo>
                  <a:pt x="16816" y="8224"/>
                </a:lnTo>
                <a:close/>
              </a:path>
              <a:path fill="darkenLess" w="24928" h="21600">
                <a:moveTo>
                  <a:pt x="11541" y="14299"/>
                </a:moveTo>
                <a:lnTo>
                  <a:pt x="13387" y="14299"/>
                </a:lnTo>
                <a:lnTo>
                  <a:pt x="13387" y="17989"/>
                </a:lnTo>
                <a:lnTo>
                  <a:pt x="17773" y="17989"/>
                </a:lnTo>
                <a:lnTo>
                  <a:pt x="17773" y="10800"/>
                </a:lnTo>
                <a:lnTo>
                  <a:pt x="7155" y="10800"/>
                </a:lnTo>
                <a:lnTo>
                  <a:pt x="7155" y="17989"/>
                </a:lnTo>
                <a:lnTo>
                  <a:pt x="11541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57200" y="15238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bb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457200" y="25146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457200" y="35053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3794"/>
                </a:moveTo>
                <a:lnTo>
                  <a:pt x="19470" y="10800"/>
                </a:lnTo>
                <a:lnTo>
                  <a:pt x="545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457200" y="44956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5" action="ppaction://hlinksldjump"/>
          </p:cNvPr>
          <p:cNvSpPr/>
          <p:nvPr/>
        </p:nvSpPr>
        <p:spPr>
          <a:xfrm>
            <a:off x="457200" y="54864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2819520" y="2666880"/>
            <a:ext cx="2141280" cy="1449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6095880" y="1143000"/>
            <a:ext cx="2406600" cy="977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2971800" y="4495680"/>
            <a:ext cx="1981080" cy="19036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867280" y="23623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except cra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cially like foods from my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979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90920" y="0"/>
            <a:ext cx="28191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ood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pull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457200" y="5335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12464" y="3837"/>
                </a:moveTo>
                <a:lnTo>
                  <a:pt x="15040" y="6448"/>
                </a:lnTo>
                <a:lnTo>
                  <a:pt x="15040" y="4707"/>
                </a:lnTo>
                <a:lnTo>
                  <a:pt x="16816" y="4707"/>
                </a:lnTo>
                <a:lnTo>
                  <a:pt x="16816" y="8224"/>
                </a:lnTo>
                <a:lnTo>
                  <a:pt x="19427" y="10800"/>
                </a:lnTo>
                <a:lnTo>
                  <a:pt x="17773" y="10800"/>
                </a:lnTo>
                <a:lnTo>
                  <a:pt x="17773" y="17989"/>
                </a:lnTo>
                <a:lnTo>
                  <a:pt x="7155" y="17989"/>
                </a:lnTo>
                <a:lnTo>
                  <a:pt x="7155" y="10800"/>
                </a:lnTo>
                <a:lnTo>
                  <a:pt x="5501" y="10800"/>
                </a:lnTo>
                <a:close/>
              </a:path>
              <a:path fill="darkenLess" w="24928" h="21600">
                <a:moveTo>
                  <a:pt x="15040" y="6448"/>
                </a:moveTo>
                <a:lnTo>
                  <a:pt x="15040" y="4707"/>
                </a:lnTo>
                <a:lnTo>
                  <a:pt x="16816" y="4707"/>
                </a:lnTo>
                <a:lnTo>
                  <a:pt x="16816" y="8224"/>
                </a:lnTo>
                <a:close/>
              </a:path>
              <a:path fill="darkenLess" w="24928" h="21600">
                <a:moveTo>
                  <a:pt x="11541" y="14299"/>
                </a:moveTo>
                <a:lnTo>
                  <a:pt x="13387" y="14299"/>
                </a:lnTo>
                <a:lnTo>
                  <a:pt x="13387" y="17989"/>
                </a:lnTo>
                <a:lnTo>
                  <a:pt x="17773" y="17989"/>
                </a:lnTo>
                <a:lnTo>
                  <a:pt x="17773" y="10800"/>
                </a:lnTo>
                <a:lnTo>
                  <a:pt x="7155" y="10800"/>
                </a:lnTo>
                <a:lnTo>
                  <a:pt x="7155" y="17989"/>
                </a:lnTo>
                <a:lnTo>
                  <a:pt x="11541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457200" y="15238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bb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457200" y="25146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457200" y="35053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3794"/>
                </a:moveTo>
                <a:lnTo>
                  <a:pt x="19470" y="10800"/>
                </a:lnTo>
                <a:lnTo>
                  <a:pt x="545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4" action="ppaction://hlinksldjump"/>
          </p:cNvPr>
          <p:cNvSpPr/>
          <p:nvPr/>
        </p:nvSpPr>
        <p:spPr>
          <a:xfrm>
            <a:off x="457200" y="44956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5" action="ppaction://hlinksldjump"/>
          </p:cNvPr>
          <p:cNvSpPr/>
          <p:nvPr/>
        </p:nvSpPr>
        <p:spPr>
          <a:xfrm>
            <a:off x="457200" y="54864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2286000" y="3505320"/>
            <a:ext cx="2498760" cy="24256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952880" y="152388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thing except rap but reggaeton is al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 alternative rock a l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 Zebrahead, Green day, &amp; Linkin P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905120" y="762120"/>
            <a:ext cx="31147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si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457200" y="5335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12464" y="3837"/>
                </a:moveTo>
                <a:lnTo>
                  <a:pt x="15040" y="6448"/>
                </a:lnTo>
                <a:lnTo>
                  <a:pt x="15040" y="4707"/>
                </a:lnTo>
                <a:lnTo>
                  <a:pt x="16816" y="4707"/>
                </a:lnTo>
                <a:lnTo>
                  <a:pt x="16816" y="8224"/>
                </a:lnTo>
                <a:lnTo>
                  <a:pt x="19427" y="10800"/>
                </a:lnTo>
                <a:lnTo>
                  <a:pt x="17773" y="10800"/>
                </a:lnTo>
                <a:lnTo>
                  <a:pt x="17773" y="17989"/>
                </a:lnTo>
                <a:lnTo>
                  <a:pt x="7155" y="17989"/>
                </a:lnTo>
                <a:lnTo>
                  <a:pt x="7155" y="10800"/>
                </a:lnTo>
                <a:lnTo>
                  <a:pt x="5501" y="10800"/>
                </a:lnTo>
                <a:close/>
              </a:path>
              <a:path fill="darkenLess" w="24928" h="21600">
                <a:moveTo>
                  <a:pt x="15040" y="6448"/>
                </a:moveTo>
                <a:lnTo>
                  <a:pt x="15040" y="4707"/>
                </a:lnTo>
                <a:lnTo>
                  <a:pt x="16816" y="4707"/>
                </a:lnTo>
                <a:lnTo>
                  <a:pt x="16816" y="8224"/>
                </a:lnTo>
                <a:close/>
              </a:path>
              <a:path fill="darkenLess" w="24928" h="21600">
                <a:moveTo>
                  <a:pt x="11541" y="14299"/>
                </a:moveTo>
                <a:lnTo>
                  <a:pt x="13387" y="14299"/>
                </a:lnTo>
                <a:lnTo>
                  <a:pt x="13387" y="17989"/>
                </a:lnTo>
                <a:lnTo>
                  <a:pt x="17773" y="17989"/>
                </a:lnTo>
                <a:lnTo>
                  <a:pt x="17773" y="10800"/>
                </a:lnTo>
                <a:lnTo>
                  <a:pt x="7155" y="10800"/>
                </a:lnTo>
                <a:lnTo>
                  <a:pt x="7155" y="17989"/>
                </a:lnTo>
                <a:lnTo>
                  <a:pt x="11541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5238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bb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57200" y="25146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457200" y="35053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3794"/>
                </a:moveTo>
                <a:lnTo>
                  <a:pt x="19470" y="10800"/>
                </a:lnTo>
                <a:lnTo>
                  <a:pt x="545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>
            <a:hlinkClick r:id="rId3" action="ppaction://hlinksldjump"/>
          </p:cNvPr>
          <p:cNvSpPr/>
          <p:nvPr/>
        </p:nvSpPr>
        <p:spPr>
          <a:xfrm>
            <a:off x="457200" y="44956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rId4" action="ppaction://hlinksldjump"/>
          </p:cNvPr>
          <p:cNvSpPr/>
          <p:nvPr/>
        </p:nvSpPr>
        <p:spPr>
          <a:xfrm>
            <a:off x="457200" y="54864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791320" y="4648320"/>
            <a:ext cx="3124080" cy="1782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905120" y="3657600"/>
            <a:ext cx="3340080" cy="2960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505320" y="3200400"/>
            <a:ext cx="609480" cy="1752480"/>
          </a:xfrm>
          <a:prstGeom prst="uturnArrow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7640" y="41911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9400" y="464832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errey, Mexi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952880" y="1142640"/>
            <a:ext cx="4191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from Monterrey, Mexico to Houston, Tex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ew weeks ago I turned into a United States citiz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133720" y="0"/>
            <a:ext cx="3124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rig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pull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457200" y="5335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12464" y="3837"/>
                </a:moveTo>
                <a:lnTo>
                  <a:pt x="15040" y="6448"/>
                </a:lnTo>
                <a:lnTo>
                  <a:pt x="15040" y="4707"/>
                </a:lnTo>
                <a:lnTo>
                  <a:pt x="16816" y="4707"/>
                </a:lnTo>
                <a:lnTo>
                  <a:pt x="16816" y="8224"/>
                </a:lnTo>
                <a:lnTo>
                  <a:pt x="19427" y="10800"/>
                </a:lnTo>
                <a:lnTo>
                  <a:pt x="17773" y="10800"/>
                </a:lnTo>
                <a:lnTo>
                  <a:pt x="17773" y="17989"/>
                </a:lnTo>
                <a:lnTo>
                  <a:pt x="7155" y="17989"/>
                </a:lnTo>
                <a:lnTo>
                  <a:pt x="7155" y="10800"/>
                </a:lnTo>
                <a:lnTo>
                  <a:pt x="5501" y="10800"/>
                </a:lnTo>
                <a:close/>
              </a:path>
              <a:path fill="darkenLess" w="24928" h="21600">
                <a:moveTo>
                  <a:pt x="15040" y="6448"/>
                </a:moveTo>
                <a:lnTo>
                  <a:pt x="15040" y="4707"/>
                </a:lnTo>
                <a:lnTo>
                  <a:pt x="16816" y="4707"/>
                </a:lnTo>
                <a:lnTo>
                  <a:pt x="16816" y="8224"/>
                </a:lnTo>
                <a:close/>
              </a:path>
              <a:path fill="darkenLess" w="24928" h="21600">
                <a:moveTo>
                  <a:pt x="11541" y="14299"/>
                </a:moveTo>
                <a:lnTo>
                  <a:pt x="13387" y="14299"/>
                </a:lnTo>
                <a:lnTo>
                  <a:pt x="13387" y="17989"/>
                </a:lnTo>
                <a:lnTo>
                  <a:pt x="17773" y="17989"/>
                </a:lnTo>
                <a:lnTo>
                  <a:pt x="17773" y="10800"/>
                </a:lnTo>
                <a:lnTo>
                  <a:pt x="7155" y="10800"/>
                </a:lnTo>
                <a:lnTo>
                  <a:pt x="7155" y="17989"/>
                </a:lnTo>
                <a:lnTo>
                  <a:pt x="11541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5238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bb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5146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5053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3794"/>
                </a:moveTo>
                <a:lnTo>
                  <a:pt x="19470" y="10800"/>
                </a:lnTo>
                <a:lnTo>
                  <a:pt x="545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44956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54864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3794"/>
                </a:moveTo>
                <a:lnTo>
                  <a:pt x="19466" y="10800"/>
                </a:lnTo>
                <a:lnTo>
                  <a:pt x="5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45720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41148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095880" y="533520"/>
            <a:ext cx="2590920" cy="22287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600200" y="182844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 to become either a cartoonist or athlete or 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vorite holiday is usually Hallow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te from high school and colle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400800" y="4724280"/>
            <a:ext cx="2048040" cy="195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248520" y="2819520"/>
            <a:ext cx="1838160" cy="1679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3124080" y="0"/>
            <a:ext cx="2819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bout 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pull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Poi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3:29:14Z</dcterms:created>
  <dc:creator>Administrator</dc:creator>
  <dc:description/>
  <dc:language>en-US</dc:language>
  <cp:lastModifiedBy>Administrator</cp:lastModifiedBy>
  <dcterms:modified xsi:type="dcterms:W3CDTF">2006-09-07T12:52:59Z</dcterms:modified>
  <cp:revision>9</cp:revision>
  <dc:subject/>
  <dc:title>Slide 1</dc:title>
</cp:coreProperties>
</file>