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EAFF-CE54-4F01-A5C6-C527F698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2E42-CD6D-4F06-A774-651CED1B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5AB3-A5B9-4840-BF6A-6DE30FBD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E0AD-1152-42E8-BD3C-7095BFB2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05F6-ED87-4F78-A059-82181E3F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1F03-AF29-4C8C-9150-9BA6DB0B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3ECC-8E69-461D-BD90-9E187369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A4C1-742E-47CD-9BE4-4D52D116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82F0-F60C-4013-A3F0-C33DF9ED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56FA-9749-4C70-B146-04BAE538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1143-CD91-4A55-ACF7-E40CAC8F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7154-5A13-4E13-BCB8-19760C1F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20E0-E92F-4FAA-8C39-A1CB6391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A1EE-DF06-4EDE-A4B8-CBD817D2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0709-2FFA-4FFF-9D64-71024BFE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DD00-5C1A-4DD3-9B6F-32C9E712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5559-A21C-48DA-B693-E0557A23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7527A-A5CC-40CD-A730-D107E468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2E924-74AF-451D-95E2-410281BE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8E268-0480-4D7A-8CCF-F636B9B2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DE6FE-728A-412A-936F-F1747ED8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4F068-05A0-4A59-A8D6-4F6F56F7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6F7-ADA7-4812-BD82-CD40764E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F9322-14F3-4605-ACC2-2CAB2763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35D31-7291-4FA9-B8EE-841F51FB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AA5B2-6281-4E5F-AB72-1C2BBBAB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043E8-11C9-44BC-A675-EC27614D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1462E-A0E4-4285-BB51-7F95CA06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F36FB-FDBE-400D-86E8-F59A635B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62794-9405-49A5-B710-26F9E0DA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AC6E-8E5E-4095-AE8D-CE31FE32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ACC-4955-4D5C-B888-2F9EB4DF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777-07C6-4866-91B0-5AB05CE0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31DB-9A0E-467D-814E-E0B19D8B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9CCD-7724-43C0-977C-B50C963B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493D-8BA0-4FF6-AA15-F31EB7F5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34C4-EE37-401B-893B-21170B3BB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8C24-1000-43B4-AFA7-AF09EB81B3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98EF-8CB8-4B17-A9D1-2045A78915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DataForm.htm.doc/" TargetMode="External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imeLine.htm.doc/" TargetMode="External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roposedBudget.htm.doc/" TargetMode="Externa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Arial"/>
              </a:rPr>
              <a:t>Effects of Herbicides on Raddish Plant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9528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lison Paige Pro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ndergraduate Student (Biology, Pre-Pharma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partment of 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ennessee Tech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okeville, TN 385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ject Summa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different concentrations of herbicides affect raddish plant grow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herbicides affect plant growth, when intended not only to kill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goal is to see how plants react when herbicides are ad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w raddish plants, prepare herbicide concentrations and apply to pla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expect that all the plants will be affected by the herbicides in some way, whether it is positive or negat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kgroun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ill different herbicides affect raddish grow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shes maturing times range from 20 to 60 days after planting. (McCourt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ve herbicide is the type of herbicide that will only kill a certain type of plant. (Anderson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bjective/ Hypothesi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objective is to see how plants will react once specific herbicides are added during germin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hypothesis is that at least one of the groups will have a hormetic or beneficial eff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null hypothesis is that none of the groups will have a beneficial eff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ethods and Materi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plant 2 raddish seeds in each pot for all 10 grou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apply various solution mixtures of the herbicide 2,4-D and water. </a:t>
            </a: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See Tabl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herbicide mixture is applied I water plants for 53 days and obser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growth has occurred in all plants, I measure the height (in cm) and weight (in gram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ly I record the res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pected Results and Benefi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nticipate that all plants will be affected by the herbicides. Some will experience termination and others may become successf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age of low enough herbicide concentration could greatly benefit the pl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ject Timelin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Tim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dge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Bud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20:49:56Z</dcterms:created>
  <dc:creator>Computer Center</dc:creator>
  <dc:description/>
  <dc:language>en-US</dc:language>
  <cp:lastModifiedBy>Computer Center</cp:lastModifiedBy>
  <dcterms:modified xsi:type="dcterms:W3CDTF">2006-10-11T19:07:14Z</dcterms:modified>
  <cp:revision>4</cp:revision>
  <dc:subject/>
  <dc:title>Effects of Herbicides on Raddish Plant Growth</dc:title>
</cp:coreProperties>
</file>