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F8AD4-66F4-4614-A2BD-9C4959216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DB08F-3ED4-4FA6-974A-971CE96FC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AF5F2-9B8F-4ED8-A8E3-0CAEC679C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EFB49-CFC4-4CA7-B2A4-2ABEB081D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99735-747D-40FF-966B-E52D2287A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6D535-6D3E-43A0-9FF7-1D9CE0327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FA32D-5BE3-4665-B205-18B40FB74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7E42C-371D-418F-9229-CFC65675E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873BF-72C1-4E70-AB94-81D434799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DA2E6-C088-49E8-B6AB-C61977260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2B7C5-79B4-45C7-AC4C-03652A2E6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57028-D9BA-4364-8E68-81F26115C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E458B-2B30-43C4-9B0E-D57A30DB6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1D3E8-97A6-4187-A3B1-C808B8214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488D0-CED5-4E41-BFB0-EE9A9FA01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CECAB-5181-426E-BD13-45E014988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0083D-DF4E-429D-A130-E9F372ED2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3E984F-3EA3-4D2D-835F-6AC5367E7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9EFA94-C439-423B-BB50-27331B2B6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AEE5DB-1DD8-4920-A6F3-4DF1F93FA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E9F350-DBD6-44B2-818E-756830FF2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C61C0F-C897-4226-81EC-30D5DD16E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45D94-C569-4AAF-8903-B56F76214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E32302-303C-4F8C-8FC5-80462AB33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DF61CE-5F2C-4F93-8C0E-0CD85569A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BF3FFD-68A1-43C9-9301-AA65EE500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151867-F230-45B0-864C-5ADA5887F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8F6DF7-EE94-4389-98A5-F81F84A0F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0F71BF-8105-4BE1-B1AC-E529D4B71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A2EEED-5D2B-4A33-A39C-384F49A9C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BDBE0-BEB4-47D5-BCA2-1827CF687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A31D4-7BB9-455E-BDF0-DD6E54694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ABAC9-87FE-45A4-8AC4-4879FC1A7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9F296-6406-4FE6-B5D2-478D23388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74A56-3F02-46AF-8CD4-C7E1FD0FE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37F06-B4B4-496C-9C63-3C228DF8B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5BEA0-A940-481E-8786-EC16A3932D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42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dt" idx="4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ftr" idx="5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C1E6E-C156-4F82-A891-61F88D2D049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92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ftr" idx="8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sldNum" idx="9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F12CD-4132-4A14-B0F3-D57843BB0AC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981080" y="990360"/>
            <a:ext cx="746784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Effects of Herbicides on </a:t>
            </a:r>
            <a:r>
              <a:rPr b="0" i="1" lang="en-US" sz="4400" spc="-1" strike="noStrike">
                <a:solidFill>
                  <a:srgbClr val="000066"/>
                </a:solidFill>
                <a:latin typeface="Arial"/>
              </a:rPr>
              <a:t>Raphanus sativus </a:t>
            </a: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Plant Grow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1295280" y="4876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Allison Paige Prov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Undergraduate Student (Biology, Pre-Pharmac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Department of Bi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Tennessee Tech Univers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Cookeville, TN 385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Result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 I had expected some of the plants did show some beneficial effects with the addition of 2,4-D herbicide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roup #2 (3.1 ppm herbicide) grew to average height of 4.18cm, while the controlled group only grew to 3.75cm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roup #3 (4.7 ppm herbicide) weighed in at 1.9 grams and the controlled group weighed only 1.6 gram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Tables and Graph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1600200" y="1568520"/>
            <a:ext cx="6477120" cy="48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Tables and Graph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1676520" y="1625760"/>
            <a:ext cx="6629400" cy="49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385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Discussion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fter performing this experiment, I confirmed Winder’s statement that the herbicide 2,4-D is indeed a selective herbicid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ddish plants must inherit some herbicide tolerance and resistance, because the harmful effects were limited in this case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remark from Pryor supported my hypothesis, that at least one of the radish plant groups would have a beneficial effect from the herbicide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onclusion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37720" y="152388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 concluded that with the addition of certain herbicide concentrations, radish plants can have a hormetic or beneficial growth effect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results indicated that the plants in Group #2 (3.1ppm) and Group #3 (4.7 ppm) had significantly more growth over the controlled group in height and weight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efore, the hypothesis that at least one group would have a hormetic effect, was proven true and the experiment rejected the null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385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Introduction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rbicides are defined as any chemical substance that is used to destroy or inhibit the growth of plants, mostly weed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y can be divided into two different categories; selective and non-selective herbicides (McCourt 2005)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,4 dichlorophenoxyacetic acid or 2,4-D is a common selective herbicide that is toxic to plants, but less harmless to grasses (Winder 2006)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Introduction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37720" y="2514600"/>
            <a:ext cx="76201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reason some plants are able to overcome elimination by inheriting herbicide tolerance or resistance, which is the ability of a species to survive following a herbicide treatment (Ward 2006)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wild radish population is phenoxy herbicide resistant (Pryor 2002). Meaning, it can survive the toxins of the herbicide 2,4-D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5486400" y="228600"/>
            <a:ext cx="2743200" cy="20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385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Objective/ Hypothesi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y objective was to see how plants will react once specific herbicides are added during germina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y hypothesis is that at least one of the radish plant groups will have a hormetic effec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y null hypothesis is that none of the groups will have a beneficial effec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385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Methods and Material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leven cups prepared for planting; each cup had the same amount of potting soil and radish seeds added to i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cording to Manuja (2005), packing the soil down onto the seed could cause problems in the sprouting proces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ants were watered consistently, until germination occurr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Methods and Material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,4-D herbicide concentrations were prepared with appropriate mix of clean, diluted water and the herbicid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mixtures were then applied to the specific plant groups (Exp: herbicide mixture 1 only for plant cup #1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ant cup #11 was the control group, and it was given no herbicidal concentrations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Methods and Material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228600" y="2286000"/>
            <a:ext cx="2521080" cy="358128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2895480" y="1539000"/>
            <a:ext cx="5029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Table 1.0- 2,4-D Herbicide Solution Mixtu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3124080" y="1981080"/>
          <a:ext cx="5028840" cy="4419720"/>
        </p:xfrm>
        <a:graphic>
          <a:graphicData uri="http://schemas.openxmlformats.org/drawingml/2006/table">
            <a:tbl>
              <a:tblPr/>
              <a:tblGrid>
                <a:gridCol w="1707840"/>
                <a:gridCol w="3321000"/>
              </a:tblGrid>
              <a:tr h="40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olution #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%= 1.6 ppm 2,4-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olution #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%= 3.1 ppm 2,4-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olution #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0%= 4.7 ppm 2,4-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olution #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0%= 6.2 ppm 2,4-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olution #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0%= 7.8 ppm 2,4-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olution #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0%= 9.4 ppm 2,4-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olution #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0%= 10.9 ppm 2,4-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2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olution #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0%= 12.5 ppm 2,4-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olution #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0%= 14.0 ppm 2,4-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olution #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0%= 15.6 ppm 2,4-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olution #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o herbicide add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Methods and Material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ver the next six weeks, the plants were watered and observ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fter the growth had occurred in all the plants, the height and weight was measured for each plant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recovered data from this experiment was then recorded, and determined that the hypothesis was accepted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Methods and Material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609480" y="2666880"/>
            <a:ext cx="3927600" cy="294480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4952880" y="2666880"/>
            <a:ext cx="3911760" cy="293400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838080" y="190512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lant Group #2- 3.1p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76920" y="2286000"/>
            <a:ext cx="3733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876920" y="1828800"/>
            <a:ext cx="3733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rolled Plant Group-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herbic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7T20:49:56Z</dcterms:created>
  <dc:creator>Computer Center</dc:creator>
  <dc:description/>
  <dc:language>en-US</dc:language>
  <cp:lastModifiedBy>Computer Center</cp:lastModifiedBy>
  <dcterms:modified xsi:type="dcterms:W3CDTF">2006-12-06T21:08:27Z</dcterms:modified>
  <cp:revision>10</cp:revision>
  <dc:subject/>
  <dc:title>Effects of Herbicides on Raddish Plant Growth</dc:title>
</cp:coreProperties>
</file>