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42C-E308-4E85-B3F2-89ACC607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34B-9129-4E48-8CE5-135F377D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180-15ED-4956-B9BE-CEEE5596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01A-66FE-4C89-8C00-3DD2E7C5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3243-28F1-44DC-AA4D-5A254BAF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AABE-4330-4BF8-9BE3-91FDFADA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1245-B100-462E-A0E9-FEBEB4BB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93E5-AA6B-44EE-9948-B381FEFF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1435-977A-4DB6-BEB3-66DE68F0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0D30-8C80-4DB1-88A4-1813BC14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0B1C-BF06-4929-A6DE-81CC3D16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12C4-638F-498B-8D5C-D8174216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503B-329C-4703-9916-69B2F152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66A4-853D-4BBF-810F-0EBD6A68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5A86-5523-42AD-A731-3B76A3E2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2634-8CD5-4FAF-B936-A57B05CA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1C05-A0CC-463D-9224-59C83275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20EE-D407-45B2-9CEE-911CCAB4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D8A-784C-4830-8A70-DCBD4E6F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AF3-9AC9-4CAF-8328-A4DB9393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A5B-058F-4BDC-AFA5-28D05D78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AE4-41AD-4633-8D05-9AF62C85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D6E-413D-4D63-9550-9B2984C8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0414-4330-46DC-A7B6-96E2E925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E073-D426-4E56-9039-C452F204209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063F-59A8-411B-849A-94914794771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 rot="306000">
            <a:off x="1447560" y="2971440"/>
            <a:ext cx="568152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e1f08"/>
                </a:solidFill>
                <a:latin typeface="Arial Black"/>
              </a:rPr>
              <a:t>click here to go back to first im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e1f08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olksoft</cp:lastModifiedBy>
  <dcterms:modified xsi:type="dcterms:W3CDTF">2007-02-25T07:53:0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